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60488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5"/>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323820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601956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5684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6"/>
          <p:cNvSpPr>
            <a:spLocks noGrp="1"/>
          </p:cNvSpPr>
          <p:nvPr>
            <p:ph/>
          </p:nvPr>
        </p:nvSpPr>
        <p:spPr>
          <a:xfrm>
            <a:off x="323820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7"/>
          <p:cNvSpPr>
            <a:spLocks noGrp="1"/>
          </p:cNvSpPr>
          <p:nvPr>
            <p:ph/>
          </p:nvPr>
        </p:nvSpPr>
        <p:spPr>
          <a:xfrm>
            <a:off x="601956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252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24080" y="6356520"/>
            <a:ext cx="289404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457200" y="274680"/>
            <a:ext cx="82296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Calibri"/>
              </a:rPr>
              <a:t>Proposed Charter</a:t>
            </a:r>
            <a:endParaRPr b="0" lang="en-US" sz="4400" spc="-1" strike="noStrike">
              <a:solidFill>
                <a:srgbClr val="000000"/>
              </a:solidFill>
              <a:latin typeface="Arial"/>
            </a:endParaRPr>
          </a:p>
        </p:txBody>
      </p:sp>
      <p:sp>
        <p:nvSpPr>
          <p:cNvPr id="40" name=""/>
          <p:cNvSpPr/>
          <p:nvPr/>
        </p:nvSpPr>
        <p:spPr>
          <a:xfrm>
            <a:off x="787320" y="1609560"/>
            <a:ext cx="7510680" cy="47563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The task of the MULTRANS Working Group is to devise the means whereby existing multicast mechanisms can operate successfully  when signalling and content have to traverse one or more IP version boundaries.</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Goals</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1. The Working Group's first task is to develop a problem statement that identifies the scope of the problem of multicast operation during the transition from IPv4 to IPv6. The problem statement will identify:</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     </a:t>
            </a:r>
            <a:r>
              <a:rPr b="0" lang="en-CA" sz="2000" spc="-1" strike="noStrike">
                <a:solidFill>
                  <a:srgbClr val="000000"/>
                </a:solidFill>
                <a:latin typeface="Calibri"/>
              </a:rPr>
              <a:t>-- requirements that must be satisfied by the mechanisms</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        </a:t>
            </a:r>
            <a:r>
              <a:rPr b="0" lang="en-CA" sz="2000" spc="-1" strike="noStrike">
                <a:solidFill>
                  <a:srgbClr val="000000"/>
                </a:solidFill>
                <a:latin typeface="Calibri"/>
              </a:rPr>
              <a:t>for multicast transition;</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     </a:t>
            </a:r>
            <a:r>
              <a:rPr b="0" lang="en-CA" sz="2000" spc="-1" strike="noStrike">
                <a:solidFill>
                  <a:srgbClr val="000000"/>
                </a:solidFill>
                <a:latin typeface="Calibri"/>
              </a:rPr>
              <a:t>-- use cases that must be considered, ranked by priority;</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     </a:t>
            </a:r>
            <a:r>
              <a:rPr b="0" lang="en-CA" sz="2000" spc="-1" strike="noStrike">
                <a:solidFill>
                  <a:srgbClr val="000000"/>
                </a:solidFill>
                <a:latin typeface="Calibri"/>
              </a:rPr>
              <a:t>-- design considerations that should be taken into account</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         </a:t>
            </a:r>
            <a:r>
              <a:rPr b="0" lang="en-CA" sz="2000" spc="-1" strike="noStrike">
                <a:solidFill>
                  <a:srgbClr val="000000"/>
                </a:solidFill>
                <a:latin typeface="Calibri"/>
              </a:rPr>
              <a:t>in subsequent work.</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74680"/>
            <a:ext cx="82296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Calibri"/>
              </a:rPr>
              <a:t>Proposed Charter</a:t>
            </a:r>
            <a:endParaRPr b="0" lang="en-US" sz="4400" spc="-1" strike="noStrike">
              <a:solidFill>
                <a:srgbClr val="000000"/>
              </a:solidFill>
              <a:latin typeface="Arial"/>
            </a:endParaRPr>
          </a:p>
        </p:txBody>
      </p:sp>
      <p:sp>
        <p:nvSpPr>
          <p:cNvPr id="42" name=""/>
          <p:cNvSpPr/>
          <p:nvPr/>
        </p:nvSpPr>
        <p:spPr>
          <a:xfrm>
            <a:off x="853920" y="1488960"/>
            <a:ext cx="7367760" cy="4133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Goals (cont'd)</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2. The Working Group will create a multicast transition architecture document that identifies the additional functions required to support multicast transition, validates this selection of functions against the </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highest-priority use cases identified by the problem statement, and identifies operational, management, and security considerations specific to multicast transition.</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3. The Working Group will create applicability statements describing the integration of the multicast transition architecture with the architectures of selected unicast transition mechanisms such as DS-Lite and 6rd.</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274680"/>
            <a:ext cx="82296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Calibri"/>
              </a:rPr>
              <a:t>Proposed Charter (cont'd)</a:t>
            </a:r>
            <a:endParaRPr b="0" lang="en-US" sz="4400" spc="-1" strike="noStrike">
              <a:solidFill>
                <a:srgbClr val="000000"/>
              </a:solidFill>
              <a:latin typeface="Arial"/>
            </a:endParaRPr>
          </a:p>
        </p:txBody>
      </p:sp>
      <p:sp>
        <p:nvSpPr>
          <p:cNvPr id="44" name=""/>
          <p:cNvSpPr/>
          <p:nvPr/>
        </p:nvSpPr>
        <p:spPr>
          <a:xfrm>
            <a:off x="887400" y="1663560"/>
            <a:ext cx="7707240" cy="35118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Goals (cont'd)</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Once the highest-priority use cases have been dealt with, the Working Group may recharter to take on work of lower initial priority that nevertheless will eventually be required.</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The MULTRANS Working Group may recharter to undertake work on new protocols or extensions to existing protocols for which requirements have been identified in the architecture document or the applicability statements, if no other suitable Working Group exists to take on this work.</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22320"/>
            <a:ext cx="82296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Calibri"/>
              </a:rPr>
              <a:t>Proposed Charter (cont'd)</a:t>
            </a:r>
            <a:endParaRPr b="0" lang="en-US" sz="4400" spc="-1" strike="noStrike">
              <a:solidFill>
                <a:srgbClr val="000000"/>
              </a:solidFill>
              <a:latin typeface="Arial"/>
            </a:endParaRPr>
          </a:p>
        </p:txBody>
      </p:sp>
      <p:sp>
        <p:nvSpPr>
          <p:cNvPr id="46" name=""/>
          <p:cNvSpPr/>
          <p:nvPr/>
        </p:nvSpPr>
        <p:spPr>
          <a:xfrm>
            <a:off x="744480" y="1069920"/>
            <a:ext cx="7664400" cy="53784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Non-Goals</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MULTRANS will not carry out any work on extensions to or the interworking of multicast signalling protocols (IGMP, MLD, PIM). Instead, requirements for such work will be passed to the appropriate Working Group.</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Milestones</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Sep 2011 – identification of a candidate for the problem statement draft</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Oct 2011 – identification of a candidate for the architecture draft</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Dec 2011 – agreement on which applicability statements to undertake and agreement on the associated milestones</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Mar 2012 – submission of the problem statement draft to the IESG for publication as an Informational RFC</a:t>
            </a:r>
            <a:endParaRPr b="0" lang="en-US" sz="2000" spc="-1" strike="noStrike">
              <a:solidFill>
                <a:srgbClr val="000000"/>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000" spc="-1" strike="noStrike">
                <a:solidFill>
                  <a:srgbClr val="000000"/>
                </a:solidFill>
                <a:latin typeface="Calibri"/>
              </a:rPr>
              <a:t>May 2012 – submission of the architecture draft to the IESG for publication as an Informational RFC</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