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71041-5052-46FC-86BD-B4416CBE8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D22D5-7662-427B-B572-52404AEE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17B747-7581-41D9-AEF5-1742993CD4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2C67F8-41A8-4606-8469-D7491394CD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0500BB-FD5B-4636-9485-614AF0AD01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C3F969-2485-4EE5-93D5-2EA4D7C69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7EA92-1F9A-498B-B6FE-DBFD5ACA71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C7340-AE93-4289-BB7F-C658E129E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2AA10F-2F40-4F8C-A692-8FA95AB1AE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3F23FB-6494-43B1-B4A7-544CB0C2BA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108970-B590-4AE5-81A4-909D5221E3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F657BB-9EC8-4C6C-9B52-9786D172E3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AFEA7-8F14-41D7-BDF9-B0D7CA736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0C93C9-5FE6-4B08-9D99-126B35611E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CBD1BC-6FF5-4147-A2F9-6A51990DB0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83C34D-E4C0-4232-A7D8-4942EE9235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4046B9-0936-4767-BB0E-9F84946450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3C0850-3BAC-4D35-9E0B-C8D3211CB1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49E2EF-EDD0-44C4-9814-3B7D506570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3AAFE8-95AD-485E-895D-97FB4E42D2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5D30CC-C967-4CAC-8645-5E115E1D58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934A0B-7DF9-440B-95FF-D06BE00D0B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65FB7C-E61D-4648-AD7F-73E472D843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86FDC-6AA5-4E55-A589-1B2C73C4E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2791BE-5E00-488D-81A0-ED313EDE3F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C8DAD7-4ABF-4EC2-BC22-5E8C3D68E8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EDF68C-9720-41FB-BD46-2390B75E6A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59DE26-901F-4A56-BF06-09BD10C417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E200D6-BE20-4418-8A01-6FEA57EB50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51B57E-9F23-480C-A725-B4A3C6D96C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67BC46-00A8-44CD-A50D-400E12D701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4194E0-0DC7-406F-856B-CC374CADA8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D5D10C-4291-4C21-B183-D58C875819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9D7396-CA31-490E-8AF2-589195D0E5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5772F-FD24-4D04-9CF6-7C2F42D25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78D2C2-73BC-4E27-AB85-CDE19B1103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C4E68E-1174-433E-B28A-6F39FE2C3F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80BA63-FA86-43CF-B199-442FBAEBDB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D5B7D3-23A5-442E-8381-55D9F8914C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4176A3-796E-4AF1-BAB6-623812E9CE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CEAA56-E133-4891-BF86-E8A39F9394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C54908-2A89-46CE-B99C-D24AE568D3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3BAEAC-47D8-416B-8642-1E725F93A2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9B9649-4A3C-469E-B847-72093029DC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D95181-DE07-445A-83A9-A601DA4DD8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E466D-1E40-49E2-B568-A7988A69D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240B7F-2CF1-4520-9F70-1967DC15DF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EF8B6D-4CD2-487B-9FAE-94188590A3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B373B9-E62D-4C91-AB92-14368DD19D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3E28548-57DC-4A5A-B7E9-EC12E31914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CEE49C-E4C1-49A5-8360-E071FE8BCA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6A898-A4DE-4349-88DE-9B35D957A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26AB3-E1D4-4B48-84C1-14F64399C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0C094-AE29-4614-9018-FC8A61018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00F6C-A860-4E95-96E1-7E7E274FB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89302-0259-4B08-8831-4FA1629EF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30F39-F150-44A9-8676-0314F649B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57FA0-735E-44FF-B3F7-C98B38F6D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56255-554E-43E7-B16E-7D6BBAB50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3C20D-F0B9-4DF6-8FDF-26CE8161A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5C7B0-9975-42EF-874E-CD3B3108B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77EFC-FFD0-4E2F-84D3-86493B4F0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4E19E-6CAE-4B4F-A9CB-4BE9AE5F98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38A59-56E1-4CAA-8149-9DDFAA3D9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157C9-1E40-4F6B-89DD-287D35A0C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D8123-87ED-48EA-9A45-B1D49C2DD1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29B870-93DD-4D8D-B7BA-0B7220165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72FA2-3E47-43F2-AD66-D499B44AC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B01D6-B38E-43D6-ADCF-C753FEFD0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4D0C3-D65B-474C-ACBC-D76CCF2F8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905CF-3AB2-496E-A6EF-47574ADF1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93071-5F4A-4C32-AA1F-11A16BC0C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893C1-4BB2-4ADE-8413-572D5DD39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C081D3-6A86-49D8-8EE3-3D05AB29B6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A1727B-5755-4E26-8B11-4E75FC8CEE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D140DA-7ECD-4DE0-A8D2-FC8BB74262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06EE4-B33F-4922-88D1-161873802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380A7D-97D4-48F4-BFC0-4F4CC33CF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47BA1-B8F8-4AC6-B8AD-CEC5501C4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8F236-A125-4C4C-9437-08F58740D2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1E5A5-E4B9-446B-9D95-101F739B1D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D05D4-4AC9-4BAF-B7C5-493E819E2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1FB65-3445-4AD8-8354-0561A2151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1D3A82-135B-48E8-A3CE-51CB7F0FA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9A71C-00F7-4529-9487-AAF29D54A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005A30-5862-4AEF-8493-CE074AD4E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3A6E4A-334F-4FA7-829B-7DC101E8BF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C44D5D-6FD4-4C40-914B-15C9898ED3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340B71-0075-45A1-BD78-7DA7717929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AA0C7-07E7-4692-BC67-BAA0CC0D5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77ED2D-69E7-4B1A-A802-48F9C8217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DE22D-ADC0-43E8-85C4-945706408B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01B39-7DED-4306-89E6-A7EE1EE5B3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505FDA-F650-47F9-BAF3-E77F417F9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90E08-C414-4B55-B06A-2CD219C7D2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99C1C-9162-4350-9051-99400B146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43FCC-09BD-478B-98C9-267F46E3A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77941-B4E9-496E-BC31-2E10FF2A8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E2BE81-82B9-4508-9191-811E7FE337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7B6562-8488-415B-80D6-8CE81B1BC1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131B1-0D84-480D-8D1A-56B56423B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DBEC7F-9E3A-41D2-A555-17340CAF9F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D66346-E766-4056-A0A9-25E4BCB68F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F7F827-A0C2-4025-8726-AE49EC3FEC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3C4481-3C28-4288-97B0-643A50407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2ADA54-AF82-451D-AF5B-6759831650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85720D-F63A-492E-844A-6FAD4EB926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D8C41D-101E-4F3A-9236-F68E4E2219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6D874-0F8F-44E9-83C3-9CE44E9812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04169-9793-4034-81FE-52F47E86C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D0782F-1DA7-4587-8492-5D70B81A0F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359D-F120-4142-B714-C556D22D8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E90C7-C15E-4503-8D6B-94F1B12194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8CEB4D-969F-4369-AC8D-98F1D33D97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2E0F54-81C3-42A6-857B-F39C01670E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BA7CAC-0813-4F22-A44A-FD5D354D04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8516DE-B5EF-4581-AA24-60A3C241E1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B503F-8957-4882-9C28-492190D42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D19AD2-9D97-4B4A-9359-116EB0ABC5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944DBE-3AEF-4368-B9EF-E0B426558C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717038-C6EA-4AEF-ACA4-4CCC5F9DE6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07AFFE-E353-4AA9-9530-763B9E1B6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ECC1-A029-433C-97DA-73E86D92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0FA4E-F84E-4239-B009-431F095FA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E84941-EB9D-4E0D-BF16-AFF91BF9E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6EB660-208C-48A8-BCB1-BD324D1DDD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2C6ACB-D636-49CE-8F0D-3A431844E8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EE716C-2638-4177-94CE-733DAF6A47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E95898-D438-49BD-8BF1-E230E4B691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3D8FA1-398C-4FFB-9E24-1326E82294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22C093-4FED-410D-A923-76A60CCEB0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11A14B-1408-4A5C-9BF2-A094142286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9DAD45-9E57-4988-A798-368408998A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594FA-7ADF-4065-9354-6A7844EA3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026134-3647-4E0A-B840-BEA2D2F31C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FAE26-6A60-4C46-B47E-27031FF9E7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704552-375C-4F2B-82AB-A80BF5318B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801CD3-B383-4B1B-9BC6-74188A3381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06D0FE-B701-42F3-B43F-4F2E836609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C47E9B-1441-4BF3-BBD7-916D089AEB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CEC70A-EC4B-4426-9DCF-569FAE558E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E8AC7C-F2DC-4501-803D-C75FF39BEC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4F5515-0DCE-4304-BE44-09ECCD12E2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86094A-3BA6-4E94-9C30-8DE7609C75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F82DF-6D25-47D0-B4C6-28524CB277B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1FDB6-C2A2-4495-8F10-1D5911B07F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1A92A-B824-4DAC-9770-0BF7EDADEB5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B03D3-4EC0-48F1-AAD9-C28B973112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7DBE2-6B1D-4576-9AF3-3B3BB355E3E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15EAB-0FFD-470E-8D8D-CC6CFE639D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CC57D-840F-4A08-B6C8-68FFB8D719A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55F39-4AD7-46B4-87E6-68F1D6624B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F2E35-27B6-4AA4-B551-D435D44F533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4170D-789C-495D-8801-FE329B7E8D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A5EB1-BF76-4D74-9ED0-1B8F212D46F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6140B-4EE6-4383-B80A-2C86C921FF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64A81-F64A-4155-A856-9BED7C1C25D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C2823-F4B0-4ABD-9A8C-E2FC25D023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70760-181A-4C5D-8949-EDFCAC00709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6D947-AF96-4AAA-A74C-F809711DCB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B3AE2-8F55-435B-BA78-A8E1C7A507A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CD4F3-8987-4717-B0F1-82CB99C0EF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FAFB5-9D44-4E42-A221-1B488A4B3769}"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F55B7-9550-4C9C-B975-439C51014E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85ADF-A00E-4BB2-9524-2E9A5B58083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B49EF-86A5-407E-A31C-B34F22484F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0BAA3-6475-4F2D-9E1F-86A03D881CA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5B552-75B6-42B5-9747-BCC0CAB36D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tools.ietf.org/html?draft=draft-bierman-netmod-system-mgmt-00" TargetMode="External"/><Relationship Id="rId2" Type="http://schemas.openxmlformats.org/officeDocument/2006/relationships/hyperlink" Target="http://tools.ietf.org/html?draft=draft-ietf-netmod-interfaces-cfg-01"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16676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TMOD</a:t>
            </a:r>
            <a:br>
              <a:rPr sz="4400"/>
            </a:br>
            <a:r>
              <a:rPr b="0" lang="en-US" sz="4400" spc="-1" strike="noStrike">
                <a:solidFill>
                  <a:srgbClr val="000000"/>
                </a:solidFill>
                <a:latin typeface="Calibri"/>
              </a:rPr>
              <a:t>Agenda and WG Status</a:t>
            </a:r>
            <a:endParaRPr b="0" lang="en-US" sz="4400" spc="-1" strike="noStrike">
              <a:solidFill>
                <a:srgbClr val="000000"/>
              </a:solidFill>
              <a:latin typeface="Calibri"/>
            </a:endParaRPr>
          </a:p>
        </p:txBody>
      </p:sp>
      <p:sp>
        <p:nvSpPr>
          <p:cNvPr id="493" name="PlaceHolder 2"/>
          <p:cNvSpPr>
            <a:spLocks noGrp="1"/>
          </p:cNvSpPr>
          <p:nvPr>
            <p:ph type="subTitle"/>
          </p:nvPr>
        </p:nvSpPr>
        <p:spPr>
          <a:xfrm>
            <a:off x="1023480" y="3240000"/>
            <a:ext cx="7256520" cy="221616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 Kessens</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kessens@nsn.com</a:t>
            </a:r>
            <a:br>
              <a:rPr sz="3000"/>
            </a:br>
            <a:br>
              <a:rPr sz="3000"/>
            </a:br>
            <a:r>
              <a:rPr b="0" lang="en-US" sz="3000" spc="-1" strike="noStrike">
                <a:solidFill>
                  <a:srgbClr val="898989"/>
                </a:solidFill>
                <a:latin typeface="Calibri"/>
              </a:rPr>
              <a:t>Jürgen Schönwälder</a:t>
            </a:r>
            <a:br>
              <a:rPr sz="3000"/>
            </a:br>
            <a:r>
              <a:rPr b="0" lang="en-US" sz="3000" spc="-1" strike="noStrike">
                <a:solidFill>
                  <a:srgbClr val="898989"/>
                </a:solidFill>
                <a:latin typeface="Calibri"/>
              </a:rPr>
              <a:t>j.schoenwaelder@jacobs-university.de</a:t>
            </a:r>
            <a:endParaRPr b="0" lang="en-US" sz="3000" spc="-1" strike="noStrike">
              <a:solidFill>
                <a:srgbClr val="000000"/>
              </a:solidFill>
              <a:latin typeface="Calibri"/>
            </a:endParaRPr>
          </a:p>
        </p:txBody>
      </p:sp>
      <p:sp>
        <p:nvSpPr>
          <p:cNvPr id="4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4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7A04E-51E4-4CEE-BCDF-5E6B51A610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4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4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65860-C8BB-4C9A-94CA-E67C870261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Text Box 3"/>
          <p:cNvSpPr/>
          <p:nvPr/>
        </p:nvSpPr>
        <p:spPr>
          <a:xfrm>
            <a:off x="228600" y="1371600"/>
            <a:ext cx="8766000" cy="4956120"/>
          </a:xfrm>
          <a:prstGeom prst="rect">
            <a:avLst/>
          </a:prstGeom>
          <a:noFill/>
          <a:ln w="0">
            <a:noFill/>
          </a:ln>
        </p:spPr>
        <p:style>
          <a:lnRef idx="0"/>
          <a:fillRef idx="0"/>
          <a:effectRef idx="0"/>
          <a:fontRef idx="minor"/>
        </p:style>
        <p:txBody>
          <a:bodyPr lIns="95040" rIns="95040" tIns="46800" bIns="46800" anchor="t">
            <a:noAutofit/>
          </a:bodyPr>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TF plenary sess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working group or portion thereo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SG or any member thereof on behalf of the IESG,</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AB or any member thereof on behalf of the IAB,</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mailing list, including the IETF list itsel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working group or design team list, or any other list</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functioning under IETF auspice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RFC Editor or the Internet-Drafts funct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1300" spc="-1" strike="noStrike">
                <a:solidFill>
                  <a:srgbClr val="000000"/>
                </a:solidFill>
                <a:latin typeface="Lucida Grande"/>
              </a:rPr>
              <a:t>All IETF Contributions are subject to the rules of RFC 3978 (updated by RFC 4748) and RFC 3979(updated by RFC 4879).</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Statements made outside of an IETF session, mailing list or other function, that are clearly not intended to be input to an IETF activity, group or function, are not IETF Contributions in the context of this notice.</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Please consult RFC 3978 (and RFC 4748) for detail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is deemed to accept all IETF rules of process, as documented in Best Current Practices RFCs and IESG Statement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acknowledges that written, audio and video records of meetings may be made and may be available to the public.</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03" name=""/>
          <p:cNvSpPr txBox="1"/>
          <p:nvPr/>
        </p:nvSpPr>
        <p:spPr>
          <a:xfrm>
            <a:off x="457200" y="1257120"/>
            <a:ext cx="8229600" cy="5273640"/>
          </a:xfrm>
          <a:prstGeom prst="rect">
            <a:avLst/>
          </a:prstGeom>
          <a:noFill/>
          <a:ln w="0">
            <a:noFill/>
          </a:ln>
        </p:spPr>
        <p:txBody>
          <a:bodyPr anchor="t">
            <a:normAutofit/>
          </a:bodyPr>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Administrivia and WG Status</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5 min]</a:t>
            </a:r>
            <a:endParaRPr b="0" lang="en-US" sz="25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system data model (Andy)</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u="sng">
                <a:solidFill>
                  <a:srgbClr val="0000ff"/>
                </a:solidFill>
                <a:uFillTx/>
                <a:latin typeface="Calibri"/>
                <a:hlinkClick r:id="rId1"/>
              </a:rPr>
              <a:t>draft-bierman-netmod-system-mgmt-00</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interface data model (Martin)</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3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u="sng">
                <a:solidFill>
                  <a:srgbClr val="0000ff"/>
                </a:solidFill>
                <a:uFillTx/>
                <a:latin typeface="Calibri"/>
                <a:hlinkClick r:id="rId2"/>
              </a:rPr>
              <a:t>draft-ietf-netmod-interfaces-cfg-01</a:t>
            </a:r>
            <a:endParaRPr b="0" lang="en-US" sz="22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iana-if-type-00</a:t>
            </a:r>
            <a:endParaRPr b="0" lang="en-US" sz="22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jorklund-netmod-ip-cfg-00</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routing data model (Ladislav)</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3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routing-cfg-00</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MIv2 to YANG translation (Juergen)</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5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smi-yan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Related work (Martin)</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15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jorklund-netmod-snmp-cf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Open mike</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10 min]</a:t>
            </a:r>
            <a:endParaRPr b="0" lang="en-US" sz="2500" spc="-1" strike="noStrike">
              <a:solidFill>
                <a:srgbClr val="000000"/>
              </a:solidFill>
              <a:latin typeface="Calibri"/>
            </a:endParaRPr>
          </a:p>
        </p:txBody>
      </p:sp>
      <p:sp>
        <p:nvSpPr>
          <p:cNvPr id="5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5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75F7D-1D07-46FE-87FC-AA3FD010AB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Document Status</a:t>
            </a:r>
            <a:endParaRPr b="0" lang="en-US" sz="4400" spc="-1" strike="noStrike">
              <a:solidFill>
                <a:srgbClr val="000000"/>
              </a:solidFill>
              <a:latin typeface="Calibri"/>
            </a:endParaRPr>
          </a:p>
        </p:txBody>
      </p:sp>
      <p:sp>
        <p:nvSpPr>
          <p:cNvPr id="5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eviously chartered working group item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20 (draft-ietf-netmod-ya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21 (draft-ietf-netmod-yang-type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110 (draft-ietf-netmod-dsdl-ma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87 (draft-ietf-netmod-yang-us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4 (draft-ietf-netmod-arch)</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new)</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urrently chartered working group item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ystem data 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oposal avail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faces data 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WG document avail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uting data 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WG document avail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MIv2 translation to YANG</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WG last call)</a:t>
            </a:r>
            <a:endParaRPr b="0" lang="en-US" sz="2400" spc="-1" strike="noStrike">
              <a:solidFill>
                <a:srgbClr val="000000"/>
              </a:solidFill>
              <a:latin typeface="Calibri"/>
            </a:endParaRPr>
          </a:p>
        </p:txBody>
      </p:sp>
      <p:sp>
        <p:nvSpPr>
          <p:cNvPr id="5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5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47676-906B-4AC4-BE28-4C7D9B16C6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n-WG Documents using YANG</a:t>
            </a:r>
            <a:endParaRPr b="0" lang="en-US" sz="4400" spc="-1" strike="noStrike">
              <a:solidFill>
                <a:srgbClr val="000000"/>
              </a:solidFill>
              <a:latin typeface="Calibri"/>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FC docu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6241 (draft-ietf-netconf-4741b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6022 (draft-ietf-netconf-monito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5717 (draft-ietf-netconf-partial-lo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6243 (draft-ietf-netconf-with-defa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6095 (draft-linowski-netmod-yang-abstra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aft-ietf-ipfix-configuration-model</a:t>
            </a:r>
            <a:r>
              <a:rPr b="0" lang="en-US" sz="2800" spc="-1" strike="noStrike">
                <a:solidFill>
                  <a:srgbClr val="000000"/>
                </a:solidFill>
                <a:latin typeface="Calibri"/>
              </a:rPr>
              <a:t>	</a:t>
            </a:r>
            <a:r>
              <a:rPr b="0" lang="en-US" sz="2800" spc="-1" strike="noStrike">
                <a:solidFill>
                  <a:srgbClr val="000000"/>
                </a:solidFill>
                <a:latin typeface="Calibri"/>
              </a:rPr>
              <a:t>(RFC 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5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5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85491-CC0E-4D80-B25F-D79FEC3130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 WG Milestones</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c 2010 - Submit first working group draft of System data model draf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1 - Submit SMIv2 to YANG translation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1 - Submit System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Jul 2011  **** IETF 81 Quebec C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1 - Submit Interface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1 - Submit Routing data model to the IESG</a:t>
            </a:r>
            <a:endParaRPr b="0" lang="en-US" sz="2000" spc="-1" strike="noStrike">
              <a:solidFill>
                <a:srgbClr val="000000"/>
              </a:solidFill>
              <a:latin typeface="Calibri"/>
            </a:endParaRPr>
          </a:p>
        </p:txBody>
      </p:sp>
      <p:sp>
        <p:nvSpPr>
          <p:cNvPr id="5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8A8A3-DC71-4CF4-B4E0-4F7C946265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09:53:49Z</dcterms:created>
  <dc:creator>Jürgen Schönwälder</dc:creator>
  <dc:description/>
  <dc:language>en-US</dc:language>
  <cp:lastModifiedBy>Jürgen Schönwälder</cp:lastModifiedBy>
  <dcterms:modified xsi:type="dcterms:W3CDTF">2011-07-15T10:05:07Z</dcterms:modified>
  <cp:revision>18</cp:revision>
  <dc:subject/>
  <dc:title>NETMOD Agenda</dc:title>
</cp:coreProperties>
</file>