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B4165-CD8F-4BE1-AA09-4BFD5AD56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793F2-405B-4819-955E-FFB90F6BD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260D88-E0C9-4842-92C7-439CAC7CC4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838534-A657-49C8-946F-C28DF09F3B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005CC6-7E1C-4162-86ED-5E77124CEE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56720A-22CB-41EB-8F4A-B49F924D53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E2E033-3567-464C-8338-3FFECB0FAB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391A8C-112D-40E3-A995-85996948E6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625050-9974-4F42-AFF7-DDA2C8F7D5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A612F0-E9B8-4658-9749-879056F788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6AA2EC-30ED-4B0F-A946-85C22ABFBC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E6EF8E-29C7-4902-9304-59A263E282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EFB1E-233C-495B-B6E3-67F6120E1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528F61-1F98-41B6-83F5-D546038911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B8CC26-3F86-4BE7-A176-7B66CF5B92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E1BE5E-BE19-4E96-8917-BD05959A04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3FB4A9-B941-4AC5-A922-C0C087EEC9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21EAF9-1CD5-4B69-97C1-E882B39C15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E8A93F-15AA-460C-8BCC-A552623AB4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132F35-F003-46EB-9209-4ECA191307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F0E427-F4B3-4CBE-B882-28554180AD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B3FB71-D983-4F59-942E-78DC474616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62EE9E-1948-4591-BE5D-9687FFC9DEA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14665-410A-4FAE-BC6C-BB5B8A7C1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8F58908-6206-447D-8697-039ECF3D10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53058D5-4307-46FB-A75F-09F124D1754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663B7F-1DB2-4E9C-9F83-80438015D3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AA4912-E1F1-4172-8506-DE444447EE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633913-01E7-4A9C-B882-B00A25584A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0E11C4-38AD-453C-9470-56F2649AFB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F3E4CE-1AD3-492C-9EEA-6F4B5D9D9E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746687-C9B2-49DB-861D-88D32D9268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F28178-04A4-4132-8200-431F750287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2BE6A7-B21B-440E-A74B-82B1383FB0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D7099-6AC7-4EE5-9F9A-EB48B8B32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5C24D8-FFC8-43D0-AA57-5925C4D6D8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FB83A7-63E6-4DDC-839E-FEB7B6FCF6B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659D2D0-8ACB-4720-B1B4-600B08D1B07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03FA0C3-B4E7-45B6-B79E-215A90BDEAD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AE0F3D-EE1F-48AD-89C8-4682CEA28E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1784C3-80C5-4B2D-89D3-D9977E6163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13BB03-52EF-45A1-ADD8-9CC6AF2734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9DE5DF-BC86-444F-9840-B07CE1F08E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27D556-36C7-4D67-A324-8ADB9A4239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2A0003-E4C2-4EDB-80AF-83AEDBF0E2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8AB94-6475-4C20-AA3F-CD85226CB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6D360A-F8BB-452D-927E-1FCB0A372E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D22EB9-F0BE-4F5C-9BCA-2103D2BE71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B2FBB8-6A5E-4C59-BD4F-E158883F66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DEA8AF-A1EA-40AA-A67F-6B68A5878A2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907A19-B2CD-4CDE-A4AB-842C6ED4F4B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4B123-724E-4FA3-8759-DA371D73A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CC429-64AF-4902-B1A2-16234C251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A75C7-9ABF-4CCE-B3B3-3B097587B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B0F48-E56E-4D54-9344-9A5B17391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FC268-37E4-45B5-A097-D26366765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E42D5-90E0-40B3-B0AB-E99DBB48E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20BD0-2958-48A9-B2DF-C764FCE92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C4CF3-8BA5-4ECD-838B-9B21AAFEE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9D98D-DC36-4E47-9D38-EE6B76E2A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4C2FB-1C58-40B1-BC8D-4DCD7D1C6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41941-A2DC-4A4D-9B05-7D41E8416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3D4615-CA84-4C2E-BC51-077EA3FDD7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91AE53-85E1-48A8-AB97-632A3DFD51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54E9E6-F9F6-4FB1-B64C-C30F4572C4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643ECC-5BD8-4ABB-B4A3-FD3BB6C2ED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AB2657-2CF1-4EF2-93A7-188CC3A87B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22516-E8EE-4A66-B59F-C1E907B6A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5EFBB1-709B-4DE5-837D-2BF00F7BF5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F558C-EFA6-42DD-891C-3D9AB848A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2400B6-8657-4FAB-8BED-29B6B548F6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83840-7E3C-41CC-921B-620147E81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EBBD8-17A0-48A2-B7FA-9782D5617C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6CAD15-6419-419C-A8BD-3058EBA2FA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CA52BE-59F4-4DDD-A3DA-654FDBEC98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C841B5-F506-4359-AAD3-C4BE00EDD3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55EDC3-FDE0-43CD-8DB2-6719B94DB6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DFC590-4ECF-4670-B18E-56B9B3B93C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4C2CB-6F5C-48BD-886B-B2D2EA6D4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7FD27E-E621-4D1D-8AE2-6444C36781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21B556-A6C6-4871-A9E2-36F88E3F82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F418E7-99F1-4E43-B6C6-37F7422DF4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D0B71D-8327-403E-919E-7197CD4D7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790EE8-0E8C-4C24-9B5F-816124FD14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1962D-BC9A-4E8B-96A4-50F425A0E0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253BCD-EDCC-4674-8994-D1BBB487EF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2A81F2-90DD-4D29-BCCB-EDB2431D1C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10D9D6-0473-4B43-B874-AAB726AB25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A5F05A-3451-4547-A4E8-F87F69DDCF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FC5D5-433B-471F-A901-8AB68088F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C31562-8EB4-473C-BD47-F09F51013E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E65FBB-91F4-401F-AD01-34C69FBDFA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3F17AE-70B6-4E7B-9536-07004405B9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AACD95-D3F3-4A00-8CD9-0F411D1D30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0509A4-9BB6-40C5-A0D1-2E8AFFBC22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C349D5-29D0-44AD-89C9-099C22C1C5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9A46D6-ADE3-40CE-90C6-388195B031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3F83EC-9473-42F0-8073-A508BC82BE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16CC90-3AB2-4C7F-BAC4-E21BFB0369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229D6E-BA19-4B9D-974F-91A2298B15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4B85C-37A3-49A3-AFD3-EBB98F857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CCADD0-D4F8-41BE-A4B8-15D914DD3C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8BDF52-348B-45CF-99BF-7445385220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124CB7-D983-4946-996F-830ACD47D6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CA0A1E-F9A9-4DB6-8D97-603FAB8EB2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899677-3EAC-40D3-91B0-8A49032B69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88B470-B3CF-4923-893C-81157EF021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E087B8-903C-46AA-ACE9-667F09AD1E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A5C436-C468-449D-BEBB-4DF0EA9CBA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0C089B-E85E-4C42-8DD5-A4835083F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59827E-7382-4081-BA3F-15DA3E987A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4B12A-C9CD-43D9-82E4-DD06520AE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A06D7C-6550-4B3D-8877-7B2CBE81A3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E2B878-2357-41EC-82D1-840047EC4C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DBD4D7-A972-4378-A1E3-AD2AC3274E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C57747-0EE5-4C01-BFD5-7A4CD5D699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A0B56C-768B-401D-8D3E-E5497A3398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4B08E8-D9F1-4E6B-9CC6-114EA32BFA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E8CD04-353C-40DA-AFDB-2915A58C64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83EF98-531E-4BDA-B390-1ACFC4E9CF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385C6F-31EE-4766-9A07-C82D71A2CB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42FBB6-26B6-4DB8-B2A2-47A81FD26E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08BC2-D59F-4D56-913E-937426844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CC44C8-5956-4D77-BB1C-C91BDA556C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E2BB15-E5E3-498E-A380-53E2668AFB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A37383-57ED-412B-A06B-BAB553828E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6E2115-8CB9-4B41-839A-A76EA07980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198DD0-BA2D-4C6F-972D-564EDE6C4A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595740-4B04-4973-A547-CF40C295CC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6EEA76-BE4E-4B6D-AF99-9DF73FD310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289C64-53D5-463B-BC76-E0A8D11F0A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C46880-0697-4A34-8351-2B6F6CCEB1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543EFE-3DF0-470E-9BB8-4813B3E840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D0852-0206-4C14-947B-3BFCE66FA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5E9CAF-BB00-40CE-B808-23D2505A4E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40B352-9FC5-4F20-99F7-5FE06D7C6E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4505C-E6B8-44D1-9E16-9886B6D928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CF6F79-6C2D-4D77-BB7A-CB3F04BDA4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E22437-953B-4317-9A18-4F7D36406E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3C1BC3-F32E-4F21-A36A-3A973E787E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ED86CD-96C4-420D-BED3-E7FD5074AD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B32E25-F0BE-4B5B-92FB-13C781ABE8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08F670-DF43-4430-B5AB-4381E26372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56B9ED-D68D-4C35-9280-BF64018663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CAFDD-ABBE-496A-9561-F02AACF7594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1 - NETMOD W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EA981-33E5-4BD7-88F3-B46ADEAF54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228DBD-F3F9-4276-822C-7B5B91DDA83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6D78B-EA32-4CB6-A237-BFA67A12C3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F221EC-32BF-4274-9E4C-2C6E929A054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FEC62-6954-48E0-9802-40657A63CA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C6C464-7191-4470-853B-402FC06CE34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0F4C9-8158-4813-A8F4-FD2709F390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17AD67-5022-4308-9695-D871854FD95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9B51CF-EE71-433B-9ECD-7C1F022EBB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05397-768D-4204-9435-1CD651772EA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96BD5-5B1C-4605-812E-47D811104C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337EE-659D-40F6-822F-D45BB33764C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27F0FE-D2B8-4784-95D8-680C3C247C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D1D19-8B86-4379-A06A-09B0D8E17A9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455A1-0FA7-4CAB-A154-73EADF8E88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57D03-CB4B-4218-8810-528C70F2174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E5F5D-42E6-4A3A-80DF-BC29BB860C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916E7-090C-4EEA-9983-B38FC21F652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594CA-328F-4086-9FF1-A7B6581655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B5560-8A5B-473E-8CBA-B29E47F602C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3F380-CBD0-4E9F-9555-112D8A1A9D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DC608-E369-48A7-BB66-4BC7A94FF92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9883A-95D5-4F09-A0D3-B09F8FD6B3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tools.ietf.org/html?draft=draft-bierman-netmod-system-mgmt-00" TargetMode="External"/><Relationship Id="rId2" Type="http://schemas.openxmlformats.org/officeDocument/2006/relationships/hyperlink" Target="http://tools.ietf.org/html?draft=draft-ietf-netmod-interfaces-cfg-01"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16676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TMOD</a:t>
            </a:r>
            <a:br>
              <a:rPr sz="4400"/>
            </a:br>
            <a:r>
              <a:rPr b="0" lang="en-US" sz="4400" spc="-1" strike="noStrike">
                <a:solidFill>
                  <a:srgbClr val="000000"/>
                </a:solidFill>
                <a:latin typeface="Calibri"/>
              </a:rPr>
              <a:t>Agenda and WG Status</a:t>
            </a:r>
            <a:endParaRPr b="0" lang="en-US" sz="4400" spc="-1" strike="noStrike">
              <a:solidFill>
                <a:srgbClr val="000000"/>
              </a:solidFill>
              <a:latin typeface="Calibri"/>
            </a:endParaRPr>
          </a:p>
        </p:txBody>
      </p:sp>
      <p:sp>
        <p:nvSpPr>
          <p:cNvPr id="493" name="PlaceHolder 2"/>
          <p:cNvSpPr>
            <a:spLocks noGrp="1"/>
          </p:cNvSpPr>
          <p:nvPr>
            <p:ph type="subTitle"/>
          </p:nvPr>
        </p:nvSpPr>
        <p:spPr>
          <a:xfrm>
            <a:off x="1023480" y="3240000"/>
            <a:ext cx="7256520" cy="2216160"/>
          </a:xfrm>
          <a:prstGeom prst="rect">
            <a:avLst/>
          </a:prstGeom>
          <a:noFill/>
          <a:ln w="0">
            <a:noFill/>
          </a:ln>
        </p:spPr>
        <p:txBody>
          <a:bodyPr anchor="t">
            <a:noAutofit/>
          </a:bodyPr>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98989"/>
                </a:solidFill>
                <a:latin typeface="Calibri"/>
              </a:rPr>
              <a:t>David Kessens</a:t>
            </a:r>
            <a:endParaRPr b="0" lang="en-US" sz="3000" spc="-1" strike="noStrike">
              <a:solidFill>
                <a:srgbClr val="000000"/>
              </a:solidFill>
              <a:latin typeface="Calibri"/>
            </a:endParaRPr>
          </a:p>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98989"/>
                </a:solidFill>
                <a:latin typeface="Calibri"/>
              </a:rPr>
              <a:t>david.kessens@nsn.com</a:t>
            </a:r>
            <a:br>
              <a:rPr sz="3000"/>
            </a:br>
            <a:br>
              <a:rPr sz="3000"/>
            </a:br>
            <a:r>
              <a:rPr b="0" lang="en-US" sz="3000" spc="-1" strike="noStrike">
                <a:solidFill>
                  <a:srgbClr val="898989"/>
                </a:solidFill>
                <a:latin typeface="Calibri"/>
              </a:rPr>
              <a:t>Jürgen Schönwälder</a:t>
            </a:r>
            <a:br>
              <a:rPr sz="3000"/>
            </a:br>
            <a:r>
              <a:rPr b="0" lang="en-US" sz="3000" spc="-1" strike="noStrike">
                <a:solidFill>
                  <a:srgbClr val="898989"/>
                </a:solidFill>
                <a:latin typeface="Calibri"/>
              </a:rPr>
              <a:t>j.schoenwaelder@jacobs-university.de</a:t>
            </a:r>
            <a:endParaRPr b="0" lang="en-US" sz="3000" spc="-1" strike="noStrike">
              <a:solidFill>
                <a:srgbClr val="000000"/>
              </a:solidFill>
              <a:latin typeface="Calibri"/>
            </a:endParaRPr>
          </a:p>
        </p:txBody>
      </p:sp>
      <p:sp>
        <p:nvSpPr>
          <p:cNvPr id="4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07-26</a:t>
            </a:r>
            <a:endParaRPr b="0" lang="en-US" sz="1200" spc="-1" strike="noStrike">
              <a:solidFill>
                <a:srgbClr val="000000"/>
              </a:solidFill>
              <a:latin typeface="Arial"/>
            </a:endParaRPr>
          </a:p>
        </p:txBody>
      </p:sp>
      <p:sp>
        <p:nvSpPr>
          <p:cNvPr id="4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95DF8F-4120-481B-B085-CFEB6A2269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1 - NETMOD W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te Well</a:t>
            </a:r>
            <a:endParaRPr b="0" lang="en-US" sz="4400" spc="-1" strike="noStrike">
              <a:solidFill>
                <a:srgbClr val="000000"/>
              </a:solidFill>
              <a:latin typeface="Calibri"/>
            </a:endParaRPr>
          </a:p>
        </p:txBody>
      </p:sp>
      <p:sp>
        <p:nvSpPr>
          <p:cNvPr id="49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07-26</a:t>
            </a:r>
            <a:endParaRPr b="0" lang="en-US" sz="1200" spc="-1" strike="noStrike">
              <a:solidFill>
                <a:srgbClr val="000000"/>
              </a:solidFill>
              <a:latin typeface="Arial"/>
            </a:endParaRPr>
          </a:p>
        </p:txBody>
      </p:sp>
      <p:sp>
        <p:nvSpPr>
          <p:cNvPr id="4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1 - NETMOD WG</a:t>
            </a:r>
            <a:endParaRPr b="0" lang="en-US" sz="1200" spc="-1" strike="noStrike">
              <a:solidFill>
                <a:srgbClr val="000000"/>
              </a:solidFill>
              <a:latin typeface="Arial"/>
            </a:endParaRPr>
          </a:p>
        </p:txBody>
      </p:sp>
      <p:sp>
        <p:nvSpPr>
          <p:cNvPr id="5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5482C-DA4C-48FC-92D8-64D2F1E287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1" name="Text Box 3"/>
          <p:cNvSpPr/>
          <p:nvPr/>
        </p:nvSpPr>
        <p:spPr>
          <a:xfrm>
            <a:off x="228600" y="1371600"/>
            <a:ext cx="8766000" cy="4956120"/>
          </a:xfrm>
          <a:prstGeom prst="rect">
            <a:avLst/>
          </a:prstGeom>
          <a:noFill/>
          <a:ln w="0">
            <a:noFill/>
          </a:ln>
        </p:spPr>
        <p:style>
          <a:lnRef idx="0"/>
          <a:fillRef idx="0"/>
          <a:effectRef idx="0"/>
          <a:fontRef idx="minor"/>
        </p:style>
        <p:txBody>
          <a:bodyPr lIns="95040" rIns="95040" tIns="46800" bIns="46800" anchor="t">
            <a:noAutofit/>
          </a:bodyPr>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ETF plenary session,</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IETF working group or portion thereof,</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ESG or any member thereof on behalf of the IESG,</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AB or any member thereof on behalf of the IAB,</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IETF mailing list, including the IETF list itself,</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working group or design team list, or any other list</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functioning under IETF auspice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RFC Editor or the Internet-Drafts function</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000"/>
            </a:br>
            <a:r>
              <a:rPr b="0" lang="en-GB" sz="1300" spc="-1" strike="noStrike">
                <a:solidFill>
                  <a:srgbClr val="000000"/>
                </a:solidFill>
                <a:latin typeface="Lucida Grande"/>
              </a:rPr>
              <a:t>All IETF Contributions are subject to the rules of RFC 3978 (updated by RFC 4748) and RFC 3979(updated by RFC 4879).</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Statements made outside of an IETF session, mailing list or other function, that are clearly not intended to be input to an IETF activity, group or function, are not IETF Contributions in the context of this notice.</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Please consult RFC 3978 (and RFC 4748) for detail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 participant in any IETF activity is deemed to accept all IETF rules of process, as documented in Best Current Practices RFCs and IESG Statement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 participant in any IETF activity acknowledges that written, audio and video records of meetings may be made and may be available to the public.</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03" name=""/>
          <p:cNvSpPr txBox="1"/>
          <p:nvPr/>
        </p:nvSpPr>
        <p:spPr>
          <a:xfrm>
            <a:off x="457200" y="1257120"/>
            <a:ext cx="8229600" cy="5273640"/>
          </a:xfrm>
          <a:prstGeom prst="rect">
            <a:avLst/>
          </a:prstGeom>
          <a:noFill/>
          <a:ln w="0">
            <a:noFill/>
          </a:ln>
        </p:spPr>
        <p:txBody>
          <a:bodyPr anchor="t">
            <a:normAutofit/>
          </a:bodyPr>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Administrivia and WG Status</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5 min]</a:t>
            </a:r>
            <a:endParaRPr b="0" lang="en-US" sz="25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ore system data model (Andy)</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20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u="sng">
                <a:solidFill>
                  <a:srgbClr val="0000ff"/>
                </a:solidFill>
                <a:uFillTx/>
                <a:latin typeface="Calibri"/>
                <a:hlinkClick r:id="rId1"/>
              </a:rPr>
              <a:t>draft-bierman-netmod-system-mgmt-00</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ore interface data model (Martin)</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30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u="sng">
                <a:solidFill>
                  <a:srgbClr val="0000ff"/>
                </a:solidFill>
                <a:uFillTx/>
                <a:latin typeface="Calibri"/>
                <a:hlinkClick r:id="rId2"/>
              </a:rPr>
              <a:t>draft-ietf-netmod-interfaces-cfg-01</a:t>
            </a:r>
            <a:endParaRPr b="0" lang="en-US" sz="22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ietf-netmod-iana-if-type-00</a:t>
            </a:r>
            <a:endParaRPr b="0" lang="en-US" sz="22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bjorklund-netmod-ip-cfg-00</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ore routing data model (Ladislav)</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30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ietf-netmod-routing-cfg-00</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SMIv2 to YANG translation (Juergen)</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5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ietf-netmod-smi-yang-01</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Related work (Martin)</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15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bjorklund-netmod-snmp-cfg-01</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Open mike</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10 min]</a:t>
            </a:r>
            <a:endParaRPr b="0" lang="en-US" sz="2500" spc="-1" strike="noStrike">
              <a:solidFill>
                <a:srgbClr val="000000"/>
              </a:solidFill>
              <a:latin typeface="Calibri"/>
            </a:endParaRPr>
          </a:p>
        </p:txBody>
      </p:sp>
      <p:sp>
        <p:nvSpPr>
          <p:cNvPr id="5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07-26</a:t>
            </a:r>
            <a:endParaRPr b="0" lang="en-US" sz="1200" spc="-1" strike="noStrike">
              <a:solidFill>
                <a:srgbClr val="000000"/>
              </a:solidFill>
              <a:latin typeface="Arial"/>
            </a:endParaRPr>
          </a:p>
        </p:txBody>
      </p:sp>
      <p:sp>
        <p:nvSpPr>
          <p:cNvPr id="5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1 - NETMOD WG</a:t>
            </a:r>
            <a:endParaRPr b="0" lang="en-US" sz="1200" spc="-1" strike="noStrike">
              <a:solidFill>
                <a:srgbClr val="000000"/>
              </a:solidFill>
              <a:latin typeface="Arial"/>
            </a:endParaRPr>
          </a:p>
        </p:txBody>
      </p:sp>
      <p:sp>
        <p:nvSpPr>
          <p:cNvPr id="5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AA126-E0E5-4B3F-AE01-6291F10F0D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G Document Status</a:t>
            </a:r>
            <a:endParaRPr b="0" lang="en-US" sz="4400" spc="-1" strike="noStrike">
              <a:solidFill>
                <a:srgbClr val="000000"/>
              </a:solidFill>
              <a:latin typeface="Calibri"/>
            </a:endParaRPr>
          </a:p>
        </p:txBody>
      </p:sp>
      <p:sp>
        <p:nvSpPr>
          <p:cNvPr id="5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reviously chartered working group item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020 (draft-ietf-netmod-ya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021 (draft-ietf-netmod-yang-type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110 (draft-ietf-netmod-dsdl-ma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087 (draft-ietf-netmod-yang-us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244 (draft-ietf-netmod-arch)</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new)</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urrently chartered working group item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ystem data mode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oposal avail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faces data mode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WG document avail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outing data mode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WG document avail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MIv2 translation to YANG</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WG last call)</a:t>
            </a:r>
            <a:endParaRPr b="0" lang="en-US" sz="2400" spc="-1" strike="noStrike">
              <a:solidFill>
                <a:srgbClr val="000000"/>
              </a:solidFill>
              <a:latin typeface="Calibri"/>
            </a:endParaRPr>
          </a:p>
        </p:txBody>
      </p:sp>
      <p:sp>
        <p:nvSpPr>
          <p:cNvPr id="5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07-26</a:t>
            </a:r>
            <a:endParaRPr b="0" lang="en-US" sz="1200" spc="-1" strike="noStrike">
              <a:solidFill>
                <a:srgbClr val="000000"/>
              </a:solidFill>
              <a:latin typeface="Arial"/>
            </a:endParaRPr>
          </a:p>
        </p:txBody>
      </p:sp>
      <p:sp>
        <p:nvSpPr>
          <p:cNvPr id="51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1 - NETMOD WG</a:t>
            </a:r>
            <a:endParaRPr b="0" lang="en-US" sz="1200" spc="-1" strike="noStrike">
              <a:solidFill>
                <a:srgbClr val="000000"/>
              </a:solidFill>
              <a:latin typeface="Arial"/>
            </a:endParaRPr>
          </a:p>
        </p:txBody>
      </p:sp>
      <p:sp>
        <p:nvSpPr>
          <p:cNvPr id="5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E00087-34A2-46A0-9ED2-E0649EAE80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n-WG Documents using YANG</a:t>
            </a:r>
            <a:endParaRPr b="0" lang="en-US" sz="4400" spc="-1" strike="noStrike">
              <a:solidFill>
                <a:srgbClr val="000000"/>
              </a:solidFill>
              <a:latin typeface="Calibri"/>
            </a:endParaRPr>
          </a:p>
        </p:txBody>
      </p:sp>
      <p:sp>
        <p:nvSpPr>
          <p:cNvPr id="5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FC docum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FC 6241 (draft-ietf-netconf-4741b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FC 6022 (draft-ietf-netconf-monito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FC 5717 (draft-ietf-netconf-partial-loc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FC 6243 (draft-ietf-netconf-with-defa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FC 6095 (draft-linowski-netmod-yang-abstra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raft-ietf-ipfix-configuration-model</a:t>
            </a:r>
            <a:r>
              <a:rPr b="0" lang="en-US" sz="2800" spc="-1" strike="noStrike">
                <a:solidFill>
                  <a:srgbClr val="000000"/>
                </a:solidFill>
                <a:latin typeface="Calibri"/>
              </a:rPr>
              <a:t>	</a:t>
            </a:r>
            <a:r>
              <a:rPr b="0" lang="en-US" sz="2800" spc="-1" strike="noStrike">
                <a:solidFill>
                  <a:srgbClr val="000000"/>
                </a:solidFill>
                <a:latin typeface="Calibri"/>
              </a:rPr>
              <a:t>(RFC 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5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07-26</a:t>
            </a:r>
            <a:endParaRPr b="0" lang="en-US" sz="1200" spc="-1" strike="noStrike">
              <a:solidFill>
                <a:srgbClr val="000000"/>
              </a:solidFill>
              <a:latin typeface="Arial"/>
            </a:endParaRPr>
          </a:p>
        </p:txBody>
      </p:sp>
      <p:sp>
        <p:nvSpPr>
          <p:cNvPr id="51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1 - NETMOD WG</a:t>
            </a:r>
            <a:endParaRPr b="0" lang="en-US" sz="1200" spc="-1" strike="noStrike">
              <a:solidFill>
                <a:srgbClr val="000000"/>
              </a:solidFill>
              <a:latin typeface="Arial"/>
            </a:endParaRPr>
          </a:p>
        </p:txBody>
      </p:sp>
      <p:sp>
        <p:nvSpPr>
          <p:cNvPr id="5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C3EFD6-E761-447E-B847-E526847287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rent WG Milestones</a:t>
            </a:r>
            <a:endParaRPr b="0" lang="en-US" sz="4400" spc="-1" strike="noStrike">
              <a:solidFill>
                <a:srgbClr val="000000"/>
              </a:solidFill>
              <a:latin typeface="Calibri"/>
            </a:endParaRPr>
          </a:p>
        </p:txBody>
      </p:sp>
      <p:sp>
        <p:nvSpPr>
          <p:cNvPr id="51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c 2010 - Submit first working group draft of System data model draf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r 2011 - Submit SMIv2 to YANG translation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r 2011 - Submit System data model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Jul 2011  **** IETF 81 Quebec Cit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ug 2011 - Submit Interface data model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ug 2011 - Submit Routing data model to the IESG</a:t>
            </a:r>
            <a:endParaRPr b="0" lang="en-US" sz="2000" spc="-1" strike="noStrike">
              <a:solidFill>
                <a:srgbClr val="000000"/>
              </a:solidFill>
              <a:latin typeface="Calibri"/>
            </a:endParaRPr>
          </a:p>
        </p:txBody>
      </p:sp>
      <p:sp>
        <p:nvSpPr>
          <p:cNvPr id="5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07-26</a:t>
            </a:r>
            <a:endParaRPr b="0" lang="en-US" sz="1200" spc="-1" strike="noStrike">
              <a:solidFill>
                <a:srgbClr val="000000"/>
              </a:solidFill>
              <a:latin typeface="Arial"/>
            </a:endParaRPr>
          </a:p>
        </p:txBody>
      </p:sp>
      <p:sp>
        <p:nvSpPr>
          <p:cNvPr id="5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1 - NETMOD WG</a:t>
            </a:r>
            <a:endParaRPr b="0" lang="en-US" sz="1200" spc="-1" strike="noStrike">
              <a:solidFill>
                <a:srgbClr val="000000"/>
              </a:solidFill>
              <a:latin typeface="Arial"/>
            </a:endParaRPr>
          </a:p>
        </p:txBody>
      </p:sp>
      <p:sp>
        <p:nvSpPr>
          <p:cNvPr id="5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726E8C-B4A1-4796-BEBB-1A8ACE1E7D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5T09:53:49Z</dcterms:created>
  <dc:creator>Jürgen Schönwälder</dc:creator>
  <dc:description/>
  <dc:language>en-US</dc:language>
  <cp:lastModifiedBy>Jürgen Schönwälder</cp:lastModifiedBy>
  <dcterms:modified xsi:type="dcterms:W3CDTF">2011-07-15T10:05:07Z</dcterms:modified>
  <cp:revision>18</cp:revision>
  <dc:subject/>
  <dc:title>NETMOD Agenda</dc:title>
</cp:coreProperties>
</file>