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7591-2D91-450F-A604-1E4F2820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94FA-0150-40F4-8322-B8D17700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 for Carrying Authentication for Network Access - RFC 51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7B76-0468-4C08-9B17-07B83D046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EE9-14C9-44E4-930A-3A44C8F5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CD5-80AC-4EE9-9702-B8893F7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B52-E348-4154-9F33-78CDB7C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AB7-8C91-4105-AF81-668561C9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A26-EE8F-48A4-88CF-CB270233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AE8-186A-423D-99E6-1E07F52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F55-35CA-4D68-89C2-8A68BAF0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1A2-49E5-459E-88C1-FE63EF79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237-C61D-4E17-BE7A-1880BF5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A94-2980-49B3-A934-4391B16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FAB-FF98-4917-8313-E048FA3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9B3-5FB3-473A-B895-BBD3292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274B-E7CA-46CC-8AE8-D2931E706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opsawg-management-stds-01.txt" TargetMode="External"/><Relationship Id="rId2" Type="http://schemas.openxmlformats.org/officeDocument/2006/relationships/hyperlink" Target="mailto:mehmet.ersue@nsn.com" TargetMode="External"/><Relationship Id="rId3" Type="http://schemas.openxmlformats.org/officeDocument/2006/relationships/hyperlink" Target="mailto:bclaise@cisco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6A4-199F-49CC-86A7-7DFC91A2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verview of the IETF Network Management Standards</a:t>
            </a:r>
            <a:br>
              <a:rPr sz="4400"/>
            </a:br>
            <a:br>
              <a:rPr sz="40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ietf-opsawg-management-stds-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77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#81, Quebec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&amp;M Area Working Grou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hmet.ersue@ns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claise@cisc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nges since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12500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we did since last 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d new Appendix on "High Level Classification of Management Protocols and Data Models" as a dispat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text for the Security Requirements on SNMP and referenced to RFC 34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subsection on VA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d subsection on RADIUS Authentication and Authorization into the section SNMP Transport Security Model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on Dynamic Host Configuration Protocol (DHCP) revised by Ralph D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ections on DHCP and Autoconf assembled in section "IP Address Managem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d subsection on "Extensible Provision Protocol (EPP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d detailed positiv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some of the I-D references and added RFC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d text on expired d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bugs, nits and ope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314B-7A16-4B07-866A-5B11B39CB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480" y="112356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 a discussion on this draft in the IP Suite WG session in the NIST SGIP meeting on July 15, 20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IP IPS WG is ineterested in this draft and will review it befo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requested that we also include information on following top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807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Domain Name System (already covered i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C 62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807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A (as complementary to RADIUS and DIA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appendix for the high-level overview of IETF MIB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up I-D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PA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's n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think the document is already stable and can go to OPSAWG LC after clean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B636-C208-48EB-A4DB-3A865E50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9BC-90B3-4074-8E1B-D90B9A01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raft Audience &amp;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aud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ople interested in getting an overview of current set of  IET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agement technologi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n-IETF bodies interested in using IETF management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question to ans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ETF technologies and data models can be used to build a management application, e.g. for network monitoring, fault mgmt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Network Management technologies and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technology options and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addressing the management application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and map to network management tasks like fault, configuration, accounting, performance, and securit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of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odels not in direct focus of network managemen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ology specific MIBs, e.g. TCP MIB, IPv6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B modules related to transmission , e.g. ISDN MIB, ATM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01F-9E79-483A-8E24-3CDF7C2A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5480" y="135684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FIX, PSAMP (Juergen Quittek, 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(Juergen Schönwä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and DIAMETER (Jouni Korho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(Ralph Dr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 (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itial reviewers in OPSAWG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need more revie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2F2-9AD8-42CA-A111-2D3A5BCE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7:25:01Z</dcterms:created>
  <dc:creator>Bernd Linowski</dc:creator>
  <dc:description/>
  <dc:language>en-US</dc:language>
  <cp:lastModifiedBy>Mehmet Ersü</cp:lastModifiedBy>
  <dcterms:modified xsi:type="dcterms:W3CDTF">2011-07-26T18:51:25Z</dcterms:modified>
  <cp:revision>307</cp:revision>
  <dc:subject/>
  <dc:title>Complex Types for YANG</dc:title>
</cp:coreProperties>
</file>