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934-DB33-4C7F-AF5D-F461B6D8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986-431B-42E2-97C1-F05CA42C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 for Carrying Authentication for Network Access - RFC 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AA0-B80D-4E77-9F61-AC515C8A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090-0D53-4DFF-9579-1E555704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1C4-C36E-40C6-8038-D7C8BE8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466-4022-482E-9019-9EC605DB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082-CEA1-42A9-B03D-770A34ED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70F-13CA-4696-BD7C-21BCCD10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EC1-51BD-4550-926F-24F08B30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6A7-6148-46C8-A0ED-4ABB14C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491-DA73-45F4-A021-F23815A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636-D42B-4CDC-9290-B39FE2F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961-DF99-4642-B5A6-4AE7157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BDC-5848-4803-BB02-97F54B1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B01-7045-4AF2-81D6-E4C7B03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453C-C0A6-4E33-BC6C-FA62F1D0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opsawg-management-stds-01.txt" TargetMode="External"/><Relationship Id="rId2" Type="http://schemas.openxmlformats.org/officeDocument/2006/relationships/hyperlink" Target="mailto:mehmet.ersue@nsn.com" TargetMode="External"/><Relationship Id="rId3" Type="http://schemas.openxmlformats.org/officeDocument/2006/relationships/hyperlink" Target="mailto:bclaise@cisco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18A6-6B8E-41BB-92D7-A3B14861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verview of the IETF Network Management Standards</a:t>
            </a:r>
            <a:br>
              <a:rPr sz="4400"/>
            </a:b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ietf-opsawg-management-stds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#81, Quebec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&amp;M Area Working Grou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hmet.ersue@ns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claise@cisc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nges since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12500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we did since last 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d new Appendix on "High Level Classification of Management Protocols and Data Models" as a dispat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text for the Security Requirements on SNMP and referenced to RFC 34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subsection on VA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d subsection on RADIUS Authentication and Authorization into the section SNMP Transport Security Model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on Dynamic Host Configuration Protocol (DHCP) revised by Ralph D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ctions on DHCP and Autoconf assembled in section "IP Address Managem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d subsection on "Extensible Provision Protocol (EPP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d detailed positiv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some of the I-D references and added RFC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d text on expired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bugs, nits and ope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D0F-3C3E-4B3A-906C-207089C7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480" y="112356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a discussion on this draft in the IP Suite WG session in the NIST SGIP meeting on July 15, 20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IP IPS WG is ineterested in this draft and will review it befo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requested that we also include information on following top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80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Domain Name System (already covered i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C 62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80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A (as complementary to RADIUS and DIA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appendix for the high-level overview of IETF MIB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up I-D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A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think the document is already stable and can go to OPSAWG LC after clean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741-4BF9-47AC-8687-118AB9C7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4B9-0484-469E-8A0A-1686E7FB2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raft Audience &amp;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aud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ople interested in getting an overview of current set of  IET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ologi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n-IETF bodies interested in using IETF management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question to ans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ETF technologies and data models can be used to build a management application, e.g. for network monitoring, fault mgmt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Network Management technologies and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technology options and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addressing the management application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and map to network management tasks like fault, configuration, accounting, performance, and secur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of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odels not in direct focus of network managemen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y specific MIBs, e.g. TCP MIB, IPv6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B modules related to transmission , e.g. ISDN MIB, ATM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146-A51D-44B6-A27D-5A395268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5480" y="135684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FIX, PSAMP (Juergen Quittek, 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(Juergen Schönwä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and DIAMETER (Jouni Korho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(Ralph Dr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 (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itial reviewers in OPSAWG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need more revie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5F08-9180-4D71-BFF4-2C2749AB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25:01Z</dcterms:created>
  <dc:creator>Bernd Linowski</dc:creator>
  <dc:description/>
  <dc:language>en-US</dc:language>
  <cp:lastModifiedBy>Mehmet Ersü</cp:lastModifiedBy>
  <dcterms:modified xsi:type="dcterms:W3CDTF">2011-07-26T18:51:25Z</dcterms:modified>
  <cp:revision>307</cp:revision>
  <dc:subject/>
  <dc:title>Complex Types for YANG</dc:title>
</cp:coreProperties>
</file>