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A62-93C8-4D53-9A0C-5653773B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1F9-6387-4C6B-AAD9-FE227B2C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0E1-7F90-41E8-AC59-5A7B55A4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93D-E703-4CB3-8808-7A49190A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F73F-CEB3-4368-A3AD-83F2CB4B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F74-E6F3-426A-A9CA-545F51C1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F44-BDCD-465A-9E83-C62E99C1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A3F-96A3-429E-8D82-FCBCE0B7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B0F-43DA-46EC-8203-7C062ECD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12C-7BCF-4802-A663-24843EF5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E0E-C6F8-4758-B2F9-4BD0F50B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D962-6B2F-4274-BF55-88B85BFC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1AFA-7E70-4E5B-A2D5-C5925C5A6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SA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40381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s:  Scott Brad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r Liljenstol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3920" y="76320"/>
            <a:ext cx="90777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submission to the IETF intended by the Contributor for publication as all or par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TF Internet-Draft or RFC and any statement made within the context of an IETF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considered an "IETF Contribution". Such statements include oral statements in IETF sess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well as written and electronic communications made at any time or place, which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ETF plenary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ESG, or any member thereof on behalf of the IE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IETF mailing list, including the IETF list itself, any working group or design team list,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other list functioning under IETF ausp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IETF working group or portion ther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Birds of a Feather (BOF)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AB or any member thereof on behalf of the I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FC Editor or the Internet-Drafts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IETF Contributions are subject to the rules of RFC 5378 and RFC 3979 (updated by RFC 487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ments made outside of an IETF session, mailing list or other function, that are clearly n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ded to be input to an IETF activity, group or function, are not IETF Contributions 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xt of this not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ease consult RFC 5378 and RFC 3979 for detai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ticipant in any IETF activity is deemed to accept all IETF rules of process, as documen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Best Current Practices RFCs and IESG Stat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ticipant in any IETF activity acknowledges that written, audio and video record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s may be made and may be available to the publ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dministrivia                                                                                                  chairs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sheets, Scribe, Agenda b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n Overview of the IETF Network Management Standards                        Ersue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etf-opsawg-management-s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Inter-Carrier OAM Requirements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nzal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georgiades-opsawg-intercar-oam-req-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hared Transition Space                                                                       Schliesser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bdgks-arin-shared-transition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weil-shared-transition-space-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Data Center/Process Vertulazation                                                           Ning S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2:01:32Z</dcterms:created>
  <dc:creator>Scott Bradner</dc:creator>
  <dc:description/>
  <dc:language>en-US</dc:language>
  <cp:lastModifiedBy>Scott Bradner</cp:lastModifiedBy>
  <dcterms:modified xsi:type="dcterms:W3CDTF">2011-07-27T10:52:32Z</dcterms:modified>
  <cp:revision>16</cp:revision>
  <dc:subject/>
  <dc:title>Congestion and Pre-Congestion Notification (pcn)</dc:title>
</cp:coreProperties>
</file>