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0BC-5B07-486C-9F93-C53CEFCB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F4A-949A-4DAF-A80D-7C1D174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D98-0598-4441-929A-3B84D1F1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6FD-1EA1-47FA-A70B-421A5518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DF4-67E1-442A-936C-D9CCB76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6C0-494E-4B38-9431-A934E0FA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16D-B97C-41A6-9738-F41BB49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547-78C1-491A-BC37-C80F627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9AB-FA84-4EB5-BAA3-98546DB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392-3BFC-4FE6-858D-95B6284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B8A-3614-4E83-B057-38F1C99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9C5-07A6-40C8-8834-1146E88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4EFF-41B8-4AF3-AA03-F92D7181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SA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:  Scott Bra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Liljenstol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920" y="76320"/>
            <a:ext cx="90777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submission to the IETF intended by the Contributor for publication as all or par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 Internet-Draft or RFC and any statement made within the context of an IETF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nsidered an "IETF Contribution". Such statements include oral statements in IETF sess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ll as written and electronic communications made at any time or place, which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TF plenary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SG, or any member thereof on behalf of the I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mailing list, including the IETF list itself, any working group or design team list,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list functioning under IETF ausp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working group or portion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Birds of a Feather (BOF)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AB or any member thereof on behalf of the I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FC Editor or the Internet-Drafts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ETF Contributions are subject to the rules of RFC 5378 and RFC 3979 (updated by RFC 487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made outside of an IETF session, mailing list or other function, that are clearly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to be input to an IETF activity, group or function, are not IETF Contributions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of this no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consult RFC 5378 and RFC 3979 for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is deemed to accept all IETF rules of process, as docume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st Current Practices RFCs and IESG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acknowledges that written, audio and video record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 may be made and may be available to the publ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dministrivia                                                                                                  chairs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sheets, Scribe, Agenda 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n Overview of the IETF Network Management Standards                        Ersue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opsawg-management-s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ter-Carrier OAM Requirements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nzal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georgiades-opsawg-intercar-oam-req-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hared Transition Space                                                                       Schliesser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bdgks-arin-shared-transition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il-shared-transition-space-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 Center/Process Vertulazation                                                           Ning S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7T10:52:32Z</dcterms:modified>
  <cp:revision>16</cp:revision>
  <dc:subject/>
  <dc:title>Congestion and Pre-Congestion Notification (pcn)</dc:title>
</cp:coreProperties>
</file>