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05040" y="4722480"/>
            <a:ext cx="4970160" cy="4481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Img"/>
          </p:nvPr>
        </p:nvSpPr>
        <p:spPr>
          <a:xfrm>
            <a:off x="882720" y="861480"/>
            <a:ext cx="5013360" cy="347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82720" y="861840"/>
            <a:ext cx="5013360" cy="3472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5040" y="4722480"/>
            <a:ext cx="4970160" cy="4481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s up inventory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This will allow us to designate a single /10 for this purpose which wil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be used by multiple providers. It is likely that there are several provider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each of whom could justify a /10 out of current inventory for this if the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cannot obtain a shared space, let alone the vast numbers of small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providers that would consume far more in aggreg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not delay exhaustion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True. However, it will reduce the amount of CGN required and will als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mitigate a number of transitional issues in the mean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82720" y="861840"/>
            <a:ext cx="5013360" cy="3472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5040" y="4722480"/>
            <a:ext cx="4970160" cy="4481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s up inventory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This will allow us to designate a single /10 for this purpose which wil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be used by multiple providers. It is likely that there are several provider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each of whom could justify a /10 out of current inventory for this if the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cannot obtain a shared space, let alone the vast numbers of small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providers that would consume far more in aggreg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not delay exhaustion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True. However, it will reduce the amount of CGN required and will als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mitigate a number of transitional issues in the mean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82720" y="861840"/>
            <a:ext cx="5013360" cy="3472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5040" y="4722480"/>
            <a:ext cx="4970160" cy="4481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r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lees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4FD-55BA-41FB-B940-C4DEE8FE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148-78DE-4F3B-B7A6-0A4A7DDF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1CE-2E0B-429C-AE0A-0F167EFF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F0A-9679-47C0-9421-2B0C2F52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104-EE80-4D08-A665-A5B8AA51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7E3-2186-4D39-8D79-0E8BEC8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C6F-39FE-4B88-9DEE-0714C27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1BF-3F77-44E4-B299-79F875F5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9AF-FF50-444A-8025-EFDBF974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B03-7F75-4822-8E97-DF9CC814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767-6760-4BFF-9CF2-B20525DC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89D-D31F-4D15-8F9F-9F46E122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1BCD3FB-54AA-47A4-8949-23A6CA7AFB1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Nokia Sans Wi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Nokia Sans Wide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5AED-F699-4831-9BF8-249D356DAA4B}" type="slidenum">
              <a:rPr b="0" lang="en-US" sz="1200" spc="-1" strike="noStrike">
                <a:solidFill>
                  <a:srgbClr val="898989"/>
                </a:solidFill>
                <a:latin typeface="Nokia Sans Wi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D74DD4A-2E29-459F-B2CE-10C4A42DF39B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3384360" y="6462720"/>
            <a:ext cx="31366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ared Transition Sp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Kuarsin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 Bar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7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rguments and Rebutt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76968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 is b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easible alternative in many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 is also not the only use case for shared transition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posed uses of this space breaks host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but manageable (better then no IPv4 at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pace could be mis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technical argument (many technologies suffer from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ody will u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 – will be forced to solve IPv4 ru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s are not grow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 – networks are growing (endpoints / devices per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R and ISP Inventories not exha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IR and ISP inventories are at or near exhaustion. Once that happens,  it will be too late to reserve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lier a common Shared Transition Space is defined, the greater the benefit of standardization (heads off multiple disparate approaches that could have unintended consequ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rguments and Rebutt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770040"/>
            <a:ext cx="8991720" cy="55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Shared Space uses up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ssignment vs. multiple assignments to operators for the same purpose (more efficient – less total 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10 is not en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rgue the need for block.  /10 still useful and operators have stated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not delay exhau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, but can help reduce CGN need and solves re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Use IPv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connectivity in itself does not solve IPv4 connectivity needs.  IPv6 is not ready ever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IPv4 only devices and content (i.e. Consumer Electronics and home network equi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lays IPv6 Deploy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ction helps direct resources to IPv6 in place of wasted time on IPv4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3960" y="987120"/>
            <a:ext cx="9537480" cy="53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hared Transition Space has been highlighted repeatedly in the community (by operato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olv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blems and challe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ments against it do not overcome the benefits (i.e. benefits outweigh the drawba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Sp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speed up IPv6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reduce the need for CGN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stop global unicast space form being used in CGN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N is prepared to reserve the /10 if requested to do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ETF is asked to help the community move forward in solving these real issues and allow scarce resources to direct attention to IPv6 deploymen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Next Steps and 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is of the essence due to the dwindling inventory of IPv4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rocessed separately or in tandem with this draft, but the important thing to these authors is the disposit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draft could be integrated into the final RFC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right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One or both drafts are taken as working group i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One or both drafts become AD sponso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help drive consensus in the most expeditious manner that would best advise the IAB in the actions it should take related to ARIN-2011-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Transition Spac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-shared-transition-space-request-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Weil, Chris Donley, Christopher Liljenstolpe, Marla Azinger and Victor Kuarsin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8991720" cy="49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are implementing IPv6, or soo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transition to IPv6, need to continue supporting IPv4 for legacy CPE equipment and IPv4-only content sites, even after IPv4 exhau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need non-RFC 1918 IPv4 address space to support transition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raft requests a /10 (to be supplied by ARIN per 2011-5, either directly or through IANA) be used as Shared Transi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Shared Transition Spac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8991720" cy="49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only by SPs to facilitate trans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eparate space from RFC 1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overlap with customer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4 address space reserved for service provid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inside" addresses in a carrier NAT environment (e.g. between the CGN and customer CPE devic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Pv4 to IPv6 transition infra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 use behind customer NAT (e.g. in-home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9840" y="1125360"/>
            <a:ext cx="9517320" cy="51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ETF feedback, requested /10 address space from A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N willing to allocate Shared Transi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Policy 201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bdgks-arin-shared-transition-space-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ing IETF guidance/direction per RFC 28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es Since IETF 7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384720" y="6462720"/>
            <a:ext cx="3136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N Draft Policy 2011-5: Shared Transi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bdgks-arin-shared-transition-space-01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 Barber, Owen Delong, Chris Grundemann, Victor Kuarsingh and Benson Schlie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917280"/>
            <a:ext cx="8991720" cy="54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raft provides foundational information and support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-shared-transition-space-request-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18144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technical merits of Shared Transi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s the the reservation of a /10 block for Shared Transi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shirasaki-isp-shared-ad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howed need and requested space for this use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-opsawg-provider-address-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Jul/10) followed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-shared-transition-space-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v/10) emphasized need and requested Shared Transi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N Draft Policy 2011-5 (accepted) referred to IAB (per RFC 28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18144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B Response – The authority to allocate space of this nature lies with the IETF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18144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this draft (and support for latest vers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now been submitted for IETF review and for IESG to judge consen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501480" y="2681280"/>
            <a:ext cx="89600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Reasons for Shared Transition Sp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 Grade NAT (most deployable transition option), Non-Overlapping with RFC 1918, Extranet, SP Services, Private In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FC 1918 and for SP Use On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also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post run-out, delay wider CGN deployment, address recovery, return or transfer, more efficient then separate allocations,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ors to direct resources to IPv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856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wasting time solving IPv4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being used by some operators (squat) with less legitimacy, and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6319 outlined alterna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ptions were: Global Unicast Space (multiple allocations for same use), Class E, Prefix Squatting, Consor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have same basic effect as Shared Space except add additional complexities and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Address Space (RFC 1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option is known to be problematic for many deployments and often RFC 1918 is already exhau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18:37:48Z</dcterms:created>
  <dc:creator>Stan O. Barber</dc:creator>
  <dc:description/>
  <cp:keywords/>
  <dc:language>en-US</dc:language>
  <cp:lastModifiedBy>Stan Barber</cp:lastModifiedBy>
  <cp:lastPrinted>2000-03-20T15:35:04Z</cp:lastPrinted>
  <dcterms:modified xsi:type="dcterms:W3CDTF">2011-07-26T22:09:33Z</dcterms:modified>
  <cp:revision>59</cp:revision>
  <dc:subject/>
  <dc:title>IETF Draft Template</dc:title>
</cp:coreProperties>
</file>