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907588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778800" cy="991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body"/>
          </p:nvPr>
        </p:nvSpPr>
        <p:spPr>
          <a:xfrm>
            <a:off x="905040" y="4722480"/>
            <a:ext cx="4970160" cy="4481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ldImg"/>
          </p:nvPr>
        </p:nvSpPr>
        <p:spPr>
          <a:xfrm>
            <a:off x="882720" y="861480"/>
            <a:ext cx="5013360" cy="3472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882720" y="861840"/>
            <a:ext cx="5013360" cy="34722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05040" y="4722480"/>
            <a:ext cx="4970160" cy="4481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s up inventory:</a:t>
            </a:r>
            <a:br>
              <a:rPr sz="1000"/>
            </a:b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        This will allow us to designate a single /10 for this purpose which will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        be used by multiple providers. It is likely that there are several providers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        each of whom could justify a /10 out of current inventory for this if they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        cannot obtain a shared space, let alone the vast numbers of smaller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        providers that would consume far more in aggregat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ill not delay exhaustion:</a:t>
            </a:r>
            <a:br>
              <a:rPr sz="1000"/>
            </a:b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        True. However, it will reduce the amount of CGN required and will also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        mitigate a number of transitional issues in the mean tim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882720" y="861840"/>
            <a:ext cx="5013360" cy="34722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05040" y="4722480"/>
            <a:ext cx="4970160" cy="4481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s up inventory:</a:t>
            </a:r>
            <a:br>
              <a:rPr sz="1000"/>
            </a:b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        This will allow us to designate a single /10 for this purpose which will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        be used by multiple providers. It is likely that there are several providers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        each of whom could justify a /10 out of current inventory for this if they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        cannot obtain a shared space, let alone the vast numbers of smaller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        providers that would consume far more in aggregat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ill not delay exhaustion:</a:t>
            </a:r>
            <a:br>
              <a:rPr sz="1000"/>
            </a:b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        True. However, it will reduce the amount of CGN required and will also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        mitigate a number of transitional issues in the mean tim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882720" y="861840"/>
            <a:ext cx="5013360" cy="34722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05040" y="4722480"/>
            <a:ext cx="4970160" cy="4481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ars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hlees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6840" y="384912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64120" y="114264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384912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064120" y="384912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97040" y="114264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537240" y="114264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6840" y="384912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97040" y="384912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537240" y="384912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528B-6011-49D8-96C8-0E48D4124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142640"/>
            <a:ext cx="89917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133F-D167-414B-A8CF-C86F6ECBA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9917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D53A-D9B7-4E41-8FAE-CE050C009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3876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064120" y="1142640"/>
            <a:ext cx="43876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8566-E332-4712-93A2-495B4552F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25AF-7EA9-4EB3-A6AD-8F57A4891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959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A2B3-C9F3-456F-9E26-938F9EA70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64120" y="1142640"/>
            <a:ext cx="43876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384912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D2DD-B490-467B-9848-35135B0E6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6840" y="1142640"/>
            <a:ext cx="89917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3876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64120" y="114264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064120" y="384912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B610-65CA-4953-9A54-C141D995F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64120" y="114264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384912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FC1C-5670-4159-86D0-7D946F350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384912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BA51-49F6-4318-8812-F66056226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64120" y="114264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384912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064120" y="384912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F217-7178-49B2-99C8-CFAC84742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497040" y="114264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537240" y="114264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384912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497040" y="384912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537240" y="384912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25F7-79ED-4FD6-941F-A677D3A84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6840" y="1142640"/>
            <a:ext cx="89917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9917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3876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064120" y="1142640"/>
            <a:ext cx="43876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9917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959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064120" y="1142640"/>
            <a:ext cx="43876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840" y="384912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3876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064120" y="114264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64120" y="384912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64120" y="114264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6840" y="384912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6840" y="384912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064120" y="114264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84912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5064120" y="384912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497040" y="114264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537240" y="114264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6840" y="384912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497040" y="384912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537240" y="384912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3876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064120" y="1142640"/>
            <a:ext cx="43876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959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64120" y="1142640"/>
            <a:ext cx="43876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6840" y="384912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3876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4120" y="114264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64120" y="384912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4120" y="114264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6840" y="384912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7772400" y="6124680"/>
            <a:ext cx="17240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583320"/>
            <a:ext cx="4952880" cy="2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A6857DA9-5600-4E30-92F2-8EB88B82E17F}" type="slidenum"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142640"/>
            <a:ext cx="89917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1001"/>
              </a:spcBef>
              <a:buClr>
                <a:srgbClr val="618ffd"/>
              </a:buClr>
              <a:buSzPct val="75000"/>
              <a:buFont typeface="Arial"/>
              <a:buChar char="•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0000"/>
              </a:lnSpc>
              <a:spcBef>
                <a:spcPts val="1001"/>
              </a:spcBef>
              <a:buClr>
                <a:srgbClr val="618ffd"/>
              </a:buClr>
              <a:buSzPct val="75000"/>
              <a:buFont typeface="Arial"/>
              <a:buChar char="•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Nokia Sans"/>
              <a:buChar char="–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Nokia Sans"/>
              <a:buChar char="»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Nokia Sans"/>
              <a:buChar char="»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Nokia Sans"/>
              <a:buChar char="»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Nokia Sans Wi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Nokia Sans Wide"/>
              </a:defRPr>
            </a:lvl1pPr>
          </a:lstStyle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F6D18-1C69-4A56-BA45-1976DB96A30C}" type="slidenum">
              <a:rPr b="0" lang="en-US" sz="1200" spc="-1" strike="noStrike">
                <a:solidFill>
                  <a:srgbClr val="898989"/>
                </a:solidFill>
                <a:latin typeface="Nokia Sans Wi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3"/>
          <p:cNvSpPr/>
          <p:nvPr/>
        </p:nvSpPr>
        <p:spPr>
          <a:xfrm>
            <a:off x="7772400" y="6124680"/>
            <a:ext cx="17240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228600" y="6583320"/>
            <a:ext cx="4952880" cy="2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9B4C0BE7-E81B-4AA4-AE28-B5875E3C01BE}" type="slidenum"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6840" y="1142640"/>
            <a:ext cx="89917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1001"/>
              </a:spcBef>
              <a:buClr>
                <a:srgbClr val="618ffd"/>
              </a:buClr>
              <a:buSzPct val="75000"/>
              <a:buFont typeface="Arial"/>
              <a:buChar char="•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0000"/>
              </a:lnSpc>
              <a:spcBef>
                <a:spcPts val="1001"/>
              </a:spcBef>
              <a:buClr>
                <a:srgbClr val="618ffd"/>
              </a:buClr>
              <a:buSzPct val="75000"/>
              <a:buFont typeface="Arial"/>
              <a:buChar char="•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Nokia Sans"/>
              <a:buChar char="–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Nokia Sans"/>
              <a:buChar char="»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Nokia Sans"/>
              <a:buChar char="»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Nokia Sans"/>
              <a:buChar char="»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4"/>
          </p:nvPr>
        </p:nvSpPr>
        <p:spPr>
          <a:xfrm>
            <a:off x="3384360" y="6462720"/>
            <a:ext cx="3136680" cy="3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42680" y="2130120"/>
            <a:ext cx="842004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hared Transition Spac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485720" y="38862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ctor Kuarsin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 Bar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ly 27,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CA" sz="3400" spc="-1" strike="noStrike">
                <a:solidFill>
                  <a:srgbClr val="000000"/>
                </a:solidFill>
                <a:latin typeface="Arial"/>
              </a:rPr>
              <a:t>Arguments and Rebuttal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769680"/>
            <a:ext cx="89917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1001"/>
              </a:spcBef>
              <a:buClr>
                <a:srgbClr val="618ffd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T is ba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9960" indent="-169560">
              <a:lnSpc>
                <a:spcPct val="100000"/>
              </a:lnSpc>
              <a:buClr>
                <a:srgbClr val="618ffd"/>
              </a:buClr>
              <a:buSzPct val="75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feasible alternative in many cas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9960" indent="-169560">
              <a:lnSpc>
                <a:spcPct val="100000"/>
              </a:lnSpc>
              <a:buClr>
                <a:srgbClr val="618ffd"/>
              </a:buClr>
              <a:buSzPct val="75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T is also not the only use case for shared transition spa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1001"/>
              </a:spcBef>
              <a:buClr>
                <a:srgbClr val="618ffd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proposed uses of this space breaks host ope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9960" indent="-169560">
              <a:lnSpc>
                <a:spcPct val="100000"/>
              </a:lnSpc>
              <a:buClr>
                <a:srgbClr val="618ffd"/>
              </a:buClr>
              <a:buSzPct val="75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, but manageable (better then no IPv4 at al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1001"/>
              </a:spcBef>
              <a:buClr>
                <a:srgbClr val="618ffd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space could be misus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9960" indent="-169560">
              <a:lnSpc>
                <a:spcPct val="100000"/>
              </a:lnSpc>
              <a:buClr>
                <a:srgbClr val="618ffd"/>
              </a:buClr>
              <a:buSzPct val="75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not a technical argument (many technologies suffer from thi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1001"/>
              </a:spcBef>
              <a:buClr>
                <a:srgbClr val="618ffd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body will use 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9960" indent="-169560">
              <a:lnSpc>
                <a:spcPct val="100000"/>
              </a:lnSpc>
              <a:buClr>
                <a:srgbClr val="618ffd"/>
              </a:buClr>
              <a:buSzPct val="75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orrect – will be forced to solve IPv4 run 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1001"/>
              </a:spcBef>
              <a:buClr>
                <a:srgbClr val="618ffd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Ps are not grow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9960" indent="-169560">
              <a:lnSpc>
                <a:spcPct val="100000"/>
              </a:lnSpc>
              <a:buClr>
                <a:srgbClr val="618ffd"/>
              </a:buClr>
              <a:buSzPct val="75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orrect – networks are growing (endpoints / devices per us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1001"/>
              </a:spcBef>
              <a:buClr>
                <a:srgbClr val="618ffd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R and ISP Inventories not exhaus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9960" indent="-169560">
              <a:lnSpc>
                <a:spcPct val="100000"/>
              </a:lnSpc>
              <a:buClr>
                <a:srgbClr val="618ffd"/>
              </a:buClr>
              <a:buSzPct val="75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RIR and ISP inventories are at or near exhaustion. Once that happens,  it will be too late to reserve spa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9960" indent="-169560">
              <a:lnSpc>
                <a:spcPct val="100000"/>
              </a:lnSpc>
              <a:buClr>
                <a:srgbClr val="618ffd"/>
              </a:buClr>
              <a:buSzPct val="75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arlier a common Shared Transition Space is defined, the greater the benefit of standardization (heads off multiple disparate approaches that could have unintended consequence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CA" sz="3400" spc="-1" strike="noStrike">
                <a:solidFill>
                  <a:srgbClr val="000000"/>
                </a:solidFill>
                <a:latin typeface="Arial"/>
              </a:rPr>
              <a:t>Arguments and Rebuttal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770040"/>
            <a:ext cx="8991720" cy="5503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1001"/>
              </a:spcBef>
              <a:buClr>
                <a:srgbClr val="618ffd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P Shared Space uses up Invent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560" indent="-189000">
              <a:lnSpc>
                <a:spcPct val="100000"/>
              </a:lnSpc>
              <a:buClr>
                <a:srgbClr val="618ffd"/>
              </a:buClr>
              <a:buSzPct val="75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assignment vs. multiple assignments to operators for the same purpose (more efficient – less total spa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1001"/>
              </a:spcBef>
              <a:buClr>
                <a:srgbClr val="618ffd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10 is not enoug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560" indent="-189000">
              <a:lnSpc>
                <a:spcPct val="100000"/>
              </a:lnSpc>
              <a:buClr>
                <a:srgbClr val="618ffd"/>
              </a:buClr>
              <a:buSzPct val="75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not argue the need for block.  /10 still useful and operators have stated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1001"/>
              </a:spcBef>
              <a:buClr>
                <a:srgbClr val="618ffd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will not delay exhaus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560" indent="-189000">
              <a:lnSpc>
                <a:spcPct val="100000"/>
              </a:lnSpc>
              <a:buClr>
                <a:srgbClr val="618ffd"/>
              </a:buClr>
              <a:buSzPct val="75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ue, but can help reduce CGN need and solves real probl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1001"/>
              </a:spcBef>
              <a:buClr>
                <a:srgbClr val="618ffd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st Use IPv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560" indent="-189000">
              <a:lnSpc>
                <a:spcPct val="100000"/>
              </a:lnSpc>
              <a:buClr>
                <a:srgbClr val="618ffd"/>
              </a:buClr>
              <a:buSzPct val="75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Pv6 connectivity in itself does not solve IPv4 connectivity needs.  IPv6 is not ready everyw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560" indent="-189000">
              <a:lnSpc>
                <a:spcPct val="100000"/>
              </a:lnSpc>
              <a:buClr>
                <a:srgbClr val="618ffd"/>
              </a:buClr>
              <a:buSzPct val="75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IPv4 only devices and content (i.e. Consumer Electronics and home network equip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1001"/>
              </a:spcBef>
              <a:buClr>
                <a:srgbClr val="618ffd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Delays IPv6 Deployme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560" indent="-189000">
              <a:lnSpc>
                <a:spcPct val="100000"/>
              </a:lnSpc>
              <a:buClr>
                <a:srgbClr val="618ffd"/>
              </a:buClr>
              <a:buSzPct val="75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action helps direct resources to IPv6 in place of wasted time on IPv4 issu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560" indent="0">
              <a:lnSpc>
                <a:spcPct val="150000"/>
              </a:lnSpc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CA" sz="3400" spc="-1" strike="noStrike">
                <a:solidFill>
                  <a:srgbClr val="000000"/>
                </a:solidFill>
                <a:latin typeface="Arial"/>
              </a:rPr>
              <a:t>In summar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83960" y="987120"/>
            <a:ext cx="9537480" cy="5391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618ffd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need for Shared Transition Space has been highlighted repeatedly in the community (by operator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001"/>
              </a:spcBef>
              <a:buClr>
                <a:srgbClr val="618ffd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solves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re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roblems and challeng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618ffd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guments against it do not overcome the benefits (i.e. benefits outweigh the drawback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001"/>
              </a:spcBef>
              <a:buClr>
                <a:srgbClr val="618ffd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ared Spa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195120">
              <a:lnSpc>
                <a:spcPct val="100000"/>
              </a:lnSpc>
              <a:buClr>
                <a:srgbClr val="618ffd"/>
              </a:buClr>
              <a:buSzPct val="75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ld speed up IPv6 deploy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195120">
              <a:lnSpc>
                <a:spcPct val="100000"/>
              </a:lnSpc>
              <a:buClr>
                <a:srgbClr val="618ffd"/>
              </a:buClr>
              <a:buSzPct val="75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ld reduce the need for CGN deploy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195120">
              <a:lnSpc>
                <a:spcPct val="100000"/>
              </a:lnSpc>
              <a:buClr>
                <a:srgbClr val="618ffd"/>
              </a:buClr>
              <a:buSzPct val="75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ld stop global unicast space form being used in CGN environ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001"/>
              </a:spcBef>
              <a:buClr>
                <a:srgbClr val="618ffd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IN is prepared to reserve the /10 if requested to do s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50"/>
              </a:spcBef>
              <a:buClr>
                <a:srgbClr val="618ffd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IETF is asked to help the community move forward in solving these real issues and allow scarce resources to direct attention to IPv6 deployments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CA" sz="3400" spc="-1" strike="noStrike">
                <a:solidFill>
                  <a:srgbClr val="000000"/>
                </a:solidFill>
                <a:latin typeface="Arial"/>
              </a:rPr>
              <a:t>Next Steps and Action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9917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 is of the essence due to the dwindling inventory of IPv4 addr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raft-wei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be processed separately or in tandem with this draft, but the important thing to these authors is the disposition o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raft-wei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This draft could be integrated into the final RFC version o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raft-wei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desi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the right next step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) One or both drafts are taken as working group item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) One or both drafts become AD sponsor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would help drive consensus in the most expeditious manner that would best advise the IAB in the actions it should take related to ARIN-2011-5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red Transition Space Requ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9917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raft-weil-shared-transition-space-request-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ETF 8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hored B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son Weil, Chris Donley, Christopher Liljenstolpe, Marla Azinger and Victor Kuarsin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CA" sz="3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39920"/>
            <a:ext cx="8991720" cy="498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425160" indent="-425160">
              <a:lnSpc>
                <a:spcPct val="100000"/>
              </a:lnSpc>
              <a:spcBef>
                <a:spcPts val="1400"/>
              </a:spcBef>
              <a:buClr>
                <a:srgbClr val="618ffd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ors are implementing IPv6, or soon wi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5160" indent="-425160">
              <a:lnSpc>
                <a:spcPct val="100000"/>
              </a:lnSpc>
              <a:spcBef>
                <a:spcPts val="1400"/>
              </a:spcBef>
              <a:buClr>
                <a:srgbClr val="618ffd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ring the transition to IPv6, need to continue supporting IPv4 for legacy CPE equipment and IPv4-only content sites, even after IPv4 exhaus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9920" indent="0">
              <a:lnSpc>
                <a:spcPct val="100000"/>
              </a:lnSpc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5160" indent="-425160">
              <a:lnSpc>
                <a:spcPct val="100000"/>
              </a:lnSpc>
              <a:spcBef>
                <a:spcPts val="1400"/>
              </a:spcBef>
              <a:buClr>
                <a:srgbClr val="618ffd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ors need non-RFC 1918 IPv4 address space to support transition technolo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9920" indent="0">
              <a:lnSpc>
                <a:spcPct val="100000"/>
              </a:lnSpc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5160" indent="-425160">
              <a:lnSpc>
                <a:spcPct val="100000"/>
              </a:lnSpc>
              <a:spcBef>
                <a:spcPts val="1400"/>
              </a:spcBef>
              <a:buClr>
                <a:srgbClr val="618ffd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draft requests a /10 (to be supplied by ARIN per 2011-5, either directly or through IANA) be used as Shared Transition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CA" sz="3400" spc="-1" strike="noStrike">
                <a:solidFill>
                  <a:srgbClr val="000000"/>
                </a:solidFill>
                <a:latin typeface="Arial"/>
              </a:rPr>
              <a:t>Shared Transition Space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39920"/>
            <a:ext cx="8991720" cy="498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618ffd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use only by SPs to facilitate transi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618ffd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ain separate space from RFC 19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195120">
              <a:lnSpc>
                <a:spcPct val="100000"/>
              </a:lnSpc>
              <a:buClr>
                <a:srgbClr val="618ffd"/>
              </a:buClr>
              <a:buSzPct val="75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oid overlap with customer premi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618ffd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v4 address space reserved for service provide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195120">
              <a:lnSpc>
                <a:spcPct val="100000"/>
              </a:lnSpc>
              <a:buClr>
                <a:srgbClr val="618ffd"/>
              </a:buClr>
              <a:buSzPct val="75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"inside" addresses in a carrier NAT environment (e.g. between the CGN and customer CPE devices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195120">
              <a:lnSpc>
                <a:spcPct val="100000"/>
              </a:lnSpc>
              <a:buClr>
                <a:srgbClr val="618ffd"/>
              </a:buClr>
              <a:buSzPct val="75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IPv4 to IPv6 transition infrastructur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618ffd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for use behind customer NAT (e.g. in-home networ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59840" y="1125360"/>
            <a:ext cx="9517320" cy="5199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618ffd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 IETF feedback, requested /10 address space from AR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618ffd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IN willing to allocate Shared Transition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195120">
              <a:lnSpc>
                <a:spcPct val="90000"/>
              </a:lnSpc>
              <a:buClr>
                <a:srgbClr val="618ffd"/>
              </a:buClr>
              <a:buSzPct val="75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ft Policy 2011-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195120">
              <a:lnSpc>
                <a:spcPct val="90000"/>
              </a:lnSpc>
              <a:buClr>
                <a:srgbClr val="618ffd"/>
              </a:buClr>
              <a:buSzPct val="75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draft-bdgks-arin-shared-transition-space-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618ffd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618ffd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esting IETF guidance/direction per RFC 28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hanges Since IETF 79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ooter Placeholder 3"/>
          <p:cNvSpPr/>
          <p:nvPr/>
        </p:nvSpPr>
        <p:spPr>
          <a:xfrm>
            <a:off x="3384720" y="6462720"/>
            <a:ext cx="313668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IN Draft Policy 2011-5: Shared Transition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9917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raft-bdgks-arin-shared-transition-space-01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.t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ETF 8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hored b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 Barber, Owen Delong, Chris Grundemann, Victor Kuarsingh and Benson Schlies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CA" sz="3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917280"/>
            <a:ext cx="8991720" cy="540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1001"/>
              </a:spcBef>
              <a:buClr>
                <a:srgbClr val="618ffd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draft provides foundational information and support fo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raft-weil-shared-transition-space-request-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9920" indent="-181440">
              <a:lnSpc>
                <a:spcPct val="100000"/>
              </a:lnSpc>
              <a:buClr>
                <a:srgbClr val="618ffd"/>
              </a:buClr>
              <a:buSzPct val="75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usses technical merits of Shared Transition 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1001"/>
              </a:spcBef>
              <a:buClr>
                <a:srgbClr val="618ffd"/>
              </a:buClr>
              <a:buFont typeface="Courier New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raft-weil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ests the the reservation of a /10 block for Shared Transition 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1001"/>
              </a:spcBef>
              <a:buClr>
                <a:srgbClr val="618ffd"/>
              </a:buClr>
              <a:buFont typeface="Courier New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raft-shirasaki-isp-shared-add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showed need and requested space for this use in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1001"/>
              </a:spcBef>
              <a:buClr>
                <a:srgbClr val="618ffd"/>
              </a:buClr>
              <a:buFont typeface="Courier New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raft-weil-opsawg-provider-address-spa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Jul/10) followed by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raft-weil-shared-transition-space-reques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Nov/10) emphasized need and requested Shared Transition 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1001"/>
              </a:spcBef>
              <a:buClr>
                <a:srgbClr val="618ffd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IN Draft Policy 2011-5 (accepted) referred to IAB (per RFC 286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9920" indent="-181440">
              <a:lnSpc>
                <a:spcPct val="100000"/>
              </a:lnSpc>
              <a:buClr>
                <a:srgbClr val="618ffd"/>
              </a:buClr>
              <a:buSzPct val="75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AB Response – The authority to allocate space of this nature lies with the IETF Communit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9920" indent="-181440">
              <a:lnSpc>
                <a:spcPct val="100000"/>
              </a:lnSpc>
              <a:buClr>
                <a:srgbClr val="618ffd"/>
              </a:buClr>
              <a:buSzPct val="75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, this draft (and support for latest version of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raft-wei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has now been submitted for IETF review and for IESG to judge consens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2"/>
          <p:cNvSpPr/>
          <p:nvPr/>
        </p:nvSpPr>
        <p:spPr>
          <a:xfrm>
            <a:off x="501480" y="2681280"/>
            <a:ext cx="89600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CA" sz="3400" spc="-1" strike="noStrike">
                <a:solidFill>
                  <a:srgbClr val="000000"/>
                </a:solidFill>
                <a:latin typeface="Arial"/>
              </a:rPr>
              <a:t>History</a:t>
            </a:r>
            <a:endParaRPr b="0" lang="en-US" sz="34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CA" sz="3400" spc="-1" strike="noStrike">
                <a:solidFill>
                  <a:srgbClr val="000000"/>
                </a:solidFill>
                <a:latin typeface="Arial"/>
              </a:rPr>
              <a:t>Reasons for Shared Transition Spac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060200"/>
            <a:ext cx="89917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lnSpc>
                <a:spcPct val="150000"/>
              </a:lnSpc>
              <a:spcBef>
                <a:spcPts val="1199"/>
              </a:spcBef>
              <a:buClr>
                <a:srgbClr val="618ffd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6400" indent="-183240">
              <a:lnSpc>
                <a:spcPct val="150000"/>
              </a:lnSpc>
              <a:buClr>
                <a:srgbClr val="618ffd"/>
              </a:buClr>
              <a:buSzPct val="75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rier Grade NAT (most deployable transition option), Non-Overlapping with RFC 1918, Extranet, SP Services, Private Intra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6400" indent="-183240">
              <a:lnSpc>
                <a:spcPct val="150000"/>
              </a:lnSpc>
              <a:buClr>
                <a:srgbClr val="618ffd"/>
              </a:buClr>
              <a:buSzPct val="75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-RFC 1918 and for SP Use Onl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50000"/>
              </a:lnSpc>
              <a:spcBef>
                <a:spcPts val="1199"/>
              </a:spcBef>
              <a:buClr>
                <a:srgbClr val="618ffd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nefits also 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6400" indent="-183240">
              <a:lnSpc>
                <a:spcPct val="150000"/>
              </a:lnSpc>
              <a:buClr>
                <a:srgbClr val="618ffd"/>
              </a:buClr>
              <a:buSzPct val="75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ion post run-out, delay wider CGN deployment, address recovery, return or transfer, more efficient then separate allocations, standard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6400" indent="-183240">
              <a:lnSpc>
                <a:spcPct val="150000"/>
              </a:lnSpc>
              <a:buClr>
                <a:srgbClr val="618ffd"/>
              </a:buClr>
              <a:buSzPct val="75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s operators to direct resources to IPv6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8560" indent="-183240">
              <a:lnSpc>
                <a:spcPct val="150000"/>
              </a:lnSpc>
              <a:buClr>
                <a:srgbClr val="618ffd"/>
              </a:buClr>
              <a:buSzPct val="75000"/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wasting time solving IPv4 iss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50000"/>
              </a:lnSpc>
              <a:spcBef>
                <a:spcPts val="1199"/>
              </a:spcBef>
              <a:buClr>
                <a:srgbClr val="618ffd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being used by some operators (squat) with less legitimacy, and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6400" indent="0">
              <a:lnSpc>
                <a:spcPct val="150000"/>
              </a:lnSpc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6400" indent="0">
              <a:lnSpc>
                <a:spcPct val="150000"/>
              </a:lnSpc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6400" indent="0">
              <a:lnSpc>
                <a:spcPct val="150000"/>
              </a:lnSpc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CA" sz="3400" spc="-1" strike="noStrike">
                <a:solidFill>
                  <a:srgbClr val="000000"/>
                </a:solidFill>
                <a:latin typeface="Arial"/>
              </a:rPr>
              <a:t>Alternativ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9917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1199"/>
              </a:spcBef>
              <a:buClr>
                <a:srgbClr val="618ffd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FC 6319 outlined alternativ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195120">
              <a:lnSpc>
                <a:spcPct val="150000"/>
              </a:lnSpc>
              <a:buClr>
                <a:srgbClr val="618ffd"/>
              </a:buClr>
              <a:buSzPct val="75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ptions were: Global Unicast Space (multiple allocations for same use), Class E, Prefix Squatting, Consort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195120">
              <a:lnSpc>
                <a:spcPct val="150000"/>
              </a:lnSpc>
              <a:buClr>
                <a:srgbClr val="618ffd"/>
              </a:buClr>
              <a:buSzPct val="75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have same basic effect as Shared Space except add additional complexities and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buClr>
                <a:srgbClr val="618ffd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vate Address Space (RFC 191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195120">
              <a:lnSpc>
                <a:spcPct val="150000"/>
              </a:lnSpc>
              <a:buClr>
                <a:srgbClr val="618ffd"/>
              </a:buClr>
              <a:buSzPct val="75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option is known to be problematic for many deployments and often RFC 1918 is already exhaus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0">
              <a:lnSpc>
                <a:spcPct val="150000"/>
              </a:lnSpc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5T18:37:48Z</dcterms:created>
  <dc:creator>Stan O. Barber</dc:creator>
  <dc:description/>
  <cp:keywords/>
  <dc:language>en-US</dc:language>
  <cp:lastModifiedBy>Stan Barber</cp:lastModifiedBy>
  <cp:lastPrinted>2000-03-20T15:35:04Z</cp:lastPrinted>
  <dcterms:modified xsi:type="dcterms:W3CDTF">2011-07-26T22:09:33Z</dcterms:modified>
  <cp:revision>59</cp:revision>
  <dc:subject/>
  <dc:title>IETF Draft Template</dc:title>
</cp:coreProperties>
</file>