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7DD1-29DF-49CE-8394-5A90F89ED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25C5-A13F-4F46-8DC3-8BF79F54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6AEB8-E77C-4724-9607-A2598DB1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28913-420B-47BB-9321-228E6783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2985B-B24D-4E31-A4BC-5193A76A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85710-43FE-4873-8BEB-2C4AA15A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9F23B-F92A-4F6F-B64C-716B52FC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CC422-1B5B-48AF-ABED-00E56BDE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75362-D551-4C58-BC8A-F29024EA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DE91D-19DB-4985-88C3-D764AF66E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D63D7-2BF7-4340-82D2-D094C10C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B5E0E-7BCE-460E-A6F3-B05089E8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5889-338E-4158-B3AC-2FF80512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E8534-92A9-47B7-AA23-85DAF477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270CA3-CFA7-4488-9498-5580257B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B2125-44B9-4615-8F11-AB9F556D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60100-6420-4DA6-850E-B6FEE409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FD241-F684-4FA3-82E1-C3420CF2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D579E-8470-49C8-80C3-AE51AD01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D6D39A-E91D-4013-9F21-D05DC507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62DE7-5F38-48C4-BB47-938803C7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4EC65-E238-4CD2-A95E-B8CD1EAC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7DD52-453A-4262-AE92-F0798948A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C582-12AF-428A-8A8D-5753DA9D7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A6E84-861A-4B57-8324-89E04B2D8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74997-A329-48FC-AF3A-4B0309D33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7AEB9-BA97-46EE-AA89-801D8AAC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98F80-F1EA-451D-AEC3-EBAE7FCB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FE23D-4220-4FA9-BF2D-9A3DCED4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E8EDB-647A-4ADF-BC3D-E726FB48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74A7A-0B0F-47A9-A439-1583412E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FC368-CCDE-41C7-B4DF-FAF6C2AA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3CC97-F2D1-49C0-AC5C-8D9D81AB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4190B-B3E1-4D76-8DD6-D7284FA2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6F9C-DA65-41AF-9734-B1B3E77D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2BDBE-6710-423C-BCBB-8FDEA76F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0B38C-9762-4B5F-A2EF-5BAAA8E1C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52E17-4571-4381-BE08-C4AF5E3EE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4133-AF71-4742-96F3-470EC67F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A60B-F502-4AC1-879D-FC240C2A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7176-E94E-48B3-94A3-1394F041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37A8-1040-459E-A0A1-1CA01914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0195-E4D2-473A-ADBC-4747FF93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88E4-8877-4D4F-BB5B-D15CFE34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D6F9-10DA-4429-890D-05054268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3A3F-9E57-47B1-84F9-F660C13B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7D0E-E6C7-4FBB-B10A-4AE2542E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8006-11D1-41CB-BE94-01CAFC99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35BF-0B4A-4FB6-818A-D5125E79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C0B6-D8E8-494B-BCF4-82162403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FBAD8-7780-4CF3-BD97-0EFD63FC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7FF4B-A689-4A41-8A6D-F5AF533D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A4DFA-B473-4F78-9206-D1F09C61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7371F-740A-40D1-A877-0DD7040C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D7D3B-100B-4B0F-865D-DD4F2DFE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BE4F-DC9D-4878-A4C5-A415A989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E73C8-EDE3-40A2-A486-2139DEC5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12E41-FF4F-44B6-8769-61CD06B4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11BE3-04B6-47F2-94D7-64CB5C0F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3B9FC-51E6-4BA2-B253-EB9B1C9D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E02A6-8362-4868-80C3-D4E8D769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E2A29-FBCF-42DB-B713-AA9781DF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94E2A-5761-4284-AA9F-470161A0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29A97-819E-4DF2-BB31-75957643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E558D-A3B4-4FBB-9214-96C08606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ED3AE-06A8-4123-B9C4-2B17314A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F57E-4AB6-4827-9FCE-FACE3CF8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946EE-7283-44F4-98E6-09EC754B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18C15-CFC0-438D-B1D4-C5275850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5D043-152B-4024-9862-5E765267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6CF03-FD54-4C7D-9AAF-C9A58367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342A2-90D9-40BF-9D19-5952122A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F5ED7-6F93-4767-8796-2DFF8C29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10B5F-E319-49E6-9DED-DE1D55B9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C4F30-5A3A-4E42-AC31-6F3CBDC4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523D8-4DE0-4633-8A89-FD94365C9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30506-4EB3-4B2F-9349-6B24205B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2408-5236-42A0-98A9-831801FA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AA3D2-F46B-495C-896F-5344E14E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0947B-D302-4314-9674-C909397D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DD5EE-1AC4-468E-8056-D9A50747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81C75-EA23-419E-BE10-5D6F3BA6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13E42-79E3-4F8F-946E-8F353D2C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6F5CF-29C0-45A0-A1F1-AD08ED49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92657-B5E1-4A4B-ADE7-C0F847A3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202F5-9124-40C8-8F7A-EF857AEC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E9EC9-F9EC-4A8F-826D-EB5569D6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FE7C1-1E52-49BE-9781-84D5A2BB2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2BD4-0121-4C7C-9B49-5D6A3469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DF9AB-7AE1-449F-AE82-91E98F33E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A6A6E-A6AC-437F-95C0-50FDE3AC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82DCE-FC57-4294-8ED6-92752F99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B9850-60AC-482A-9E53-92BE35D8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4CE27-DB8B-4FE7-AB8A-F919628A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A4EF1-F07D-478B-A5DA-1A3EDF3D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09059-776E-4621-A96E-9FD8092B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201A9-FDB1-4F89-B91C-D3E8D1DC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A6E28-D670-4B82-B325-9FA79E04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E80A0-BEAD-4352-BCB7-18090805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786A-A089-48AC-AB1B-C6C52673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63EE3-F59A-498F-B4C5-9B5D9C0C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21A26-F6DC-42B0-BB7F-AAC7522E2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EA4F1-8D81-46C3-BB79-C750D4A5C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F4BEE-FB01-4EA3-A6A6-010BE712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F1FD0-37B3-43D6-81AA-81DC95E7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3C261-3ED9-497A-9A82-AC7B73BB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EECCB-701F-4D27-A529-2BFB4D68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C29AA-44BB-4ED2-A4AC-ECA3CD4C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3E89F-0BE4-49FB-9F6A-1FE9B1A8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0BD9C-A40E-4A5C-AD5A-EDFCA788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D665-8012-4F42-B9B9-0CE076F3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34EAD-15F7-43F3-BED9-C1F0DAE8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DF279-F6E8-497D-9BCC-3F2D22B6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B940F-E882-4E46-AF15-03011E6E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7151D-AD46-4E70-B108-DE12271E1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14FAA-EDBA-4861-A95A-8A666512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C8275-9F3A-4F46-A84A-8391039A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67C88-BEDB-4136-9253-9A5AADFF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E3A2F-562D-415C-A8B4-CCDFEF89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0ACE9-0926-44D2-88C2-7ACB5C1B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86300-5DBB-4E5A-9176-FA5A8ED3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9184-F2B1-4A5C-939B-6CB091DD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E75D1-0E67-421C-A6F9-B8821065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A71C3-4E37-4D11-A5CF-B77DAABE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4A0DE-B33E-406B-9D9F-D27C604B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32155-878E-466A-A19D-6410BCA5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89054-464E-455F-ACF8-2A860456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8D90E-7587-427E-B442-34A9E1C90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B1E0C-C3CB-4CA5-84D4-F005D33C7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23A62-BB1D-4ED5-A73A-EA1AD6B2F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8015D-881F-40A1-B81B-AB76E067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8F9EB-9CE5-4FFD-B41D-DDC86CF4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B200A5-F601-41B3-B045-198CC5A3DA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8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A19A8A-E1E1-4853-8D6B-7624918A3C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8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F141B5-E381-4047-A18B-D51B921CF5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ietflogo"/>
          <p:cNvPicPr/>
          <p:nvPr/>
        </p:nvPicPr>
        <p:blipFill>
          <a:blip r:embed="rId2"/>
          <a:stretch/>
        </p:blipFill>
        <p:spPr>
          <a:xfrm>
            <a:off x="7391520" y="29718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C9A9CE-DDEE-4C24-9884-9856B68592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414FE4-AEE0-4404-8B03-62A39B4B30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DD15A0-F855-411F-AD26-592D02D96F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14F778-40D4-43FA-B89D-0FA0B7D009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B5D34C-E36A-4A7E-9896-CE60CE1E2F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8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0BB60B-3C5D-4EFD-9736-6DCC75A944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8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1F92DD-B1E0-4B6D-8D4A-C9D304819F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8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A9162B-E76E-4EC6-8F41-D79DC68F01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image" Target="../media/image4.pct"/><Relationship Id="rId5" Type="http://schemas.openxmlformats.org/officeDocument/2006/relationships/image" Target="../media/image4.pct"/><Relationship Id="rId6" Type="http://schemas.openxmlformats.org/officeDocument/2006/relationships/image" Target="../media/image4.pct"/><Relationship Id="rId7" Type="http://schemas.openxmlformats.org/officeDocument/2006/relationships/image" Target="../media/image5.pct"/><Relationship Id="rId8" Type="http://schemas.openxmlformats.org/officeDocument/2006/relationships/image" Target="../media/image5.pct"/><Relationship Id="rId9" Type="http://schemas.openxmlformats.org/officeDocument/2006/relationships/image" Target="../media/image5.pct"/><Relationship Id="rId10" Type="http://schemas.openxmlformats.org/officeDocument/2006/relationships/image" Target="../media/image5.pct"/><Relationship Id="rId11" Type="http://schemas.openxmlformats.org/officeDocument/2006/relationships/image" Target="../media/image5.pct"/><Relationship Id="rId12" Type="http://schemas.openxmlformats.org/officeDocument/2006/relationships/image" Target="../media/image6.pct"/><Relationship Id="rId13" Type="http://schemas.openxmlformats.org/officeDocument/2006/relationships/image" Target="../media/image6.pct"/><Relationship Id="rId14" Type="http://schemas.openxmlformats.org/officeDocument/2006/relationships/image" Target="../media/image6.pct"/><Relationship Id="rId15" Type="http://schemas.openxmlformats.org/officeDocument/2006/relationships/image" Target="../media/image6.pct"/><Relationship Id="rId16" Type="http://schemas.openxmlformats.org/officeDocument/2006/relationships/image" Target="../media/image6.pct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Architectural argument for another prefix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FC 1918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prefix is used to address private networks, and therefore free public address space for use in a network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e that this was the intended use of the RFC 1918 address space: NATs had not been inven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018200" cy="83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If the address space is used for CGN: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79" name="Picture 3" descr=""/>
          <p:cNvPicPr/>
          <p:nvPr/>
        </p:nvPicPr>
        <p:blipFill>
          <a:blip r:embed="rId1"/>
          <a:stretch/>
        </p:blipFill>
        <p:spPr>
          <a:xfrm>
            <a:off x="4206960" y="1176480"/>
            <a:ext cx="4937040" cy="23479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4" descr=""/>
          <p:cNvPicPr/>
          <p:nvPr/>
        </p:nvPicPr>
        <p:blipFill>
          <a:blip r:embed="rId2"/>
          <a:stretch/>
        </p:blipFill>
        <p:spPr>
          <a:xfrm>
            <a:off x="4206960" y="3844800"/>
            <a:ext cx="4800600" cy="7128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7" descr=""/>
          <p:cNvPicPr/>
          <p:nvPr/>
        </p:nvPicPr>
        <p:blipFill>
          <a:blip r:embed="rId3"/>
          <a:stretch/>
        </p:blipFill>
        <p:spPr>
          <a:xfrm>
            <a:off x="3225960" y="5227560"/>
            <a:ext cx="1479240" cy="8985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"/>
          <p:cNvPicPr/>
          <p:nvPr/>
        </p:nvPicPr>
        <p:blipFill>
          <a:blip r:embed="rId4"/>
          <a:stretch/>
        </p:blipFill>
        <p:spPr>
          <a:xfrm>
            <a:off x="4705200" y="5227560"/>
            <a:ext cx="1479600" cy="89856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9" descr=""/>
          <p:cNvPicPr/>
          <p:nvPr/>
        </p:nvPicPr>
        <p:blipFill>
          <a:blip r:embed="rId5"/>
          <a:stretch/>
        </p:blipFill>
        <p:spPr>
          <a:xfrm>
            <a:off x="6184800" y="5227560"/>
            <a:ext cx="1479600" cy="8985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0" descr=""/>
          <p:cNvPicPr/>
          <p:nvPr/>
        </p:nvPicPr>
        <p:blipFill>
          <a:blip r:embed="rId6"/>
          <a:stretch/>
        </p:blipFill>
        <p:spPr>
          <a:xfrm>
            <a:off x="7664400" y="5227560"/>
            <a:ext cx="1479600" cy="8985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1" descr="ContentTransformationEngine"/>
          <p:cNvPicPr/>
          <p:nvPr/>
        </p:nvPicPr>
        <p:blipFill>
          <a:blip r:embed="rId7"/>
          <a:stretch/>
        </p:blipFill>
        <p:spPr>
          <a:xfrm>
            <a:off x="3792600" y="5062680"/>
            <a:ext cx="511200" cy="3362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2" descr="ContentTransformationEngine"/>
          <p:cNvPicPr/>
          <p:nvPr/>
        </p:nvPicPr>
        <p:blipFill>
          <a:blip r:embed="rId8"/>
          <a:stretch/>
        </p:blipFill>
        <p:spPr>
          <a:xfrm>
            <a:off x="5249880" y="5100480"/>
            <a:ext cx="511200" cy="3384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3" descr="ContentTransformationEngine"/>
          <p:cNvPicPr/>
          <p:nvPr/>
        </p:nvPicPr>
        <p:blipFill>
          <a:blip r:embed="rId9"/>
          <a:stretch/>
        </p:blipFill>
        <p:spPr>
          <a:xfrm>
            <a:off x="6708600" y="5140440"/>
            <a:ext cx="509760" cy="3366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4" descr="ContentTransformationEngine"/>
          <p:cNvPicPr/>
          <p:nvPr/>
        </p:nvPicPr>
        <p:blipFill>
          <a:blip r:embed="rId10"/>
          <a:stretch/>
        </p:blipFill>
        <p:spPr>
          <a:xfrm>
            <a:off x="8166240" y="5178600"/>
            <a:ext cx="511200" cy="3362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5" descr="ContentTransformationEngine"/>
          <p:cNvPicPr/>
          <p:nvPr/>
        </p:nvPicPr>
        <p:blipFill>
          <a:blip r:embed="rId11"/>
          <a:stretch/>
        </p:blipFill>
        <p:spPr>
          <a:xfrm>
            <a:off x="6453360" y="3630600"/>
            <a:ext cx="510840" cy="336600"/>
          </a:xfrm>
          <a:prstGeom prst="rect">
            <a:avLst/>
          </a:prstGeom>
          <a:ln w="0">
            <a:noFill/>
          </a:ln>
        </p:spPr>
      </p:pic>
      <p:sp>
        <p:nvSpPr>
          <p:cNvPr id="490" name="TextBox 16"/>
          <p:cNvSpPr/>
          <p:nvPr/>
        </p:nvSpPr>
        <p:spPr>
          <a:xfrm>
            <a:off x="3335040" y="60260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0.0.0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7"/>
          <p:cNvSpPr/>
          <p:nvPr/>
        </p:nvSpPr>
        <p:spPr>
          <a:xfrm>
            <a:off x="4716000" y="603720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2.16.0.0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18"/>
          <p:cNvSpPr/>
          <p:nvPr/>
        </p:nvSpPr>
        <p:spPr>
          <a:xfrm>
            <a:off x="6198480" y="602604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2.168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19"/>
          <p:cNvSpPr/>
          <p:nvPr/>
        </p:nvSpPr>
        <p:spPr>
          <a:xfrm>
            <a:off x="7920000" y="60260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0.0.0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20"/>
          <p:cNvSpPr/>
          <p:nvPr/>
        </p:nvSpPr>
        <p:spPr>
          <a:xfrm>
            <a:off x="6111720" y="40640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.?.?.?/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37" descr=""/>
          <p:cNvPicPr/>
          <p:nvPr/>
        </p:nvPicPr>
        <p:blipFill>
          <a:blip r:embed="rId12"/>
          <a:stretch/>
        </p:blipFill>
        <p:spPr>
          <a:xfrm>
            <a:off x="4273560" y="4417920"/>
            <a:ext cx="531720" cy="2811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37" descr=""/>
          <p:cNvPicPr/>
          <p:nvPr/>
        </p:nvPicPr>
        <p:blipFill>
          <a:blip r:embed="rId13"/>
          <a:stretch/>
        </p:blipFill>
        <p:spPr>
          <a:xfrm>
            <a:off x="5483160" y="4417920"/>
            <a:ext cx="531720" cy="28116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37" descr=""/>
          <p:cNvPicPr/>
          <p:nvPr/>
        </p:nvPicPr>
        <p:blipFill>
          <a:blip r:embed="rId14"/>
          <a:stretch/>
        </p:blipFill>
        <p:spPr>
          <a:xfrm>
            <a:off x="6694560" y="4417920"/>
            <a:ext cx="531720" cy="28116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37" descr=""/>
          <p:cNvPicPr/>
          <p:nvPr/>
        </p:nvPicPr>
        <p:blipFill>
          <a:blip r:embed="rId15"/>
          <a:stretch/>
        </p:blipFill>
        <p:spPr>
          <a:xfrm>
            <a:off x="7904160" y="4417920"/>
            <a:ext cx="531720" cy="281160"/>
          </a:xfrm>
          <a:prstGeom prst="rect">
            <a:avLst/>
          </a:prstGeom>
          <a:ln w="0">
            <a:noFill/>
          </a:ln>
        </p:spPr>
      </p:pic>
      <p:sp>
        <p:nvSpPr>
          <p:cNvPr id="499" name="Straight Connector 26"/>
          <p:cNvSpPr/>
          <p:nvPr/>
        </p:nvSpPr>
        <p:spPr>
          <a:xfrm flipV="1">
            <a:off x="4048200" y="4699080"/>
            <a:ext cx="490320" cy="363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traight Connector 28"/>
          <p:cNvSpPr/>
          <p:nvPr/>
        </p:nvSpPr>
        <p:spPr>
          <a:xfrm flipV="1">
            <a:off x="5505480" y="4698720"/>
            <a:ext cx="244440" cy="40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traight Connector 30"/>
          <p:cNvSpPr/>
          <p:nvPr/>
        </p:nvSpPr>
        <p:spPr>
          <a:xfrm>
            <a:off x="6959520" y="4699080"/>
            <a:ext cx="4680" cy="44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traight Connector 32"/>
          <p:cNvSpPr/>
          <p:nvPr/>
        </p:nvSpPr>
        <p:spPr>
          <a:xfrm>
            <a:off x="8170920" y="4699080"/>
            <a:ext cx="250920" cy="479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37" descr=""/>
          <p:cNvPicPr/>
          <p:nvPr/>
        </p:nvPicPr>
        <p:blipFill>
          <a:blip r:embed="rId16"/>
          <a:stretch/>
        </p:blipFill>
        <p:spPr>
          <a:xfrm>
            <a:off x="6427800" y="3267000"/>
            <a:ext cx="531720" cy="281160"/>
          </a:xfrm>
          <a:prstGeom prst="rect">
            <a:avLst/>
          </a:prstGeom>
          <a:ln w="0">
            <a:noFill/>
          </a:ln>
        </p:spPr>
      </p:pic>
      <p:sp>
        <p:nvSpPr>
          <p:cNvPr id="504" name="Straight Connector 37"/>
          <p:cNvSpPr/>
          <p:nvPr/>
        </p:nvSpPr>
        <p:spPr>
          <a:xfrm>
            <a:off x="6694560" y="3548160"/>
            <a:ext cx="14040" cy="8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-360" y="1318680"/>
            <a:ext cx="43974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networks “south” of the CGN are NAT’d and use RFC 1918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route between address spaces, they have to have separate address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, ?.?.?.?/?? Cannot be an RFC 1918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38"/>
          <p:cNvSpPr/>
          <p:nvPr/>
        </p:nvSpPr>
        <p:spPr>
          <a:xfrm>
            <a:off x="6195600" y="2116080"/>
            <a:ext cx="12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d wo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3:40:46Z</dcterms:created>
  <dc:creator>Fred Baker</dc:creator>
  <dc:description/>
  <dc:language>en-US</dc:language>
  <cp:lastModifiedBy>Scott Bradner</cp:lastModifiedBy>
  <dcterms:modified xsi:type="dcterms:W3CDTF">2011-07-27T10:49:03Z</dcterms:modified>
  <cp:revision>4</cp:revision>
  <dc:subject/>
  <dc:title>Architectural argument for another prefix</dc:title>
</cp:coreProperties>
</file>