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2F3B-E597-410B-949C-A1BEB1932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66D0-AEFF-4D5B-B039-8D9B9933F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0BC9D1-11FD-408C-9EFF-6DCEBA64E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2D255A-7E9A-4174-8CC4-A84830BA0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7A434A-DC13-4B7D-81CB-A90BC2E7E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FC8174-F34B-4FFA-B129-5FE50A9B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440947-72FC-419E-96D8-60BEFBBE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044D4E-03F1-4F31-A24A-7E202FE2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CF07D9-3C8D-4E6E-86A3-4A4BD24CC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F9B94F-D52E-45A3-8FD0-737D427AE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C004B3-3A37-463F-863C-364DBB5F5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3FF189-F849-44D5-BC07-7206C6C3E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650F-F6B5-4666-A22B-1A6575959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B754CA-8030-45E4-91A3-DE2BF9CF1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95410E-9F6D-478C-9258-FF775EC7B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933586-814F-4744-A3AD-D05B1BC2B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AB8478-4EB2-4D22-B22A-52CDDE50E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958488-1190-4D30-8A39-E6C0A223B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C4563E-12A8-481F-A22D-61AB5E6A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E898D5-F736-4041-827A-C146E949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687C46-CCC1-4BA5-9989-C03C0B26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8515BC-59FB-4E9C-8D97-A0637D1E7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B95E98-1568-4CB8-B14E-BB005689E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9A00-5088-44FB-B097-26D706AB6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D24CBA-6A55-4EAD-83AD-D6029A8D7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BFF3ED-1585-4B14-A3E9-971A32E11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47C0A7-DAFE-4FDB-8758-2D6F9BF9B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76C8A9-C4A2-4D58-86EC-17CF43DE4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2A4D1E-0DD8-44E1-9745-BED6862C8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29CDCA-66FA-427B-81FA-59FBE6BF4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EBD14B-9EDA-487E-AB45-BCD334D01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836EC7-5919-443B-BC29-3D523812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F62D44-CAFB-4F4A-8B6A-5862ED83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7E1097-CD29-49EB-9AA9-B9491EB4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DA381-F4D0-4C53-B5E6-594553075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74BFF5-2804-4419-893F-EB3F4494F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D97960-0009-42D8-866D-917ABD96F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6369E7-0B3E-4483-945E-E5EA04D28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E15F8-36B4-46AF-9EB6-9E1B054C9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C29A1-1F41-4C04-A85F-B959F706B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3E9A7-45A6-452B-89E3-CE9F37176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03E33-8681-425D-BEB4-DEB8535AF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1FC90-A6CD-45A5-911F-D5B0A400C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1D374-A254-4E02-AB54-69E2DB45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3220-8BC4-4055-8FF8-F2722D489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97E74-0E22-4681-82A5-85CBAF13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70877-56F6-4875-BCD6-0E95F536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C5357-BA8A-4111-8B27-CEE238920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620BC-76FF-4DDC-974A-B8114F225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AAA6B-E1AA-458F-8CA6-88EFB2C2B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037FA-F0E0-4609-A527-1806DC6A7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CDD33-746D-4BBB-8A2A-D8A5A4F1B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8E51F-A8EE-4D3E-BE8C-9606F97B6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CAB1E-27B5-4C42-A5F3-831DFF484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8A518-FBE6-4B8D-A1E9-8EA3DD2E7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35F0-EE6A-47D8-8E89-48AB29588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61E1B-0736-4F11-B61B-E178F0C95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929BD-6866-4B43-9D40-D56B89182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282D1-7E13-4129-AD58-B16EB834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DE62B-6D76-4E50-9469-71D00EAC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760BF-A968-4958-B736-7D3138687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D5351-02B3-4A77-941A-B941D5840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C452B-4D3E-4E09-8F2D-27C9E27EA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F3755-89A2-4E37-81DD-5A8E27C42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36BE0-71A7-4573-8482-D6B83950A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44E24-1F45-4E34-93A5-7274CD5EB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423C-3E24-4864-845B-C8B130CE6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21536-DFAD-4CAE-BB04-EFCD7AF6F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22EA9-B6D7-44CC-AAE5-BE114A6AE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380C4-ED2E-4AB1-B64E-26EBE5CBB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B0480-324D-4537-8AD7-78F81083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975C6-534A-463A-8E28-7FB8C7A6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7A8B0-B685-41D6-922A-17727311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32835-80A0-4095-A1A2-4403F84F8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BFEE4-C5D7-4597-A368-C4F6003FE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0C83C-2720-4249-9EEB-667FA39F7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BB1A8-07A2-4565-A570-BA5A07F96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68B0-2801-4322-B835-F43A69AD4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1775A-B163-4095-9C19-1E617EBC3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F0092-CDA2-4EF4-B3EC-BAD598ABC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6A3DD-D463-450A-89C3-5CFC6A9D8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8A70D-9B82-41AA-8976-C59DD0F0E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FC175-2733-4D15-B73F-8200F57C8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16D44-D547-46E1-AD2D-06728B26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B45A4-6FB8-49C8-B7C4-3A90C6C1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020BE-7FBF-4797-B2DF-6ACB4C03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19058-1DE3-4FAB-B798-F00379D5F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6B447-2413-454C-9323-F80A34FC9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761B-66DE-4EE6-8E9B-E6040E7F4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2B981-F89B-47CC-89F0-CF5C0C2D0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A31766-88DE-4EBB-B52A-FBF3AE64A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EDD56-CAA2-41D0-950C-5EC735458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1AE29-A309-49D6-BAE3-ACBFE2F9C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E9C1F-8A52-49E2-97C3-6C6535A36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CED5B-420D-49FA-8C63-981CC554A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E71E1-0910-47E2-950A-2CEF9A0C8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83213-5A52-457A-902B-2C657332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36ACE-76BC-4DF2-BA96-F792EFCE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8467B-7E29-4F58-8A53-E30DF2D6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EB12-0D6E-4D72-AD81-AC9DB236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9CDC6-A64B-4C9B-8981-84DBF4859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C9AF22-1E37-48B9-9F41-3115784A4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832EE-331C-4569-A1CB-371074A00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623ECE-C449-4B6F-998A-DAEBC13BC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242FF-0B3F-4D62-8EBE-13EB64995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86AA0-FE34-4FA1-A5A5-40EF44606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ED549-8C07-4DF9-8DA3-A28E3AC0F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D64DF-BBFA-4B26-B27C-73461425E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6733B-D53E-49CD-AD2D-4F86E106D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B90A9E-6B78-4734-9F52-D8FD5AB1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6145-E20C-4231-800B-D760ADB0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53D08D-BA7F-4CE1-A0AC-18F68A5F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47C70-5E80-48A2-B2E4-A5FB2229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03BA8A-4D6D-47E5-824E-7E61B3003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2754AA-E656-4AC4-9B0A-515A93E88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C76D53-F2E2-4A68-8311-0F0921B54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6AD03B-B793-4338-9009-BA8281376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6159AD-8FD5-4725-8EF0-F7A11974D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35AB7-FFEF-46B8-AB48-1FE890088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DFEF42-511C-4B9B-84D1-963A26120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C8370-1E49-484B-B9A0-021EDD720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6210-7AAF-40BD-A119-46BA49A5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ACC2C6-54AA-435E-9332-8BF138902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E6999-F7E4-4B66-A08F-FAF7AD12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6F6BB2-BE3A-49D6-B9AE-7A34D298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CD69C5-E0D8-498E-90F6-30224B13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A922E2-FA2E-4469-8859-4BF1C2E53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8E0C32-8F08-408F-94D8-ABC0029B0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8F0BD2-F3ED-4D66-A48A-C3D9CB3DB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AC79EB-64DC-454E-8577-E87AD402C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6B6FD9-5BB6-457E-A802-50D759200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B06C89-AE89-4824-B757-89C2FDAE2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391520" y="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7D8FED-7F3D-4E03-A972-3E19FF502B6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ietflogo"/>
          <p:cNvPicPr/>
          <p:nvPr/>
        </p:nvPicPr>
        <p:blipFill>
          <a:blip r:embed="rId2"/>
          <a:stretch/>
        </p:blipFill>
        <p:spPr>
          <a:xfrm>
            <a:off x="7391520" y="228600"/>
            <a:ext cx="1523880" cy="871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Line 2"/>
          <p:cNvSpPr/>
          <p:nvPr/>
        </p:nvSpPr>
        <p:spPr>
          <a:xfrm>
            <a:off x="7391520" y="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8" descr="ietflogo"/>
          <p:cNvPicPr/>
          <p:nvPr/>
        </p:nvPicPr>
        <p:blipFill>
          <a:blip r:embed="rId2"/>
          <a:stretch/>
        </p:blipFill>
        <p:spPr>
          <a:xfrm>
            <a:off x="7391520" y="228600"/>
            <a:ext cx="1523880" cy="87156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585F77-1475-4483-9E3E-AF58793A720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Line 2"/>
          <p:cNvSpPr/>
          <p:nvPr/>
        </p:nvSpPr>
        <p:spPr>
          <a:xfrm>
            <a:off x="7391520" y="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8" descr="ietflogo"/>
          <p:cNvPicPr/>
          <p:nvPr/>
        </p:nvPicPr>
        <p:blipFill>
          <a:blip r:embed="rId2"/>
          <a:stretch/>
        </p:blipFill>
        <p:spPr>
          <a:xfrm>
            <a:off x="7391520" y="228600"/>
            <a:ext cx="1523880" cy="8715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CBEA14-C1C9-4169-B066-8D537297F4D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ietflogo"/>
          <p:cNvPicPr/>
          <p:nvPr/>
        </p:nvPicPr>
        <p:blipFill>
          <a:blip r:embed="rId2"/>
          <a:stretch/>
        </p:blipFill>
        <p:spPr>
          <a:xfrm>
            <a:off x="7391520" y="2971800"/>
            <a:ext cx="1523880" cy="8715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B3F538-8F10-4136-8C5C-8E6467BDBC9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Line 2"/>
          <p:cNvSpPr/>
          <p:nvPr/>
        </p:nvSpPr>
        <p:spPr>
          <a:xfrm>
            <a:off x="7391520" y="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ietflogo"/>
          <p:cNvPicPr/>
          <p:nvPr/>
        </p:nvPicPr>
        <p:blipFill>
          <a:blip r:embed="rId2"/>
          <a:stretch/>
        </p:blipFill>
        <p:spPr>
          <a:xfrm>
            <a:off x="7391520" y="228600"/>
            <a:ext cx="1523880" cy="8715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87ED81-BC46-4D03-9F23-2760B20C52E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Line 2"/>
          <p:cNvSpPr/>
          <p:nvPr/>
        </p:nvSpPr>
        <p:spPr>
          <a:xfrm>
            <a:off x="7391520" y="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8" descr="ietflogo"/>
          <p:cNvPicPr/>
          <p:nvPr/>
        </p:nvPicPr>
        <p:blipFill>
          <a:blip r:embed="rId2"/>
          <a:stretch/>
        </p:blipFill>
        <p:spPr>
          <a:xfrm>
            <a:off x="7391520" y="228600"/>
            <a:ext cx="1523880" cy="8715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45705A-B627-4A70-912B-1ECA7A33477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Line 2"/>
          <p:cNvSpPr/>
          <p:nvPr/>
        </p:nvSpPr>
        <p:spPr>
          <a:xfrm>
            <a:off x="7391520" y="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8" descr="ietflogo"/>
          <p:cNvPicPr/>
          <p:nvPr/>
        </p:nvPicPr>
        <p:blipFill>
          <a:blip r:embed="rId2"/>
          <a:stretch/>
        </p:blipFill>
        <p:spPr>
          <a:xfrm>
            <a:off x="7391520" y="228600"/>
            <a:ext cx="1523880" cy="87156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CB7E66-125D-47CF-A290-2F2179E394C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Line 2"/>
          <p:cNvSpPr/>
          <p:nvPr/>
        </p:nvSpPr>
        <p:spPr>
          <a:xfrm>
            <a:off x="7391520" y="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8" descr="ietflogo"/>
          <p:cNvPicPr/>
          <p:nvPr/>
        </p:nvPicPr>
        <p:blipFill>
          <a:blip r:embed="rId2"/>
          <a:stretch/>
        </p:blipFill>
        <p:spPr>
          <a:xfrm>
            <a:off x="7391520" y="228600"/>
            <a:ext cx="1523880" cy="87156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685169-6528-4817-BC4A-5C15E1DAA7D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Line 2"/>
          <p:cNvSpPr/>
          <p:nvPr/>
        </p:nvSpPr>
        <p:spPr>
          <a:xfrm>
            <a:off x="7391520" y="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8" descr="ietflogo"/>
          <p:cNvPicPr/>
          <p:nvPr/>
        </p:nvPicPr>
        <p:blipFill>
          <a:blip r:embed="rId2"/>
          <a:stretch/>
        </p:blipFill>
        <p:spPr>
          <a:xfrm>
            <a:off x="7391520" y="228600"/>
            <a:ext cx="1523880" cy="8715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DA218B-A221-433C-93BA-C3B95CF1DAC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Line 2"/>
          <p:cNvSpPr/>
          <p:nvPr/>
        </p:nvSpPr>
        <p:spPr>
          <a:xfrm>
            <a:off x="7391520" y="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8" descr="ietflogo"/>
          <p:cNvPicPr/>
          <p:nvPr/>
        </p:nvPicPr>
        <p:blipFill>
          <a:blip r:embed="rId2"/>
          <a:stretch/>
        </p:blipFill>
        <p:spPr>
          <a:xfrm>
            <a:off x="7391520" y="228600"/>
            <a:ext cx="1523880" cy="87156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228084-47A5-4034-8607-0D194CF68F2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Line 2"/>
          <p:cNvSpPr/>
          <p:nvPr/>
        </p:nvSpPr>
        <p:spPr>
          <a:xfrm>
            <a:off x="7391520" y="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8" descr="ietflogo"/>
          <p:cNvPicPr/>
          <p:nvPr/>
        </p:nvPicPr>
        <p:blipFill>
          <a:blip r:embed="rId2"/>
          <a:stretch/>
        </p:blipFill>
        <p:spPr>
          <a:xfrm>
            <a:off x="7391520" y="228600"/>
            <a:ext cx="1523880" cy="87156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DA08C8-D28E-4F00-844B-6007AFBCC38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image" Target="../media/image4.pct"/><Relationship Id="rId4" Type="http://schemas.openxmlformats.org/officeDocument/2006/relationships/image" Target="../media/image4.pct"/><Relationship Id="rId5" Type="http://schemas.openxmlformats.org/officeDocument/2006/relationships/image" Target="../media/image4.pct"/><Relationship Id="rId6" Type="http://schemas.openxmlformats.org/officeDocument/2006/relationships/image" Target="../media/image4.pct"/><Relationship Id="rId7" Type="http://schemas.openxmlformats.org/officeDocument/2006/relationships/image" Target="../media/image5.pct"/><Relationship Id="rId8" Type="http://schemas.openxmlformats.org/officeDocument/2006/relationships/image" Target="../media/image5.pct"/><Relationship Id="rId9" Type="http://schemas.openxmlformats.org/officeDocument/2006/relationships/image" Target="../media/image5.pct"/><Relationship Id="rId10" Type="http://schemas.openxmlformats.org/officeDocument/2006/relationships/image" Target="../media/image5.pct"/><Relationship Id="rId11" Type="http://schemas.openxmlformats.org/officeDocument/2006/relationships/image" Target="../media/image5.pct"/><Relationship Id="rId12" Type="http://schemas.openxmlformats.org/officeDocument/2006/relationships/image" Target="../media/image6.pct"/><Relationship Id="rId13" Type="http://schemas.openxmlformats.org/officeDocument/2006/relationships/image" Target="../media/image6.pct"/><Relationship Id="rId14" Type="http://schemas.openxmlformats.org/officeDocument/2006/relationships/image" Target="../media/image6.pct"/><Relationship Id="rId15" Type="http://schemas.openxmlformats.org/officeDocument/2006/relationships/image" Target="../media/image6.pct"/><Relationship Id="rId16" Type="http://schemas.openxmlformats.org/officeDocument/2006/relationships/image" Target="../media/image6.pct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Architectural argument for another prefix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FC 1918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prefix is used to address private networks, and therefore free public address space for use in a network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e that this was the intended use of the RFC 1918 address space: NATs had not been inven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018200" cy="83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If the address space is used for CGN: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479" name="Picture 3" descr=""/>
          <p:cNvPicPr/>
          <p:nvPr/>
        </p:nvPicPr>
        <p:blipFill>
          <a:blip r:embed="rId1"/>
          <a:stretch/>
        </p:blipFill>
        <p:spPr>
          <a:xfrm>
            <a:off x="4206960" y="1176480"/>
            <a:ext cx="4937040" cy="234792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4" descr=""/>
          <p:cNvPicPr/>
          <p:nvPr/>
        </p:nvPicPr>
        <p:blipFill>
          <a:blip r:embed="rId2"/>
          <a:stretch/>
        </p:blipFill>
        <p:spPr>
          <a:xfrm>
            <a:off x="4206960" y="3844800"/>
            <a:ext cx="4800600" cy="71280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7" descr=""/>
          <p:cNvPicPr/>
          <p:nvPr/>
        </p:nvPicPr>
        <p:blipFill>
          <a:blip r:embed="rId3"/>
          <a:stretch/>
        </p:blipFill>
        <p:spPr>
          <a:xfrm>
            <a:off x="3225960" y="5227560"/>
            <a:ext cx="1479240" cy="89856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8" descr=""/>
          <p:cNvPicPr/>
          <p:nvPr/>
        </p:nvPicPr>
        <p:blipFill>
          <a:blip r:embed="rId4"/>
          <a:stretch/>
        </p:blipFill>
        <p:spPr>
          <a:xfrm>
            <a:off x="4705200" y="5227560"/>
            <a:ext cx="1479600" cy="89856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9" descr=""/>
          <p:cNvPicPr/>
          <p:nvPr/>
        </p:nvPicPr>
        <p:blipFill>
          <a:blip r:embed="rId5"/>
          <a:stretch/>
        </p:blipFill>
        <p:spPr>
          <a:xfrm>
            <a:off x="6184800" y="5227560"/>
            <a:ext cx="1479600" cy="89856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0" descr=""/>
          <p:cNvPicPr/>
          <p:nvPr/>
        </p:nvPicPr>
        <p:blipFill>
          <a:blip r:embed="rId6"/>
          <a:stretch/>
        </p:blipFill>
        <p:spPr>
          <a:xfrm>
            <a:off x="7664400" y="5227560"/>
            <a:ext cx="1479600" cy="8985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11" descr="ContentTransformationEngine"/>
          <p:cNvPicPr/>
          <p:nvPr/>
        </p:nvPicPr>
        <p:blipFill>
          <a:blip r:embed="rId7"/>
          <a:stretch/>
        </p:blipFill>
        <p:spPr>
          <a:xfrm>
            <a:off x="3792600" y="5062680"/>
            <a:ext cx="511200" cy="33624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12" descr="ContentTransformationEngine"/>
          <p:cNvPicPr/>
          <p:nvPr/>
        </p:nvPicPr>
        <p:blipFill>
          <a:blip r:embed="rId8"/>
          <a:stretch/>
        </p:blipFill>
        <p:spPr>
          <a:xfrm>
            <a:off x="5249880" y="5100480"/>
            <a:ext cx="511200" cy="3384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13" descr="ContentTransformationEngine"/>
          <p:cNvPicPr/>
          <p:nvPr/>
        </p:nvPicPr>
        <p:blipFill>
          <a:blip r:embed="rId9"/>
          <a:stretch/>
        </p:blipFill>
        <p:spPr>
          <a:xfrm>
            <a:off x="6708600" y="5140440"/>
            <a:ext cx="509760" cy="3366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14" descr="ContentTransformationEngine"/>
          <p:cNvPicPr/>
          <p:nvPr/>
        </p:nvPicPr>
        <p:blipFill>
          <a:blip r:embed="rId10"/>
          <a:stretch/>
        </p:blipFill>
        <p:spPr>
          <a:xfrm>
            <a:off x="8166240" y="5178600"/>
            <a:ext cx="511200" cy="33624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15" descr="ContentTransformationEngine"/>
          <p:cNvPicPr/>
          <p:nvPr/>
        </p:nvPicPr>
        <p:blipFill>
          <a:blip r:embed="rId11"/>
          <a:stretch/>
        </p:blipFill>
        <p:spPr>
          <a:xfrm>
            <a:off x="6453360" y="3630600"/>
            <a:ext cx="510840" cy="336600"/>
          </a:xfrm>
          <a:prstGeom prst="rect">
            <a:avLst/>
          </a:prstGeom>
          <a:ln w="0">
            <a:noFill/>
          </a:ln>
        </p:spPr>
      </p:pic>
      <p:sp>
        <p:nvSpPr>
          <p:cNvPr id="490" name="TextBox 16"/>
          <p:cNvSpPr/>
          <p:nvPr/>
        </p:nvSpPr>
        <p:spPr>
          <a:xfrm>
            <a:off x="3335040" y="60260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.0.0.0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17"/>
          <p:cNvSpPr/>
          <p:nvPr/>
        </p:nvSpPr>
        <p:spPr>
          <a:xfrm>
            <a:off x="4716000" y="603720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2.16.0.0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18"/>
          <p:cNvSpPr/>
          <p:nvPr/>
        </p:nvSpPr>
        <p:spPr>
          <a:xfrm>
            <a:off x="6198480" y="602604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2.168.0.0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19"/>
          <p:cNvSpPr/>
          <p:nvPr/>
        </p:nvSpPr>
        <p:spPr>
          <a:xfrm>
            <a:off x="7920000" y="60260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.0.0.0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20"/>
          <p:cNvSpPr/>
          <p:nvPr/>
        </p:nvSpPr>
        <p:spPr>
          <a:xfrm>
            <a:off x="6111720" y="40640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.?.?.?/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37" descr=""/>
          <p:cNvPicPr/>
          <p:nvPr/>
        </p:nvPicPr>
        <p:blipFill>
          <a:blip r:embed="rId12"/>
          <a:stretch/>
        </p:blipFill>
        <p:spPr>
          <a:xfrm>
            <a:off x="4273560" y="4417920"/>
            <a:ext cx="531720" cy="28116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37" descr=""/>
          <p:cNvPicPr/>
          <p:nvPr/>
        </p:nvPicPr>
        <p:blipFill>
          <a:blip r:embed="rId13"/>
          <a:stretch/>
        </p:blipFill>
        <p:spPr>
          <a:xfrm>
            <a:off x="5483160" y="4417920"/>
            <a:ext cx="531720" cy="28116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37" descr=""/>
          <p:cNvPicPr/>
          <p:nvPr/>
        </p:nvPicPr>
        <p:blipFill>
          <a:blip r:embed="rId14"/>
          <a:stretch/>
        </p:blipFill>
        <p:spPr>
          <a:xfrm>
            <a:off x="6694560" y="4417920"/>
            <a:ext cx="531720" cy="28116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37" descr=""/>
          <p:cNvPicPr/>
          <p:nvPr/>
        </p:nvPicPr>
        <p:blipFill>
          <a:blip r:embed="rId15"/>
          <a:stretch/>
        </p:blipFill>
        <p:spPr>
          <a:xfrm>
            <a:off x="7904160" y="4417920"/>
            <a:ext cx="531720" cy="281160"/>
          </a:xfrm>
          <a:prstGeom prst="rect">
            <a:avLst/>
          </a:prstGeom>
          <a:ln w="0">
            <a:noFill/>
          </a:ln>
        </p:spPr>
      </p:pic>
      <p:sp>
        <p:nvSpPr>
          <p:cNvPr id="499" name="Straight Connector 26"/>
          <p:cNvSpPr/>
          <p:nvPr/>
        </p:nvSpPr>
        <p:spPr>
          <a:xfrm flipV="1">
            <a:off x="4048200" y="4699080"/>
            <a:ext cx="490320" cy="363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traight Connector 28"/>
          <p:cNvSpPr/>
          <p:nvPr/>
        </p:nvSpPr>
        <p:spPr>
          <a:xfrm flipV="1">
            <a:off x="5505480" y="4698720"/>
            <a:ext cx="244440" cy="401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traight Connector 30"/>
          <p:cNvSpPr/>
          <p:nvPr/>
        </p:nvSpPr>
        <p:spPr>
          <a:xfrm>
            <a:off x="6959520" y="4699080"/>
            <a:ext cx="4680" cy="441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traight Connector 32"/>
          <p:cNvSpPr/>
          <p:nvPr/>
        </p:nvSpPr>
        <p:spPr>
          <a:xfrm>
            <a:off x="8170920" y="4699080"/>
            <a:ext cx="250920" cy="479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Picture 37" descr=""/>
          <p:cNvPicPr/>
          <p:nvPr/>
        </p:nvPicPr>
        <p:blipFill>
          <a:blip r:embed="rId16"/>
          <a:stretch/>
        </p:blipFill>
        <p:spPr>
          <a:xfrm>
            <a:off x="6427800" y="3267000"/>
            <a:ext cx="531720" cy="281160"/>
          </a:xfrm>
          <a:prstGeom prst="rect">
            <a:avLst/>
          </a:prstGeom>
          <a:ln w="0">
            <a:noFill/>
          </a:ln>
        </p:spPr>
      </p:pic>
      <p:sp>
        <p:nvSpPr>
          <p:cNvPr id="504" name="Straight Connector 37"/>
          <p:cNvSpPr/>
          <p:nvPr/>
        </p:nvSpPr>
        <p:spPr>
          <a:xfrm>
            <a:off x="6694560" y="3548160"/>
            <a:ext cx="14040" cy="82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-360" y="1318680"/>
            <a:ext cx="43974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ume networks “south” of the CGN are NAT’d and use RFC 1918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route between address spaces, they have to have separate addresse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fore, ?.?.?.?/?? Cannot be an RFC 1918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38"/>
          <p:cNvSpPr/>
          <p:nvPr/>
        </p:nvSpPr>
        <p:spPr>
          <a:xfrm>
            <a:off x="6195600" y="2116080"/>
            <a:ext cx="127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d woo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03:40:46Z</dcterms:created>
  <dc:creator>Fred Baker</dc:creator>
  <dc:description/>
  <dc:language>en-US</dc:language>
  <cp:lastModifiedBy>Scott Bradner</cp:lastModifiedBy>
  <dcterms:modified xsi:type="dcterms:W3CDTF">2011-07-27T10:49:03Z</dcterms:modified>
  <cp:revision>4</cp:revision>
  <dc:subject/>
  <dc:title>Architectural argument for another prefix</dc:title>
</cp:coreProperties>
</file>