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4E1D-8A6D-4529-91CB-13D030F2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5E76-A0AE-4553-BE8D-09AE6CE3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3211-389D-447B-9C82-2B7E4E87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6CC-CA38-4273-A1B9-0F1B9CD6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7AD8-2F57-48CD-BF3D-F8B01EEC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41FD-E1D7-4C40-93EB-818C7374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2B86-2DC8-4806-AF15-E1A30002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52F5-E438-42B8-B2B8-126A9B95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B834-8C95-48DB-AA11-5D5F1B87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79F4-6912-49B9-812D-3AF10FD6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4DA5-B340-4724-830C-3A2130FA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1737-6AEA-4552-9224-385B1637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897F-861E-410B-874B-A8AC50E7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C7D1-6F7C-4424-938C-A7C3F3C5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501D-6196-4898-8CAF-3978DC92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1992-3EEF-4CF0-B704-906B24CA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E51C-E44F-4C24-A8B2-1FF05EF5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D31-0652-4DEB-984E-E57BC31D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DE2-CDE4-48BB-8275-B27267C2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F55E-557F-4A97-A8BE-2113C3F6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C65D-8D11-4189-A703-9F08AADC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662F-466A-4F4E-A68B-1204FFA3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9011-BF24-4ED5-9933-61ACCE08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679-70C8-43D7-818E-85F83937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471C-A23A-4177-94B8-1DE0C64EFF3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" name="Picture 14" descr="PTL-element"/>
          <p:cNvPicPr/>
          <p:nvPr/>
        </p:nvPicPr>
        <p:blipFill>
          <a:blip r:embed="rId2"/>
          <a:stretch/>
        </p:blipFill>
        <p:spPr>
          <a:xfrm>
            <a:off x="0" y="0"/>
            <a:ext cx="253836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5" descr="PrimeTel_Translogo_300"/>
          <p:cNvPicPr/>
          <p:nvPr/>
        </p:nvPicPr>
        <p:blipFill>
          <a:blip r:embed="rId3"/>
          <a:stretch/>
        </p:blipFill>
        <p:spPr>
          <a:xfrm>
            <a:off x="179280" y="189000"/>
            <a:ext cx="1656000" cy="24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6" descr="PrimeTel_Translogo_300"/>
          <p:cNvPicPr/>
          <p:nvPr/>
        </p:nvPicPr>
        <p:blipFill>
          <a:blip r:embed="rId4"/>
          <a:stretch/>
        </p:blipFill>
        <p:spPr>
          <a:xfrm>
            <a:off x="2411280" y="5896080"/>
            <a:ext cx="6546960" cy="9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009E-F161-42D1-8949-C0F0E4B4E8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7DBA-7850-4315-A748-106ACBC83A4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000160" y="4643280"/>
            <a:ext cx="655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502800" y="52862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1143000" y="1857240"/>
            <a:ext cx="77724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Inter-Carrier OAM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draft-georgiades-opsawg-intercar-oam-req-00.t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2357280" y="3129120"/>
            <a:ext cx="5500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SAWG W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net-Dra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net Status: Information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ires: 24 November 201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thors: M. Georgiades (Primetel), F. Cugini (CNIT)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. Berechya (NSN), O. Gonzalez (TID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act: m.georgiades@ieee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2357280" y="5286240"/>
            <a:ext cx="650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G Chairs: Scott Bradner &lt;sob@harvard.edu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ris Liljenstolpe &lt;ietf@cdl.asgaard.org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ea Director:  Dan Romascanu &lt;dromasca@avaya.com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57240" y="70920"/>
            <a:ext cx="706464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Motivation</a:t>
            </a:r>
            <a:r>
              <a:rPr b="1" lang="el-G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43040" y="1117080"/>
            <a:ext cx="72151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-carrier OAM requirements are not consider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dependent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intra-carrier (single carrier) requir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s (i.e. Network Access Operators/ Network Service Providers) can becom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ottlene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OAM mechanism deployment due to e.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vacy consid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iness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 confidenti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cooperation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sk on reli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intra-domain OAM monitoring prefer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operability issues due to different transport technologies used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9D8E-6C88-4B0B-A979-8016D485237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57240" y="0"/>
            <a:ext cx="70646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Aim</a:t>
            </a:r>
            <a:r>
              <a:rPr b="1" lang="el-G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85600" y="689040"/>
            <a:ext cx="6972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upport the operational regional scope of OAM mechanism proposals e.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Technology, Single Carr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Technology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Carrier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ifferentiate between single carrier and inter-carrier OAM requir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ifferentiate Inter-Carrier requirements derived from inter-operability versus business interworking consid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ological aspects related to Inter-Carrier Inter-operability issues between e.g. IP/MPLS, MPLS-TP, Ethernet, OTN etc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ical requirements derived from Inter-Carrier business/commercial considerations i.e. to support Inter-Carrier OAM agre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B78A-22F6-417C-8B0C-74D13E56831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F1CF-22B1-4B3F-B00C-71BB1EF9478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43120" y="642960"/>
            <a:ext cx="59212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o define th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OAM Operational Area Scope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8" name="Picture 6" descr="Screenshot-7.png"/>
          <p:cNvPicPr/>
          <p:nvPr/>
        </p:nvPicPr>
        <p:blipFill>
          <a:blip r:embed="rId1"/>
          <a:srcRect l="855" t="33335" r="63282" b="34725"/>
          <a:stretch/>
        </p:blipFill>
        <p:spPr>
          <a:xfrm>
            <a:off x="1357200" y="1357200"/>
            <a:ext cx="7786800" cy="3902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999800" y="5357880"/>
            <a:ext cx="70009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ning OAM Operational Area Scope is one of the items under discussio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79360" y="571680"/>
            <a:ext cx="70642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ifferentiate between single carrier and inter-carrier OAM requirements</a:t>
            </a:r>
            <a:r>
              <a:rPr b="1" lang="el-G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85600" y="1714680"/>
            <a:ext cx="6972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raft attempts to list all single carrier, single technology requirements identified within IETF, ITU-T, MEF and IEE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paradigm is followed where requirements are split in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tect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 algn="just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 Failure bas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 algn="just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formance Degradation bas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over the draft wants to addre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OAM vs Service OAM where the latter will be of interest for end-to-end inter-carrier service scenar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332C-09C4-4B08-8503-D40AF37C2CF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22280" y="356760"/>
            <a:ext cx="706428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Inter Carrier OAM Requirements addressed so far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00120" y="1332000"/>
            <a:ext cx="750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. Inter-carrier OAM system should be supported by MEs that are handled by different operators (carriers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. Inter-carrier OAM system should provide in-service reliable means to the network service providers (NSPs) to prove, in case of failure, which is the failing transit carrier or transit NSP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. Inter-carrier OAM system should provide optional in-service notification messages that could be used to inform on-path service NSPs of other on-path NSPs service degradatio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. Inter-carrier OAM system should provide reliable means to measure an NSP's out-of-service provisioning duration; such measurement could be agreed by all involved partie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 Inter-carrier OAM should provide means for confidentiality and privacy between involved carrier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. Inter-carrier OAM should have the option of disclosing information forwarded by transit NSPs that are not involved under the same inter-carrier OAM agreeme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142D-DA42-40BA-BB1B-E3BF611E79E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79360" y="428760"/>
            <a:ext cx="70642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ome questions an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Open Issues from the mailing lis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28840" y="1571760"/>
            <a:ext cx="750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 the OAM system can monitor QoS Degradation at the different carrier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 we propose OAM monitoring points at interconnection points in a multi-operator scenari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 the OAM system is informed by the QoS-enabled network transport service on performance degradatio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ll the draft is on requirements, it doesn’t propose an OAM solution or mechanism as such. These questions are of interest however and should be examined for possible further inter-carrier OAM requirements.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90B5-5095-4E2B-B2E0-8E6550F724C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7717-60AB-403E-A016-B151FC7F907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9" descr="dimoi1"/>
          <p:cNvPicPr/>
          <p:nvPr/>
        </p:nvPicPr>
        <p:blipFill>
          <a:blip r:embed="rId1"/>
          <a:stretch/>
        </p:blipFill>
        <p:spPr>
          <a:xfrm>
            <a:off x="2700360" y="2133720"/>
            <a:ext cx="4897440" cy="3673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0160" y="214200"/>
            <a:ext cx="69436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Thank you !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20:42:22Z</dcterms:created>
  <dc:creator>BigBoy</dc:creator>
  <dc:description/>
  <dc:language>en-US</dc:language>
  <cp:lastModifiedBy>Michael Georgiades (PrimeTel)</cp:lastModifiedBy>
  <dcterms:modified xsi:type="dcterms:W3CDTF">2011-07-27T08:06:07Z</dcterms:modified>
  <cp:revision>234</cp:revision>
  <dc:subject/>
  <dc:title>Slide 1</dc:title>
</cp:coreProperties>
</file>