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C17E-1502-4ADC-80FD-D865F693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5B8C-81FE-42A8-86AA-B58F51EF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2AC4-B47A-4369-ACFD-C166B2F7C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477E-943B-4D86-A6A7-CA4802B7C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51CA-6A3F-4576-BCBB-AAE89132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A586-5860-4EF7-8125-792D2637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14AD-307E-4E3B-B642-428802BD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6FDA-7E70-47F5-AB53-714ABFCE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CFAE-A150-45B4-9B48-6FF044D5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0FA7-329F-4D67-9300-179999C0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A17F-5855-4FA3-864B-91159933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46F8-E223-4317-8814-0CE59EEC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308B-727C-4352-B035-96427AF7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962F-EAFD-4A24-BFC5-BCB94D54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B3B7-4F72-41DC-A4C8-9556F9DF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9A06-B69A-4BA7-8489-D6DB3CBFE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DC11-58DE-4EF9-BCB0-02BACF09E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27D2-0B84-4F88-B445-F615DBD4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90A0-1E26-4227-8A4C-45826153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66FD-2E6B-44BD-A717-8F377316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8CF4-7B8E-4C7F-81D8-39665BAC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E07A-215F-4C05-89B6-B567F6F6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E190-7C11-4860-851F-1EC5ADAC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7026-319B-457A-9998-8E34E075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5244-CE56-4EAE-8A24-AC248A1DCCA0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" name="Picture 14" descr="PTL-element"/>
          <p:cNvPicPr/>
          <p:nvPr/>
        </p:nvPicPr>
        <p:blipFill>
          <a:blip r:embed="rId2"/>
          <a:stretch/>
        </p:blipFill>
        <p:spPr>
          <a:xfrm>
            <a:off x="0" y="0"/>
            <a:ext cx="253836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5" descr="PrimeTel_Translogo_300"/>
          <p:cNvPicPr/>
          <p:nvPr/>
        </p:nvPicPr>
        <p:blipFill>
          <a:blip r:embed="rId3"/>
          <a:stretch/>
        </p:blipFill>
        <p:spPr>
          <a:xfrm>
            <a:off x="179280" y="189000"/>
            <a:ext cx="1656000" cy="242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6" descr="PrimeTel_Translogo_300"/>
          <p:cNvPicPr/>
          <p:nvPr/>
        </p:nvPicPr>
        <p:blipFill>
          <a:blip r:embed="rId4"/>
          <a:stretch/>
        </p:blipFill>
        <p:spPr>
          <a:xfrm>
            <a:off x="2411280" y="5896080"/>
            <a:ext cx="6546960" cy="9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B9BA-84FB-43A8-BFCA-61B69A4522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BA9C-8559-4DE8-B3D7-EE81943EE2F4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2000160" y="4643280"/>
            <a:ext cx="6553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502800" y="52862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1143000" y="1857240"/>
            <a:ext cx="777240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Inter-Carrier OAM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draft-georgiades-opsawg-intercar-oam-req-00.t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2357280" y="3129120"/>
            <a:ext cx="55008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SAWG W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net-Draf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net Status: Information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ires: 24 November 201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uthors: M. Georgiades (Primetel), F. Cugini (CNIT)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. Berechya (NSN), O. Gonzalez (TID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act: m.georgiades@ieee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2357280" y="5286240"/>
            <a:ext cx="6500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G Chairs: Scott Bradner &lt;sob@harvard.edu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ris Liljenstolpe &lt;ietf@cdl.asgaard.org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ea Director:  Dan Romascanu &lt;dromasca@avaya.com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57240" y="70920"/>
            <a:ext cx="706464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Motivation</a:t>
            </a:r>
            <a:r>
              <a:rPr b="1" lang="el-GR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643040" y="1117080"/>
            <a:ext cx="72151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-carrier OAM requirements are not consider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ndependent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intra-carrier (single carrier) requir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s (i.e. Network Access Operators/ Network Service Providers) can becom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ottlene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OAM mechanism deployment due to e.g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 algn="just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vacy consider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 algn="just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iness iss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 algn="just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ormation confidenti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 algn="just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cooperation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 algn="just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sk on reli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 algn="just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intra-domain OAM monitoring prefere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 algn="just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operability issues due to different transport technologies used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 algn="just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E568-53C9-40A1-B5EA-42BD0CB1C324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57240" y="0"/>
            <a:ext cx="706464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Aim</a:t>
            </a:r>
            <a:r>
              <a:rPr b="1" lang="el-GR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85600" y="689040"/>
            <a:ext cx="6972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support the operational regional scope of OAM mechanism proposals e.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 algn="just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Technology, Single Carr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 algn="just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Technology Enviro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 algn="just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Carrier Enviro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ifferentiate between single carrier and inter-carrier OAM requir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ifferentiate Inter-Carrier requirements derived from inter-operability versus business interworking consider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 algn="just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hnological aspects related to Inter-Carrier Inter-operability issues between e.g. IP/MPLS, MPLS-TP, Ethernet, OTN etc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 algn="just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hnical requirements derived from Inter-Carrier business/commercial considerations i.e. to support Inter-Carrier OAM agreem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 algn="just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2BED-4957-4B52-A7E1-EC3E4CA01E72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B7E3-6B13-43D0-BDB1-5FF093AD17EA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643120" y="642960"/>
            <a:ext cx="592128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To define th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OAM Operational Area Scope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8" name="Picture 6" descr="Screenshot-7.png"/>
          <p:cNvPicPr/>
          <p:nvPr/>
        </p:nvPicPr>
        <p:blipFill>
          <a:blip r:embed="rId1"/>
          <a:srcRect l="855" t="33335" r="63282" b="34725"/>
          <a:stretch/>
        </p:blipFill>
        <p:spPr>
          <a:xfrm>
            <a:off x="1357200" y="1357200"/>
            <a:ext cx="7786800" cy="39020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999800" y="5357880"/>
            <a:ext cx="70009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ining OAM Operational Area Scope is one of the items under discussio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79360" y="571680"/>
            <a:ext cx="706428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Differentiate between single carrier and inter-carrier OAM requirements</a:t>
            </a:r>
            <a:r>
              <a:rPr b="1" lang="el-GR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785600" y="1714680"/>
            <a:ext cx="6972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raft attempts to list all single carrier, single technology requirements identified within IETF, ITU-T, MEF and IEE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paradigm is followed where requirements are split in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just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tect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just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 algn="just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k Failure bas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 algn="just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formance Degradation bas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over the draft wants to addres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just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OAM vs Service OAM where the latter will be of interest for end-to-end inter-carrier service scenari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7E30-5F49-439D-A579-3E442D020151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22280" y="356760"/>
            <a:ext cx="706428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Inter Carrier OAM Requirements addressed so far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00120" y="1332000"/>
            <a:ext cx="750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. Inter-carrier OAM system should be supported by MEs that are handled by different operators (carriers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. Inter-carrier OAM system should provide in-service reliable means to the network service providers (NSPs) to prove, in case of failure, which is the failing transit carrier or transit NSP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. Inter-carrier OAM system should provide optional in-service notification messages that could be used to inform on-path service NSPs of other on-path NSPs service degradation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. Inter-carrier OAM system should provide reliable means to measure an NSP's out-of-service provisioning duration; such measurement could be agreed by all involved partie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 Inter-carrier OAM should provide means for confidentiality and privacy between involved carrier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. Inter-carrier OAM should have the option of disclosing information forwarded by transit NSPs that are not involved under the same inter-carrier OAM agreemen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5FE1-E71B-4D3F-BB6D-51408FBDC198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79360" y="428760"/>
            <a:ext cx="706428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ome questions an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Open Issues from the mailing lis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428840" y="1571760"/>
            <a:ext cx="750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w the OAM system can monitor QoS Degradation at the different carrier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 we propose OAM monitoring points at interconnection points in a multi-operator scenari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w the OAM system is informed by the QoS-enabled network transport service on performance degradation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ll the draft is on requirements, it doesn’t propose an OAM solution or mechanism as such. These questions are of interest however and should be examined for possible further inter-carrier OAM requirements.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D716-A56B-4B3F-B80D-87BB8A2BE5FC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7439-FFCF-4BEB-A628-F31E12AFFB0F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9" descr="dimoi1"/>
          <p:cNvPicPr/>
          <p:nvPr/>
        </p:nvPicPr>
        <p:blipFill>
          <a:blip r:embed="rId1"/>
          <a:stretch/>
        </p:blipFill>
        <p:spPr>
          <a:xfrm>
            <a:off x="2700360" y="2133720"/>
            <a:ext cx="4897440" cy="36734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00160" y="214200"/>
            <a:ext cx="69436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Thank you !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20:42:22Z</dcterms:created>
  <dc:creator>BigBoy</dc:creator>
  <dc:description/>
  <dc:language>en-US</dc:language>
  <cp:lastModifiedBy>Michael Georgiades (PrimeTel)</cp:lastModifiedBy>
  <dcterms:modified xsi:type="dcterms:W3CDTF">2011-07-27T08:06:07Z</dcterms:modified>
  <cp:revision>234</cp:revision>
  <dc:subject/>
  <dc:title>Slide 1</dc:title>
</cp:coreProperties>
</file>