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88188" cy="9053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88400" cy="90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87000" y="684000"/>
            <a:ext cx="4513320" cy="338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87360" y="68436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artial-topology LSA option of OSPF-MDR is called min-cost LSAs and is described in Appendix C of RFC 5614.  Note that this makes sense for single-hop networks only if multiple interfaces are considered.  Some simplification of this method may be possible for single-hop networ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87360" y="68436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1040" y="4302000"/>
            <a:ext cx="5203800" cy="4073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first property on this slide is similar to both OSPF and draft-nsheth-ospf-hybrid-bcast-and-p2mp, but differs significantly from draft-retana-ospf-manet-single-hop, which results in a more random selection of adjacenc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772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1928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7720"/>
            <a:ext cx="250236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99760" y="171360"/>
            <a:ext cx="791532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772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19280"/>
            <a:ext cx="37926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7720"/>
            <a:ext cx="7772400" cy="21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3360" y="1036800"/>
            <a:ext cx="5486400" cy="74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192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62160" y="654516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SPF-MDR - </a:t>
            </a:r>
            <a:fld id="{3E3CC5C9-465E-484D-A839-11CC6A50C2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Use of OSPF-MDR in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ngle-Hop Broadcast Networks</a:t>
            </a:r>
            <a:br>
              <a:rPr sz="2400"/>
            </a:b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raft-ogier-ospf-manet-single-hop-00</a:t>
            </a:r>
            <a:endParaRPr b="1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8468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ard Og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 Tom Hend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28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5640" y="55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mplified Procedure for Selecting Neighbors to Advertise in LSAs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0444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sing full LSAs, OSPF-MDR includes in its router-LSA point-to-point links for all fully adjacent neighbors, and all bidirectional neighbors tha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ighbor is routable if the SPT calculation has produced a route to the neighbor.  (A flexible quality condition may also be requi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gle-hop networks, the following alternative procedure may be used, which avoids having to update the set of routable neighb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DR includes in its router-LSA a point-to-point (type 1) link for each fully adjacent neighbor.  (Note that the MDR becomes adjacent with all of its neighb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n-MDR router includes in its router-LSA a point-to-point link for each fully adjacent neighbor, and, if the router is fully adjacent with the MDR, for each bidirectional neighbor j such that the MDR's router-LSA includes a link to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Discussion of Alternative LSA Procedure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15520"/>
            <a:ext cx="6235560" cy="47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procedure implies that router i advertises a link to neighbor j only if router i is fully adjacent with the MDR, and the MDR is fully adjacent with router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router j will advertise a link to router i only if it is fully adjacent with the MDR and the MDR is fully adjacent with router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since the SPT calculation allows routers i and j to use each other as next hops only if they both advertise links to each other, the new procedure ensures that routers i and j are fully synchronized before they use each other as next h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procedure corresponds to LSAFullness = 5, and is interoperable with the other LSA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ilar (but not equivalent) procedure was proposed in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55000" y="2722680"/>
            <a:ext cx="382320" cy="39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56440" y="3844800"/>
            <a:ext cx="382680" cy="3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a1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93040" y="3035160"/>
            <a:ext cx="711000" cy="63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65960" y="311112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543800" y="3822840"/>
            <a:ext cx="6476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72360" y="3576600"/>
            <a:ext cx="382680" cy="3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implified MDR Selection Algorithm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1776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DR selection algorithm of OSPF-MDR becomes much simpler in a single-hop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ing algorithm is similar to the DR election algorithm of OSPF, but not exactly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ingle MDR is selected, but two BMDRs are selected so that the MDR/BMDR backbone is biconn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in an OSPF broadcast network, the number of resulting adjacencies is O(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ingle-hop network, the simplified algorithm described in the draft is equivalent to (and interoperable with) the full MDR selection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DR election algorithm of OSPF can instead be used in single-hop networks if agreed by all routers. This would require a separate interface type for single-hop networ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nclusions and Discussion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is an extension of OSPF that provides scalable routing in MANETs.  In particular, it can be applied to single-hop broadcast networks in which different costs are assigned to different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configuration settings are specified, and properties of OSPF-MDR are described when used in a single-hop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implified procedures are specified when OSPF-MDR is used in a single-hop network.  These procedures are optional, and are interoperable with unmodified OSPF-M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network includes both (multihop) MANET interfaces and single-hop broadcast interfaces, then OSPF-MDR can be used for both interfa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f the network includes only single-hop broadcast interfaces, a simpler solution is possible, e.g.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ial-topology LSA option of OSPF-MDR may be useful in single-hop networks, to reduce LSA size and improve 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roblem Statement and Background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8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support single-hop broadcast networks in which different costs are associated with different neighbors on the sam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example is when the underlying radio system performs layer-2 routing, but has a different number of (layer-2) hops to (layer-3)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-to-multipoint interface uses a point-to-point (Type 1) link to describe each fully adjacent neighbor, but is not scalable since every neighbor must become fully adja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SPF-MANET extensions already solve this problem, since a single-hop broadcast network is a special case of a M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solution for solving this problem is proposed in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ummary of Presentation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5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(RFC 5614) extends OSPF to support MANET interfaces in a scalable manner, and therefore provides an efficient solution for single-hop broadcast networks without any mod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w optional simplifications are possible in single-hop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procedure for originating router-LSA that avoids checking whether a neighbor is rou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MDR selection algorithm, which is similar to the DR election algorithm of OSP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above simplifications and recommended configuration, OSPF-MDR provides a solution similar to draft-nsheth-ospf-hybrid-bcast-and-p2mp-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OSPF-MDR Approach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79600"/>
            <a:ext cx="797544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uses the Designated Router (DR) and Backup DR to achieve scalability in broadcast networks, by requiring each non-DR/BDR router to form only two adjacencies (with the DR and BD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-MDR generalizes the DR and BDR to multihop wireless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R is generalized by selecting a small subset of routers, calle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NET Designated Rou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MDR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form a connected dominating set (C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kup MDRs (BMDR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also selected so that the MDRs and BMDRs together form a biconnected dominating s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Rs achieve scalability in MANETs similar to the way DRs achieve scalability in broadcast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Rs have primary responsibility for flooding LSAs.  Backup MDRs provide backup flooding when MDRs f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jacency redu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y be used, in which adjacencies are formed only between MDR/BMDR routers and their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Basic Idea – Generalize Designated Router to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ANET Designated Routers (MDRs)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377720"/>
            <a:ext cx="4648320" cy="16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00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 OSPF broadcast network, a single DR (</a:t>
            </a:r>
            <a:r>
              <a:rPr b="0" lang="en-US" sz="1600" spc="-1" strike="noStrike">
                <a:solidFill>
                  <a:srgbClr val="fa1017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router becomes adjacent with the DR, forming a tree with n-1 ed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2760" y="3441600"/>
            <a:ext cx="453384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multihop wireless network, the DR generalizes to multip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fa1017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which form a connected dominating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Rs select themselves based on 2-hop neighbor information obtained from modified hello pac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cies are formed between MDRs to form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nected backb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n-MDR becomes adjacent with an MDR neighbor called 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8840" y="3225960"/>
            <a:ext cx="3924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18120" y="11365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8120" y="383544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Also Generalize Backup Designated Router for Biconnected Redundancy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7960" y="1390680"/>
            <a:ext cx="4648320" cy="158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 OSPF broadcast network, a Backup DR 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dded for redunda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DR Other becomes adjacent with the DR and the Backup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2760" y="3543480"/>
            <a:ext cx="4533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multihop wireless network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up MD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re added to form a biconnected dominating se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MDRs perform backup flooding for improved robustn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tional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dditional adjacencies may be added to form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iconnected backb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each MDR Other may become adjacent with a second (Backup) MDR neighbor called 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kup Par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8840" y="3213000"/>
            <a:ext cx="3924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18120" y="11365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18120" y="383544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Features of OSPF-MDR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Rs and BMDRs are elected based on 2-hop neighbor information obtained from modified Hello pa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acency reduction is used (the default), adjacencies are formed between MDRs so as to for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ed backb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An option (AdjConnectivity = 2) allows for additional adjacencies to be formed between MDRs/BMDRs to for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connected backb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n-MDR router becomes adjacent with an MDR called i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optionally (if AdjConnectivity = 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 adjacent with another MDR or BMDR called 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ckup Pa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router advertises connections to its neighbor routers as point-to-point links in its router-LS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-LSAs are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full-topology LSA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ial-topology L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used to reduce the size of router-LSAs.  Such LSAs are formatted as standard LSAs, but advertise links to only a subset of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ly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ial Hel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, which reduce overhead by reporting only changes in neighbor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roperties of OSPF-MDR in a Single-Hop Network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8720" y="141552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acency reduction and full-topology LSAs are used, OSPF-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on a single-hop broadcast network has the following 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MDR is selected, which becomes adjacent with every other route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 to OSP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djConnectivity = 2 (biconnected), every non-MDR/BMDR router becomes adjacent with a BMDR in addition to the MD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 to OSP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BMDRs are selected.  This occurs because the MDR selection algorithm ensures that the MDR/BMDR backbone is bi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ll adjacencies are in Full state, the router-LSA for each router includes point-to-point (type 1) links to all bidirectional neighbors (in state 2-Way or grea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9760" y="171360"/>
            <a:ext cx="79153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nfiguration in a Single-Hop Broadcast Network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8720" y="14288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OSPF-MDR is used in a single-hop broadcast network,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 settings and options (defined in RFC 5614) should be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jConne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qual to 2 (biconnected), MAY be equal to 1 (uniconnected), and SHOULD NOT be equal to 0 (full topolog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djacency SHOULD be eliminated if neither the router nor the neighbor is an MDR or BMDR (see Section 7.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AFull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qual to 4 or 5 so that full-topology LSAs are originated. (The value 5 is a new option for single-hop network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75"/>
              </a:spcAft>
              <a:buClr>
                <a:srgbClr val="0033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AFull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equal to 1 (min-cost LSAs) if full-topology LSAs are not required.  This option reduces the number of advertised links while still providing shortest paths. (See Appendix C of RFC 5614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4T17:02:02Z</dcterms:created>
  <dc:creator>Richard Ogier</dc:creator>
  <dc:description/>
  <dc:language>en-US</dc:language>
  <cp:lastModifiedBy> Richard Ogier</cp:lastModifiedBy>
  <cp:lastPrinted>2001-12-09T17:36:31Z</cp:lastPrinted>
  <dcterms:modified xsi:type="dcterms:W3CDTF">2011-07-27T00:48:57Z</dcterms:modified>
  <cp:revision>906</cp:revision>
  <dc:subject/>
  <dc:title>MANET Extension of OSPF</dc:title>
</cp:coreProperties>
</file>