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590-D628-4DF2-BAB8-E377CDAC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64D-E8D1-4FA5-AE8D-73573070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886-1779-405B-B73D-D14BC8CC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455-F778-406A-931F-89099E12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AD4-E6C5-4E86-8B09-E0232F2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A4F-1635-4BA9-8954-8B675DE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0E5-AA98-4C67-9D15-FB4E8A3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58B-FC13-4680-97A6-29FD327D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952-DF17-4177-8A97-ED0AAAC1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5B7-0F74-4F38-ACD9-9B8918F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B3C-1AC1-477B-8796-3584E076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394-899C-4F4C-9092-6B55104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5693-0B45-4243-B7FD-62DDF277F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PF Hybrid Broadcast and P2MP Interface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chal Sheth, Lili Wang, 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th IETF,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resented in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lls on mailing list for WG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xplicit support on the applicability an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bjection in the first poll, citing M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d offline at 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gu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and solution are independent of M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bjection in the second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Broadcas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etric for differen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M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per-nb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using broadcast network procedur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based adjacency &amp;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for WG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lug one hole pointed out by Richard in the nex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nhance on three aspects (which were already pointed out in 7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rt of WG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nk Local Signaling to sig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vents adjacency with a non-supporting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traffic may not traverse certain pairs of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real/big problem if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sistent loop/black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LS to signal information for neighbors to deriv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other way to get per-nbr metric other than 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ayer protocol, e.g. RFC 5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routers connecting to a switch at 100M, 1G, 10G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dvertising their speed via 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 (100M) derives metric 100 for all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outers derive metric 100 for rout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B (1G) derive 10 for router C/D (10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10 for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/D (10G) derives metric 1 for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ments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default metric, and additionally “odd” metrics that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per-neighbor (reduce from O(N^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ll routers to change 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20:44:11Z</dcterms:created>
  <dc:creator>zzhang</dc:creator>
  <dc:description/>
  <dc:language>en-US</dc:language>
  <cp:lastModifiedBy>zzhang</cp:lastModifiedBy>
  <dcterms:modified xsi:type="dcterms:W3CDTF">2011-07-27T02:57:47Z</dcterms:modified>
  <cp:revision>56</cp:revision>
  <dc:subject/>
  <dc:title>OSPF Hybrid Broadcast and P2MP Interface Type</dc:title>
</cp:coreProperties>
</file>