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CF6-2F31-43FB-9C1A-CD62181E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01B-C882-49F3-BC33-67A71E07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C3C-95C7-426C-8664-DEFCAA1C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501-6198-42A6-B5FB-3C8E0FF3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8F1-7B34-4FC5-B6B0-0F5D81F6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9D8-95F8-4084-B0BC-C38F53A3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E72-AB41-4F38-9930-E8E3793A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60F-127F-4152-B580-4B0AC87E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AAF-2D70-4578-9FB9-C0B27A10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ACAE-B604-4085-90C9-6A1BC489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D7EC-E06F-46FE-9C44-4EE20157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20AB-0531-41E3-BF8D-54E5633E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F822-C8AA-47A7-8455-AB3A4F56A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PF Hybrid Broadcast and P2MP Interface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38095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schal Sheth, Lili Wang, Jeffrey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ip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th IETF, Quebec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ly presented in Beij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lls on mailing list for WG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xplicit support on the applicability an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bjection in the first poll, citing M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ved offline at 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agu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and solution are independent of MA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bjection in the second p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Broadcast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metric for different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M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sing per-nbr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using broadcast network procedure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/BDR based adjacency &amp; flo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for WG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lug one hole pointed out by Richard in the next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enhance on three aspects (which were already pointed out in 7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ET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art of WG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ments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ink Local Signaling to sig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vents adjacency with a non-supporting neigh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traffic may not traverse certain pairs of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real/big problem if not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sistent loop/black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ments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LS to signal information for neighbors to derive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nother way to get per-nbr metric other than 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layer protocol, e.g. RFC 55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routers connecting to a switch at 100M, 1G, 10G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dvertising their speed via 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A (100M) derives metric 100 for all rou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routers derive metric 100 for route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B (1G) derive 10 for router C/D (10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C/D (10G) derives 10 for router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C/D (10G) derives metric 1 for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ments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sing default metric, and additionally “odd” metrics that are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 per-neighbor (reduce from O(N^2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ll routers to change 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20:44:11Z</dcterms:created>
  <dc:creator>zzhang</dc:creator>
  <dc:description/>
  <dc:language>en-US</dc:language>
  <cp:lastModifiedBy>zzhang</cp:lastModifiedBy>
  <dcterms:modified xsi:type="dcterms:W3CDTF">2011-07-27T02:57:47Z</dcterms:modified>
  <cp:revision>56</cp:revision>
  <dc:subject/>
  <dc:title>OSPF Hybrid Broadcast and P2MP Interface Type</dc:title>
</cp:coreProperties>
</file>