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2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590D-1814-49FD-BC8A-38F7290512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78D9-66E3-4090-A55E-15E28DF59A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0A30-83FB-4B35-838D-F974977CB1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9BA9-F033-4926-BBA8-E412D9EC4F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BD02-B0F1-47A5-A6D2-9F92225CC2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63E7-DAD9-4512-A7C7-ECE8D463EB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8DD8-E5D7-4ED1-98B5-588954A7F7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3A5F-D5A6-409E-9E39-15B6693A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CD21-E2A2-488F-9688-66382045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9472-7B21-4C93-887B-99D72E2AB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415E-6C6F-4472-99C8-A98F238A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5C59-FB92-4CFA-87C5-BBA6D53FB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8FFB-3C0A-42DA-9630-E1FDC09B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FD71-A882-412E-A00E-46A7ED65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EC70-D558-45D7-8A37-2BD08FDB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4C2C-941D-4369-8F6B-7471CFFF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1A0F-A4B9-45AA-8DB6-EE3B9BAB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B8F6-D163-492D-9E4E-4F556B05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E7DC-6B45-4AEE-BA5A-F45CA93D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DD55-F535-401A-BDB0-062AA576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4D4A-6657-416D-A18C-80C3BA1C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9541-D38E-4CFA-BDDF-F49BE7C6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97FF-9B46-4655-A456-179BF20BC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A2FB-A8D3-4BDF-9D0C-8C1AC02AD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4B7AC6-D2B0-4A60-A555-9421940342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CC557F-5F4A-4FD1-961E-CEA34442B39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7A3804-74B9-4198-9EC7-7C9FE2CC29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4D8226-8DC7-4361-9B25-1A1C2DCF37C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6C9780-44BC-44AD-8EED-57D461C603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8367-7E1F-4A03-9976-C4136D0A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3C7F31-EC6A-4B9C-B4E6-33750969AFF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130BE9-0273-4274-AD77-A2EE947498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D44ACF-1BF4-4ECF-A89B-B71D578DCAE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B1F934-9688-456B-9EA1-0CEDA69F1DF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B48A2F-AA2E-40AC-90F9-FB2FCB11D71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B98AC7-4103-4818-A311-7718F6D5C83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4E1F1B-BFAE-4901-B80A-948F145CFA7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D9FF8F-7925-445C-8EF8-3491B47DC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945C8A-0DB2-4622-83DA-6FAC8F54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356A64-3E04-4127-8B70-63E4D34B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113B-C0B2-410C-9655-084B79BA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00E647-1083-4A87-AA3A-9AF1A5A6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CCFFEF-86D2-43B9-96EF-92BA66A3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DBB975-E50C-4C1A-B19A-83DFBF46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902978-78B3-4E2E-A35C-14D33367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A8FBD4-CAD4-4F0D-972D-B2FD6BE7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959577-F807-479F-8173-3D8886D3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F77045-8BAA-4162-B280-61564100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07293E-B9E8-4B8D-890E-B155F850E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159701-0EF6-4060-8CE5-8C846ADF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058DD5-3C67-4D5D-88CD-EA37D8DA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1740-80B5-4024-AEDB-E584CC00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746A8D-F2C6-41E8-AAD8-05D6A39F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ABB3D4-92E5-4E14-9F0C-E2F1E6E0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512441-91F9-4AF5-B2B8-1137DE5C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F91812-5402-4053-B6D6-33686973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2F00D8-61E0-4851-AF80-DBD61EF7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E2E08F-F016-44A6-AA42-4DC17C93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852165-4DE9-4068-B97F-F9D4C3C3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9A4524-BCC6-44C2-8F22-EC635493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7235A0-34FB-438A-8242-35DDB985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E404C5-26BB-42FF-87C8-B77A7E565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5B4E-0DF8-4EFD-B8F8-AB342D98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C05E0B-FC55-4928-B8C0-1F5799F36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500FFB-A871-4F59-A8A8-2D22128F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67C38B-D877-41B1-A6F1-2E443A08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007035-35DF-4C31-8FAE-9D71E675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A14A7B-184C-47BD-A9E0-F4F1871D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4A96B0-B8A9-4E6F-8055-3AB52336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600E35-AE95-4B5D-9096-9C9C591D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B6A7DE-8C1E-469C-A4E7-43C88C4C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207F73-EFAF-43CA-938C-7E7D7336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29F7DC-1C09-4A12-A489-0828D0D8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1657-F2B1-4036-A3D0-2ABAB9CC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B356E7-A8D5-4D11-B374-A26710B9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FDA70F-1759-458D-B533-4CE80F86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EF250E-FF94-4245-AF94-33C63455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53FF-9291-4637-9971-D3E525DE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CADE-DA57-4BDA-AE3D-985C08D6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E504-A14B-481A-9D91-179F01BD6E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3D09-8DC9-4EBB-BC66-D5E73D2BDD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4"/>
          <p:cNvSpPr/>
          <p:nvPr/>
        </p:nvSpPr>
        <p:spPr>
          <a:xfrm>
            <a:off x="304920" y="6324480"/>
            <a:ext cx="2819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draft-giacalone-ospf-te-express-path-01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4228-1E72-49F8-A740-E8B7EEAB1D85}" type="slidenum">
              <a:rPr b="0" lang="en-US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4C11-E821-4291-86BB-B690E19FB2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54A9-CDB8-4625-965E-A920ACF10C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5436-09BD-45A8-9700-91A1DCBA68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SPF Traffic Engineering (TE) Express Path Updates</a:t>
            </a:r>
            <a:br>
              <a:rPr sz="4000"/>
            </a:br>
            <a:br>
              <a:rPr sz="4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aft-giacalone-ospf-te-express-path-01.txt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85800" y="5105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98989"/>
                </a:solidFill>
                <a:latin typeface="Arial"/>
              </a:rPr>
              <a:t>Spencer Giacalone, Alia Atlas, John Drake, Stefano Previdi, Dave 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294920"/>
            <a:ext cx="5029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SPF TE Express Path Automatically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distribu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network performance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from measurement protocols  and “application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at IETF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d to version 01 on May 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6" descr="IETF_Stack_Diagram.gif"/>
          <p:cNvPicPr/>
          <p:nvPr/>
        </p:nvPicPr>
        <p:blipFill>
          <a:blip r:embed="rId1"/>
          <a:stretch/>
        </p:blipFill>
        <p:spPr>
          <a:xfrm>
            <a:off x="5273640" y="1981080"/>
            <a:ext cx="3537000" cy="3210120"/>
          </a:xfrm>
          <a:prstGeom prst="rect">
            <a:avLst/>
          </a:prstGeom>
          <a:ln w="0">
            <a:noFill/>
          </a:ln>
        </p:spPr>
      </p:pic>
      <p:sp>
        <p:nvSpPr>
          <p:cNvPr id="2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0B4C-90B8-45B3-9D99-C6078E2AEF63}" type="slidenum">
              <a:rPr b="0" lang="en-US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fficiency Upd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olidated some sub-TLVs for effici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nger have nominal and anomalous sub-TLV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dy and abnormal state data carried in two sub-TLVs (where we used to have fou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malous (A) bit added to consolidated sub-TL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s whether the update pertains to normal or abnormal network performance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it is set when configured threshold(s) exc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bit clear, sub-TLV represents steady state link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B43F-93F2-432C-AFBE-B991C554F662}" type="slidenum">
              <a:rPr b="0" lang="en-US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ncoding Upd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d encodings of the variables in delay and jitter  sub-TLVs from floating point to integ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reserved bit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space for A bit (when necessa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s common TLV structure across most sub-TLVs in the d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fied how values are to be interpreted and added detail on units of measurement to address concerns about granularity and interop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6E6E-EE9A-4686-80E0-FD6DBB286993}" type="slidenum">
              <a:rPr b="0" lang="en-US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tructural Upd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sub-TLVs for Residual Bandwidth and Available Bandwid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al bandwidth is the Maximum Bandwidth [RFC3630] minus the bandwidth currently allocated to RSVP-TE LS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le bandwidth is the residual bandwidth (above) minus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asur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ndwidth used for forwarding non-RSVP-TE LSP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B3CF-726B-4578-AEB2-87118B57F977}" type="slidenum">
              <a:rPr b="0" lang="en-US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ther Upd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various clarifications across the d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around thresholds and aver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a section on network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ed minimum inter-update t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d with CCAMP working group that OSPF encodings will remain in OSPF Express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d to review CCAMP draft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36F3-F466-4F23-BC2D-2B6A63EFFD7B}" type="slidenum">
              <a:rPr b="0" lang="en-US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6DED-F93A-4F88-90D4-CDB64F7C838B}" type="slidenum">
              <a:rPr b="0" lang="en-US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295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 OSPF WG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e d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cations based on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IS-IS TE Express Path dra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application drafts (e.g. weighted EC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8" descr="Stack.jpg"/>
          <p:cNvPicPr/>
          <p:nvPr/>
        </p:nvPicPr>
        <p:blipFill>
          <a:blip r:embed="rId1"/>
          <a:stretch/>
        </p:blipFill>
        <p:spPr>
          <a:xfrm>
            <a:off x="2438280" y="3733920"/>
            <a:ext cx="41864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0880" y="23623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IETF 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DF54-4F51-4064-8876-0B1055A130E0}" type="slidenum">
              <a:rPr b="0" lang="en-US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0:11:10Z</dcterms:created>
  <dc:creator>spencer.giacalone</dc:creator>
  <dc:description/>
  <dc:language>en-US</dc:language>
  <cp:lastModifiedBy>spencer.giacalone</cp:lastModifiedBy>
  <dcterms:modified xsi:type="dcterms:W3CDTF">2011-07-20T20:09:54Z</dcterms:modified>
  <cp:revision>84</cp:revision>
  <dc:subject/>
  <dc:title>OSPF Traffic Engineering (TE) Express Path  draft-giacalone-ospf-te-express-path-00.txt</dc:title>
</cp:coreProperties>
</file>