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dt" idx="1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 type="sldNum" idx="2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12F3D-2A71-476D-BB21-75AB5C1AB1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8B276-3A6D-4D4A-A6C4-12AEBD9AB3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013DE-63D2-4641-B0D7-B2F7B53AD6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93480-105F-4FA7-8F63-EC858B96F0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6AEB5-FCBA-415C-BE3F-EB37920351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B148F-27D0-4938-901C-0924683FEF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5581D-FA1D-4C76-968C-07BE53C232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5590-2D88-4961-8657-D7B1C4CC5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2DA6-B6A9-4179-9AE0-AE75A4107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DFCF-940E-4031-BDB8-62DC7584E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7626-61BF-489D-B464-901A917E9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16A07-991B-40DA-9F5A-8978526E9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E5DAD-E2AF-46B2-8318-F720C11EC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17749-B68D-4366-9ABC-5FB363399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A6ABF-EAC5-4033-A3D8-2A289D5DA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638EB-E1BE-4A6C-BE04-66FC1DC29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EEA3D-5B3A-44FB-ABCC-D70FF288C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70245-2E7E-46DD-ACF8-C6CF390E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A55B-26A2-47E3-BD85-DC4295504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F6A54-6D0E-4560-BA7F-D109C89F3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740B1-CD3E-416C-ACC7-09CC1ACED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F19D5-8459-490D-965B-0DA8979B4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2624C-B177-4990-9956-E2EC4D580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BECA8-30A5-4F1F-9DEC-CD6D548B1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6AF05B-7214-4998-AA96-5DF3E5354EE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F0983B-E430-45A2-935D-91DBE30978F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9770F5-8E78-4B72-B9C0-177A26ED15D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E7BDB3-31C6-4478-A5D4-FFEEBB12543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C05884-675C-4482-8F79-AC28129195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6EC9-434A-447A-BEA8-A2E11C824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1F4494-B7C2-4E28-B0CC-56519E3994B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956DA3-84B7-4F55-8B3F-23E48488402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C58689-D2E4-4282-8D8B-151CA55B5B1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C935D1-A307-40F8-B9F4-711AD348634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F7D7C6-9D38-4352-9281-59CB327B443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EB9B6E-1D6F-4512-BB1D-EB0FCBBB5AA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C03E9E-4077-4A76-AD0B-9A87D185221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3860DC-194C-41B8-BDBA-ECEDAB38D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BEC7A2-35AF-40EE-9B2E-466F26CE9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F9AF38-BD7E-46C7-BFD6-43EFAB2AE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F3CE-18C0-4745-A3F9-F30C58EA3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2A5B20-482C-43F1-85C3-09F79B205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3292C8-C5BB-4269-82DF-AD31D60A5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2F0A40-6632-47BA-ABA5-2734EF528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D0C724-3C6E-4558-AE83-C7A2E754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B2713F-45E7-4064-8DC2-76E91809B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9F66FE-D9D9-4CE8-BE6B-D1F53B825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AF1C87-1A59-43FC-AD92-E9C17C47F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DB39E3-FDAF-493C-AC1A-E312CE763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8523A2-B3AA-4399-8318-922892A00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0D4FA8-6DF1-42DD-AD5D-E9EA0DE64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6FB2-15DF-49EE-8D2E-7112F7A5F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024889-6499-48E4-9DE2-32FD1A100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4B5D2C-547F-4FC6-9EA7-176350935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21A8D0-53C7-4B1D-B683-C10E3606A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20CF14-A425-447A-B12A-421D075BC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706FF0-59B0-4FE6-80F9-132B498B9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5C361C-0CFE-4814-AF01-DFEF98FC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B1C467-6E5E-40A0-A44C-F686823B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8044B4-502C-473E-B071-AE5853AB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DB7B17-738A-49A5-8E70-EA764E2FD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66CE48-CC85-4EC0-939A-42C142072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D2FE-92D9-486E-A365-A4F168017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861686-8460-4527-AE0C-7CC5A2858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AC2BA8-7363-4DD3-A6F8-D4ADB9850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6A24D0-D833-492A-B137-761EFC05B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35585B-45D6-4E49-BBEB-17667E154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041360-6E89-4E8C-86AD-A42BBBB19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A85CD2-85EE-4B67-B3BE-6743DED32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D5E7BA-DBCB-4BC8-92F6-C24BF0824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17F448-E053-4667-B3C1-058224B4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223BEB-B55A-4845-BC43-8BC5A9C36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48CE93-8CD7-4CC9-A488-016826385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CD08-EAD3-4095-B0DF-D02498018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E66094-300F-4D31-AB4F-3A85FBF6C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40A8A7-73EB-46F5-8032-5F86ADECB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EC8BB8-9023-4CE5-BCAB-EA42A468D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D37D-1702-4165-A77F-26C682171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71A7-E4CE-4775-BAD4-0E333D43C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ETF 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28C58-D92D-49D8-A6E7-0771962D26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ETF 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FBAF5-BA6A-4699-B7F2-36268B7D7B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ooter Placeholder 4"/>
          <p:cNvSpPr/>
          <p:nvPr/>
        </p:nvSpPr>
        <p:spPr>
          <a:xfrm>
            <a:off x="304920" y="6324480"/>
            <a:ext cx="2819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Arial"/>
                <a:ea typeface="Arial"/>
              </a:rPr>
              <a:t>draft-giacalone-ospf-te-express-path-01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IETF 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4FD1E-E3F1-4F82-B696-6F280C950E28}" type="slidenum">
              <a:rPr b="0" lang="en-US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ETF 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C60B0-9EDB-46F0-BD76-04B3E640E4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ETF 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4CAF5-C06F-4126-92E9-470B62685A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ETF 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D26C1-292E-4A7D-A923-FAEBBE12E2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OSPF Traffic Engineering (TE) Express Path Updates</a:t>
            </a:r>
            <a:br>
              <a:rPr sz="4000"/>
            </a:br>
            <a:br>
              <a:rPr sz="4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raft-giacalone-ospf-te-express-path-01.txt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4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685800" y="51051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98989"/>
                </a:solidFill>
                <a:latin typeface="Arial"/>
              </a:rPr>
              <a:t>Spencer Giacalone, Alia Atlas, John Drake, Stefano Previdi, Dave W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IETF 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04920" y="1294920"/>
            <a:ext cx="5029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SPF TE Express Path Automatically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distribu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network performance 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pendent from measurement protocols  and “application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d at IETF 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d to version 01 on May 3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6" descr="IETF_Stack_Diagram.gif"/>
          <p:cNvPicPr/>
          <p:nvPr/>
        </p:nvPicPr>
        <p:blipFill>
          <a:blip r:embed="rId1"/>
          <a:stretch/>
        </p:blipFill>
        <p:spPr>
          <a:xfrm>
            <a:off x="5273640" y="1981080"/>
            <a:ext cx="3537000" cy="3210120"/>
          </a:xfrm>
          <a:prstGeom prst="rect">
            <a:avLst/>
          </a:prstGeom>
          <a:ln w="0">
            <a:noFill/>
          </a:ln>
        </p:spPr>
      </p:pic>
      <p:sp>
        <p:nvSpPr>
          <p:cNvPr id="25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85058-2C63-4027-A8A5-CF0956214562}" type="slidenum">
              <a:rPr b="0" lang="en-US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Efficiency Upd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olidated some sub-TLVs for efficien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longer have nominal and anomalous sub-TLV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ady and abnormal state data carried in two sub-TLVs (where we used to have four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malous (A) bit added to consolidated sub-TLV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cates whether the update pertains to normal or abnormal network performance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bit is set when configured threshold(s) exc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 bit clear, sub-TLV represents steady state link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IETF 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EB67F-03CF-4B3C-AA65-D69EF421A796}" type="slidenum">
              <a:rPr b="0" lang="en-US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Encoding Upd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2952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d encodings of the variables in delay and jitter  sub-TLVs from floating point to integ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s reserved bit-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space for A bit (when necessa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its common TLV structure across most sub-TLVs in the dra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rified how values are to be interpreted and added detail on units of measurement to address concerns about granularity and interoper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IETF 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93754-560E-4448-B170-6D34475A1DE7}" type="slidenum">
              <a:rPr b="0" lang="en-US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tructural Upd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295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sub-TLVs for Residual Bandwidth and Available Bandwid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dual bandwidth is the Maximum Bandwidth [RFC3630] minus the bandwidth currently allocated to RSVP-TE LSP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ailable bandwidth is the residual bandwidth (above) minus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easur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andwidth used for forwarding non-RSVP-TE LSP pac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IETF 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F4551-0F2B-4771-81E4-D334489C20CE}" type="slidenum">
              <a:rPr b="0" lang="en-US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Other Upd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295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de various clarifications across the dra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ly around thresholds and avera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ed a section on network s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ed minimum inter-update t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reed with CCAMP working group that OSPF encodings will remain in OSPF Express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reed to review CCAMP draft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IETF 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6E9FE-D30D-4E77-B921-F252A85CA8F4}" type="slidenum">
              <a:rPr b="0" lang="en-US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Next Step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IETF 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532B2-887D-4035-AEC3-B19038861307}" type="slidenum">
              <a:rPr b="0" lang="en-US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2952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e OSPF WG ad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se dra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ications based on feed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 IS-IS TE Express Path draf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 application drafts (e.g. weighted ECM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8" descr="Stack.jpg"/>
          <p:cNvPicPr/>
          <p:nvPr/>
        </p:nvPicPr>
        <p:blipFill>
          <a:blip r:embed="rId1"/>
          <a:stretch/>
        </p:blipFill>
        <p:spPr>
          <a:xfrm>
            <a:off x="2438280" y="3733920"/>
            <a:ext cx="41864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80880" y="23623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IETF 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75586-1CED-4325-96B0-A931E19A7D97}" type="slidenum">
              <a:rPr b="0" lang="en-US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20:11:10Z</dcterms:created>
  <dc:creator>spencer.giacalone</dc:creator>
  <dc:description/>
  <dc:language>en-US</dc:language>
  <cp:lastModifiedBy>spencer.giacalone</cp:lastModifiedBy>
  <dcterms:modified xsi:type="dcterms:W3CDTF">2011-07-20T20:09:54Z</dcterms:modified>
  <cp:revision>84</cp:revision>
  <dc:subject/>
  <dc:title>OSPF Traffic Engineering (TE) Express Path  draft-giacalone-ospf-te-express-path-00.txt</dc:title>
</cp:coreProperties>
</file>