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0730-30B5-4853-B853-666AC31FB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C95B-3254-44CC-B56F-E2537F062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4F17-30CE-425D-8091-85D5BEE69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50EA-80B1-41D0-B8D3-92B8523EC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013E-9F18-4796-9C78-CDADA0AC7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05BB-370F-4C2D-A0DF-3BDE0976D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AC2D-BB69-45F7-9773-049DF4C2C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2A0B-F7D7-4F01-BE2E-AA24DAC38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C92E-7D11-4FBB-AEC1-3031651A0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6E37-4700-4918-90BF-B32A76772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3B19-E968-4671-AEA4-A14C8532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7C67-E1DC-4AA6-933C-9C7A2AE3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69D2-AC4F-4924-97C3-15E640288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0B98-1A8A-4E9D-83CB-684E7544D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C951-63EB-431B-9E51-F47902C0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BB44-0EA3-4A0A-AC8A-610CDDCF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3504-6E23-4238-AF76-36416C95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1BF8-782A-49E5-9555-7FB64EAC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DC16-1A46-4209-B6D8-3196B423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5DA5-FAC0-4FBD-BFB9-34C5B951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BC5C-56E7-49B4-961C-118B6485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109E-F17D-41E3-B01F-1ABBC73F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7081-8BC9-4E5F-BEA5-41F6C827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6B4B-F52E-4EC1-B248-E78023A2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65A0-AF0B-4333-8154-A8CE2A55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B249-F40E-431C-947A-665B68C5D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7104-0EF0-440E-9393-45E8F5F01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E7F0-58DA-4DA2-82E9-417DCBAB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5C58-E89E-46B0-B9C3-297C544F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ED91-8BB7-4D5F-9861-129EDE49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32C6-CC87-4F64-8372-75772490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8299-A3BD-4C0A-9599-826A95E3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2949-F98C-4CB0-8479-F01FDA62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38BD-4B8E-4F75-9364-EEA94DB8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ABCC-DFDD-4EBC-9C38-DE411FA4FA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40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1" descr="ietflogo"/>
          <p:cNvPicPr/>
          <p:nvPr/>
        </p:nvPicPr>
        <p:blipFill>
          <a:blip r:embed="rId2"/>
          <a:stretch/>
        </p:blipFill>
        <p:spPr>
          <a:xfrm>
            <a:off x="7391520" y="29718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0B3C-781F-4DEC-A42C-51F4364632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Security Extension for OSPFv2 Using Manual Key Managemen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-228600" y="29714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av Bhatia, Alcatel Luc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m Hartman, Painless 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cheng Zhang, Huawei Techn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ee Lindem, Ericsson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raft 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s new OSPFv2 AuthType for backward compatibility – Value of 3 suggested to IAN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s OSPFv2 sequence number from 32 bits to 64 bits and partitions the sequence number spa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s keys selection rules with respect to draft-ietf-karp-crypto-key-table-00.tx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s IP source address with cryptographic has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quence Number Extension (1/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228600" y="13716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sequence number weak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tonically incre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32 bits – no provision for router rest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uthType Sequenc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ctly incre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4 bits – 32 bits of boot count and 32 bits of sequenc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d out of OSPFv2 header auth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t Cou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ed in non-volatile storage for the life of the deployed rou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mented each time OSPF router loses its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lso be incremented if low order sequence number wr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 Number is incremented for every OSPFv2 packet sen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quence Number Extension (2/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r drops packet if received packet’s sequence number is not greater than previously received OSPF packet of same type – handles prioritization of hellos and ack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4 bit sequence number follows OSPF packet but before authentication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fit in OSPFv2 h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n OSPFv2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d in IP packet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quence Number Extension (3/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38088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ping to Database of Long-Lived Symmetric Cryptographic Keys &lt;draft-ietf-karp-crypto-key-table-01.txt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Mapping for Unicast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problem with virtual lin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Mapping for Multicast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Mapping for Rece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 on usefulness of this section or normative reference to key database draf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ey Selection Rules Mapping Key Database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"/>
          <p:cNvSpPr/>
          <p:nvPr/>
        </p:nvSpPr>
        <p:spPr>
          <a:xfrm>
            <a:off x="38088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unprotected – Source IP address used by OSPFv2 for OSPF router identification on broadcast and NBMA networ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 Source Address replaces Apad in cryptographic authentication as described in RFC 5709, section 3.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ad is a hexadecimal constant value 0x878FE1F3 repeated (L/4) times, where L is the length of the hash in byt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P Source Address Protec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38088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ion Forthco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if Key Selection useful in the context of this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and discussion on the OSPF li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xt Step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38088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view of Proposed Chang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066680" y="1523880"/>
            <a:ext cx="7696440" cy="49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       1                   2                   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0 1 2 3 4 5 6 7 8 9 0 1 2 3 4 5 6 7 8 9 0 1 2 3 4 5 6 7 8 9 0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Version #  |     Type        |         Packet length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Router ID    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Area ID     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Checksum            |             AuType (3)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0               | Auth Data Len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Key ID        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OSPF Protocol Packet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~                                                               ~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Sequence Number (Boot Count)      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Sequence Number (Strictly Increasing Packet Counter)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~                     Authentication Data                       ~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5T19:59:58Z</dcterms:created>
  <dc:creator>Vishwas Manral</dc:creator>
  <dc:description/>
  <cp:keywords>Crypto</cp:keywords>
  <dc:language>en-US</dc:language>
  <cp:lastModifiedBy>Acee Lindem</cp:lastModifiedBy>
  <dcterms:modified xsi:type="dcterms:W3CDTF">2011-07-15T20:30:45Z</dcterms:modified>
  <cp:revision>164</cp:revision>
  <dc:subject>Crypto Auth for ISIS</dc:subject>
  <dc:title>IS-IS WG</dc:title>
</cp:coreProperties>
</file>