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005-9E26-4D25-B4D4-5BADADA2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A02-0098-4A86-9358-DC49FAAB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715-D982-41E3-B6DE-F4D25359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9E54-558F-4EC6-AFB0-3F5B3422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4D5C-2CEA-4066-BF0B-89997E2A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1F1-5B8C-4C12-A0EC-5A8F21C3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0D65-E7FF-4EAC-A88B-3EBDF85DF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ED1-BA5E-47BC-9464-0D7975B5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27A4-3DE8-44DA-8A83-CA14BE22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02E-3C69-4654-B507-04CE1EA19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CA9-07E0-4414-AB0C-6F5FC457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C70-7DA5-4DC9-9B36-907A54D8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EF9-DAE4-4309-A56A-C747DC2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2C4-FE27-4CC5-870D-9D297563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B4BF-0226-4A1C-A714-21140C3D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43E3-54CF-4CCF-8184-8CB924B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2B10-379A-4BE3-AF4A-891847C9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F13-0986-42D5-BC6C-5010573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FBC1-6955-4227-90D7-42E8A93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E04-084C-41ED-86CE-5242B49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104-05E3-4C3E-BF0D-5EC9871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361-1619-4B4F-90BA-A2D8C029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5021-E289-469C-968B-C272EB3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30C0-B1E6-436C-9263-C333621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AE2-D020-405D-97BB-0E5B4EE1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ACAB-A8D3-4AEC-945E-EEFA23B1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83E0-444C-4B11-AF7B-FA0F61DF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73D-7C40-4765-9CF8-EEB28865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5CF-C73B-4D87-A067-4CF354F8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9CF-C00C-4075-84BD-4991021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D5B-9BFA-4133-B0E4-7DC76DA1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155-189C-4F7C-958A-94D6FE6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C7F-16EE-47C7-9084-9B1F0DF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5D3-99FC-410C-A538-418BC7D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A92-A6D8-4327-8581-2CAD93DAE6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140-DA6B-4442-A851-DD1E0F180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urity Extension for OSPFv2 Using Manual Key Managem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v Bhatia, Alcatel Lu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Hartman, Painless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cheng Zhang, Huawei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new OSPFv2 AuthType for backward compatibility – Value of 3 suggested to IA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OSPFv2 sequence number from 32 bits to 64 bits and partitions the sequence numbe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keys selection rules with respect to draft-ietf-karp-crypto-key-table-00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IP source address with cryptographic ha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3716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equence numbe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2 bits – no provision for router re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hTyp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s – 32 bits of boot count and 32 bits of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ut of OSPFv2 header au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in non-volatile storage for the life of the deployed ro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ed each time OSPF router loses its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cremented if low order sequence number w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 is incremented for every OSPFv2 packet s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drops packet if received packet’s sequence number is not greater than previously received OSPF packet of same type – handles prioritization of hellos and a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 sequence number follows OSPF packet but before authentic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fit in OSPFv2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OSPFv2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IP packet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to Database of Long-Lived Symmetric Cryptographic Keys &lt;draft-ietf-karp-crypto-key-table-01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Un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roblem with virtual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Mult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usefulness of this section or normative reference to key database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Selection Rules Mapping Key Databa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unprotected – Source IP address used by OSPFv2 for OSPF router identification on broadcast and NBMA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ource Address replaces Apad in cryptographic authentication as described in RFC 5709, section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d is a hexadecimal constant value 0x878FE1F3 repeated (L/4) times, where L is the length of the hash in by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P Source Address Pro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Forth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Key Selection useful in the context of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discussion on the OSPF 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 of Proposed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66680" y="1523880"/>
            <a:ext cx="7696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Version #  |     Type        |         Packet length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Router ID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Area ID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Checksum            |             AuType (3)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0               | Auth Data Len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Key ID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OSPF Protocol Packet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            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Boot Count)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Strictly Increasing Packet Counter)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Authentication Data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9:59:58Z</dcterms:created>
  <dc:creator>Vishwas Manral</dc:creator>
  <dc:description/>
  <cp:keywords>Crypto</cp:keywords>
  <dc:language>en-US</dc:language>
  <cp:lastModifiedBy>Acee Lindem</cp:lastModifiedBy>
  <dcterms:modified xsi:type="dcterms:W3CDTF">2011-07-15T20:30:45Z</dcterms:modified>
  <cp:revision>164</cp:revision>
  <dc:subject>Crypto Auth for ISIS</dc:subject>
  <dc:title>IS-IS WG</dc:title>
</cp:coreProperties>
</file>