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C5CC-D509-4D85-A9B3-B427D5C55A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5EF9-CFC1-456A-A05C-CECE3E3EEA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4D0-E775-4630-9231-050FFD75AD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7F0C-ED74-41A6-83B4-326ACE7585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4440" y="714240"/>
            <a:ext cx="4577040" cy="34322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5480" y="4360680"/>
            <a:ext cx="503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770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9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1960" y="1341000"/>
            <a:ext cx="7929720" cy="48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838" TargetMode="External"/><Relationship Id="rId2" Type="http://schemas.openxmlformats.org/officeDocument/2006/relationships/hyperlink" Target="http://tools.ietf.org/html/draft-ietf-ospf-mt-ospfv3-03.tx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ls.ietf.org/search/rfc534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51960" y="4005360"/>
            <a:ext cx="7929720" cy="183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an Cheng (dean.cheng@huawei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hamed Boucadair (mohamed.boucadair@orange-ftgroup.com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IETF Quebec Cit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670040"/>
            <a:ext cx="79293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outing IPv4-Embedded IPv6 Pack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raft-ietf-ospf-ipv4-embedded-ipv6-routing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Forwarding IPv4-Embedded IPv6 Packe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AFXLB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header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 614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IP/ICMP Translation Algorithm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According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6052</a:t>
            </a:r>
            <a:r>
              <a:rPr b="1" lang="en-US" sz="1600" spc="-1" strike="noStrike">
                <a:solidFill>
                  <a:srgbClr val="000000"/>
                </a:solidFill>
                <a:latin typeface="FrutigerNext LT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v6 prefix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ll known IPv6 prefix 64::FF9B::/96, or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-specific IPv6 prefix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other IPv6 route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iving packets with IPv4-embedded IPv6 addresses are forwarded along on           IPv4-embedded IPv6 topology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U handl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Recommendation – AFXLTR to run PMTU (RFC1981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Next Step …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821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s would like to solicit comments with discussion on mailing list at this time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update the draft accordingly late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tatus Updat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ft-cheng-ospf-ipv4-embedded-ipv6-routing-01 was presented in Beijing meeting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osed as an informational RFC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suggestion from Acee was  incorporated into 02 text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were solicited from BEHAVE/SOFTWIRE WG chairs and Joel Halpern with some discussions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no opposition to the draft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 clarifications were made during discussion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3 text was published afterward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opted as OSPF WG document shortly after Prague meeting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ere some support on the mailing list during the WG poll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ft-ietf-ospf-ipv4-embedded-ipv6-routing-00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e-mail exchange (Nagendra Kumar) on the mailing list recently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me Terminologi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otes an IPv6 address which contains an embedded 32-bit IPv4 address constructed according to the rules defined in: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FC605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Pv6 Addressing of IPv4/IPv6 Transla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packets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packets with destination addresses as IPv4-embedded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XLBR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Family Translation Border Router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s to a border router which is located at the boundary of an IPv6-only network and an IPv4-only network, supports both IPv4 and IPv6 address family, and performs IPv4-IPv6 header translation per RFC6145 (IP/ICMP Translation Algorith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Proble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2800" y="5003640"/>
            <a:ext cx="1625400" cy="990360"/>
            <a:chOff x="3052800" y="5003640"/>
            <a:chExt cx="1625400" cy="990360"/>
          </a:xfrm>
        </p:grpSpPr>
        <p:sp>
          <p:nvSpPr>
            <p:cNvPr id="170" name=""/>
            <p:cNvSpPr/>
            <p:nvPr/>
          </p:nvSpPr>
          <p:spPr>
            <a:xfrm>
              <a:off x="3052800" y="500364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5200" y="5308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8360" y="1955880"/>
            <a:ext cx="1625400" cy="990360"/>
            <a:chOff x="468360" y="1955880"/>
            <a:chExt cx="1625400" cy="990360"/>
          </a:xfrm>
        </p:grpSpPr>
        <p:sp>
          <p:nvSpPr>
            <p:cNvPr id="173" name=""/>
            <p:cNvSpPr/>
            <p:nvPr/>
          </p:nvSpPr>
          <p:spPr>
            <a:xfrm>
              <a:off x="468360" y="19558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0760" y="2260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06400" y="2260440"/>
            <a:ext cx="4038840" cy="25909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440" y="3141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17348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46227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16640" y="1727280"/>
            <a:ext cx="1625400" cy="990360"/>
            <a:chOff x="5516640" y="1727280"/>
            <a:chExt cx="1625400" cy="990360"/>
          </a:xfrm>
        </p:grpSpPr>
        <p:sp>
          <p:nvSpPr>
            <p:cNvPr id="180" name=""/>
            <p:cNvSpPr/>
            <p:nvPr/>
          </p:nvSpPr>
          <p:spPr>
            <a:xfrm>
              <a:off x="5516640" y="172728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2031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72200" y="2413080"/>
            <a:ext cx="472680" cy="301320"/>
            <a:chOff x="5272200" y="2413080"/>
            <a:chExt cx="472680" cy="301320"/>
          </a:xfrm>
        </p:grpSpPr>
        <p:sp>
          <p:nvSpPr>
            <p:cNvPr id="183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2413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200" y="2490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2413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5240" y="2440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73000" y="2438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0840" y="2593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5800" y="2590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82720" y="2565360"/>
            <a:ext cx="472680" cy="301320"/>
            <a:chOff x="1782720" y="2565360"/>
            <a:chExt cx="472680" cy="301320"/>
          </a:xfrm>
        </p:grpSpPr>
        <p:sp>
          <p:nvSpPr>
            <p:cNvPr id="198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2720" y="25653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2720" y="26431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2720" y="25653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760" y="25927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83520" y="25909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360" y="27460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66320" y="27428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11520" y="4775040"/>
            <a:ext cx="472680" cy="301320"/>
            <a:chOff x="3611520" y="4775040"/>
            <a:chExt cx="472680" cy="301320"/>
          </a:xfrm>
        </p:grpSpPr>
        <p:sp>
          <p:nvSpPr>
            <p:cNvPr id="213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11520" y="4775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1520" y="4852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1520" y="4775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4560" y="4802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2320" y="4800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160" y="4955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5120" y="4952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52800" y="1125360"/>
            <a:ext cx="1396800" cy="1058760"/>
            <a:chOff x="3052800" y="1125360"/>
            <a:chExt cx="1396800" cy="1058760"/>
          </a:xfrm>
        </p:grpSpPr>
        <p:sp>
          <p:nvSpPr>
            <p:cNvPr id="228" name=""/>
            <p:cNvSpPr/>
            <p:nvPr/>
          </p:nvSpPr>
          <p:spPr>
            <a:xfrm>
              <a:off x="3052800" y="112536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8880" y="15746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90480" y="4394160"/>
            <a:ext cx="1397160" cy="10587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4843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690560" y="4226040"/>
            <a:ext cx="472680" cy="301320"/>
            <a:chOff x="1690560" y="4226040"/>
            <a:chExt cx="472680" cy="301320"/>
          </a:xfrm>
        </p:grpSpPr>
        <p:sp>
          <p:nvSpPr>
            <p:cNvPr id="233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0560" y="4226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4303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0560" y="4226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3600" y="4253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1360" y="4251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9200" y="4406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74160" y="4403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15000" y="4245120"/>
            <a:ext cx="472680" cy="300960"/>
            <a:chOff x="4815000" y="4245120"/>
            <a:chExt cx="472680" cy="300960"/>
          </a:xfrm>
        </p:grpSpPr>
        <p:sp>
          <p:nvSpPr>
            <p:cNvPr id="248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5000" y="42451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5000" y="43228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5000" y="42451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040" y="42721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5800" y="42706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03640" y="44258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8600" y="44222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11520" y="2108160"/>
            <a:ext cx="472680" cy="301320"/>
            <a:chOff x="3611520" y="2108160"/>
            <a:chExt cx="472680" cy="301320"/>
          </a:xfrm>
        </p:grpSpPr>
        <p:sp>
          <p:nvSpPr>
            <p:cNvPr id="263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11520" y="2108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1520" y="2185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1520" y="2108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24560" y="2135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2320" y="2133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0160" y="228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5120" y="2285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13080" y="3749760"/>
            <a:ext cx="431280" cy="288720"/>
            <a:chOff x="2413080" y="3749760"/>
            <a:chExt cx="431280" cy="288720"/>
          </a:xfrm>
        </p:grpSpPr>
        <p:sp>
          <p:nvSpPr>
            <p:cNvPr id="278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3080" y="374976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3080" y="382428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13080" y="37497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6400" y="377568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4880" y="37742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160" y="39229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80480" y="39196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132000" y="2743200"/>
            <a:ext cx="431640" cy="289080"/>
            <a:chOff x="3132000" y="2743200"/>
            <a:chExt cx="431640" cy="289080"/>
          </a:xfrm>
        </p:grpSpPr>
        <p:sp>
          <p:nvSpPr>
            <p:cNvPr id="293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32000" y="2743200"/>
              <a:ext cx="43164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2000" y="2817720"/>
              <a:ext cx="43164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2000" y="274320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353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38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444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94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41800" y="2743200"/>
            <a:ext cx="431280" cy="289080"/>
            <a:chOff x="4141800" y="2743200"/>
            <a:chExt cx="431280" cy="289080"/>
          </a:xfrm>
        </p:grpSpPr>
        <p:sp>
          <p:nvSpPr>
            <p:cNvPr id="308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800" y="274320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800" y="281772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41800" y="27432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45120" y="276912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3600" y="27676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3880" y="29163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9200" y="29131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73440" y="3679920"/>
            <a:ext cx="431640" cy="288720"/>
            <a:chOff x="4573440" y="3679920"/>
            <a:chExt cx="431640" cy="288720"/>
          </a:xfrm>
        </p:grpSpPr>
        <p:sp>
          <p:nvSpPr>
            <p:cNvPr id="323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3440" y="367992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3440" y="375444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3440" y="367992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6760" y="370584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5240" y="37044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45880" y="38530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840" y="38498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97440" y="3895560"/>
            <a:ext cx="431280" cy="289080"/>
            <a:chOff x="3997440" y="3895560"/>
            <a:chExt cx="431280" cy="289080"/>
          </a:xfrm>
        </p:grpSpPr>
        <p:sp>
          <p:nvSpPr>
            <p:cNvPr id="338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7440" y="389556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7440" y="397008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7440" y="389556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0760" y="392148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9240" y="392004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9520" y="406872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06548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462480"/>
            <a:ext cx="431640" cy="288720"/>
            <a:chOff x="3348000" y="3462480"/>
            <a:chExt cx="431640" cy="288720"/>
          </a:xfrm>
        </p:grpSpPr>
        <p:sp>
          <p:nvSpPr>
            <p:cNvPr id="353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34624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48000" y="35370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8000" y="34624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34884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39800" y="34869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20440" y="36356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5400" y="36324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05080" y="4398840"/>
            <a:ext cx="472680" cy="301320"/>
            <a:chOff x="3205080" y="4398840"/>
            <a:chExt cx="472680" cy="301320"/>
          </a:xfrm>
        </p:grpSpPr>
        <p:sp>
          <p:nvSpPr>
            <p:cNvPr id="368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5080" y="43988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5080" y="44766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43988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18120" y="44262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05880" y="44244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93720" y="45795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88680" y="45763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81080" y="3319560"/>
            <a:ext cx="472680" cy="301320"/>
            <a:chOff x="1981080" y="3319560"/>
            <a:chExt cx="472680" cy="301320"/>
          </a:xfrm>
        </p:grpSpPr>
        <p:sp>
          <p:nvSpPr>
            <p:cNvPr id="383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33195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3973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3195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4120" y="33469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1880" y="33451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69720" y="35002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4680" y="34970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443320" y="2814480"/>
            <a:ext cx="472680" cy="301320"/>
            <a:chOff x="2443320" y="2814480"/>
            <a:chExt cx="472680" cy="301320"/>
          </a:xfrm>
        </p:grpSpPr>
        <p:sp>
          <p:nvSpPr>
            <p:cNvPr id="398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332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332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332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5636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4412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3196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2692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19680" y="2814480"/>
            <a:ext cx="472680" cy="301320"/>
            <a:chOff x="4819680" y="2814480"/>
            <a:chExt cx="472680" cy="301320"/>
          </a:xfrm>
        </p:grpSpPr>
        <p:sp>
          <p:nvSpPr>
            <p:cNvPr id="413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9680" y="2814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9680" y="2892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2814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720" y="2841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20480" y="2840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08320" y="2995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280" y="2991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180040" y="3378240"/>
            <a:ext cx="472680" cy="301320"/>
            <a:chOff x="5180040" y="3378240"/>
            <a:chExt cx="472680" cy="301320"/>
          </a:xfrm>
        </p:grpSpPr>
        <p:sp>
          <p:nvSpPr>
            <p:cNvPr id="428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0040" y="33782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0040" y="34560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040" y="33782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3080" y="34056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0840" y="34038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8680" y="35589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3640" y="35557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45080" y="522936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5440" y="40766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2001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0160" y="4091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84800">
            <a:off x="826920" y="2349360"/>
            <a:ext cx="3024360" cy="1681200"/>
          </a:xfrm>
          <a:custGeom>
            <a:avLst/>
            <a:gdLst/>
            <a:ahLst/>
            <a:rect l="l" t="t" r="r" b="b"/>
            <a:pathLst>
              <a:path w="1905" h="1059">
                <a:moveTo>
                  <a:pt x="0" y="1059"/>
                </a:moveTo>
                <a:cubicBezTo>
                  <a:pt x="226" y="680"/>
                  <a:pt x="453" y="302"/>
                  <a:pt x="771" y="151"/>
                </a:cubicBezTo>
                <a:cubicBezTo>
                  <a:pt x="1089" y="0"/>
                  <a:pt x="1716" y="151"/>
                  <a:pt x="1905" y="151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3820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5339600">
            <a:off x="3738240" y="2317320"/>
            <a:ext cx="3024360" cy="1357200"/>
          </a:xfrm>
          <a:custGeom>
            <a:avLst/>
            <a:gdLst/>
            <a:ahLst/>
            <a:rect l="l" t="t" r="r" b="b"/>
            <a:pathLst>
              <a:path w="1905" h="855">
                <a:moveTo>
                  <a:pt x="0" y="499"/>
                </a:moveTo>
                <a:cubicBezTo>
                  <a:pt x="249" y="677"/>
                  <a:pt x="499" y="855"/>
                  <a:pt x="816" y="772"/>
                </a:cubicBezTo>
                <a:cubicBezTo>
                  <a:pt x="1133" y="689"/>
                  <a:pt x="1519" y="344"/>
                  <a:pt x="1905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57840" y="3068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4292640"/>
            <a:ext cx="3673440" cy="504720"/>
          </a:xfrm>
          <a:custGeom>
            <a:avLst/>
            <a:gdLst/>
            <a:ahLst/>
            <a:rect l="l" t="t" r="r" b="b"/>
            <a:pathLst>
              <a:path w="2314" h="318">
                <a:moveTo>
                  <a:pt x="91" y="318"/>
                </a:moveTo>
                <a:cubicBezTo>
                  <a:pt x="45" y="276"/>
                  <a:pt x="0" y="235"/>
                  <a:pt x="227" y="182"/>
                </a:cubicBezTo>
                <a:cubicBezTo>
                  <a:pt x="454" y="129"/>
                  <a:pt x="1104" y="0"/>
                  <a:pt x="1452" y="0"/>
                </a:cubicBezTo>
                <a:cubicBezTo>
                  <a:pt x="1800" y="0"/>
                  <a:pt x="2057" y="91"/>
                  <a:pt x="2314" y="18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920" y="4062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oftwire Mesh (RFC5565)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4" name=""/>
          <p:cNvSpPr/>
          <p:nvPr/>
        </p:nvSpPr>
        <p:spPr>
          <a:xfrm>
            <a:off x="7405200" y="4076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8360" y="1125360"/>
            <a:ext cx="7056360" cy="4868640"/>
            <a:chOff x="468360" y="1125360"/>
            <a:chExt cx="7056360" cy="4868640"/>
          </a:xfrm>
        </p:grpSpPr>
        <p:grpSp>
          <p:nvGrpSpPr>
            <p:cNvPr id="456" name=""/>
            <p:cNvGrpSpPr/>
            <p:nvPr/>
          </p:nvGrpSpPr>
          <p:grpSpPr>
            <a:xfrm>
              <a:off x="3052800" y="5003640"/>
              <a:ext cx="1625400" cy="990360"/>
              <a:chOff x="3052800" y="5003640"/>
              <a:chExt cx="1625400" cy="990360"/>
            </a:xfrm>
          </p:grpSpPr>
          <p:sp>
            <p:nvSpPr>
              <p:cNvPr id="457" name=""/>
              <p:cNvSpPr/>
              <p:nvPr/>
            </p:nvSpPr>
            <p:spPr>
              <a:xfrm>
                <a:off x="3052800" y="500364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35200" y="5308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68360" y="1955880"/>
              <a:ext cx="1625400" cy="990360"/>
              <a:chOff x="468360" y="1955880"/>
              <a:chExt cx="162540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468360" y="19558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0760" y="2260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706400" y="2260440"/>
              <a:ext cx="4038840" cy="259092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89080" y="314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06800" y="417348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4622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516640" y="1727280"/>
              <a:ext cx="1625400" cy="990360"/>
              <a:chOff x="5516640" y="1727280"/>
              <a:chExt cx="1625400" cy="990360"/>
            </a:xfrm>
          </p:grpSpPr>
          <p:sp>
            <p:nvSpPr>
              <p:cNvPr id="467" name=""/>
              <p:cNvSpPr/>
              <p:nvPr/>
            </p:nvSpPr>
            <p:spPr>
              <a:xfrm>
                <a:off x="5516640" y="1727280"/>
                <a:ext cx="1625400" cy="9903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99040" y="20318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Arial"/>
                    <a:ea typeface="宋体"/>
                  </a:rPr>
                  <a:t>IPv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272200" y="2413080"/>
              <a:ext cx="472680" cy="300960"/>
              <a:chOff x="5272200" y="2413080"/>
              <a:chExt cx="472680" cy="300960"/>
            </a:xfrm>
          </p:grpSpPr>
          <p:sp>
            <p:nvSpPr>
              <p:cNvPr id="470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72200" y="241308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2200" y="249084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2200" y="2413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85240" y="244008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73000" y="2438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60840" y="259380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55800" y="2590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782720" y="2565360"/>
              <a:ext cx="472680" cy="301320"/>
              <a:chOff x="1782720" y="2565360"/>
              <a:chExt cx="472680" cy="301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8272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8272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8272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576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352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7136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6632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11520" y="4775040"/>
              <a:ext cx="472680" cy="301320"/>
              <a:chOff x="3611520" y="4775040"/>
              <a:chExt cx="472680" cy="301320"/>
            </a:xfrm>
          </p:grpSpPr>
          <p:sp>
            <p:nvSpPr>
              <p:cNvPr id="500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11520" y="4775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11520" y="4852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11520" y="4775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24560" y="4802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12320" y="4800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0160" y="4955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5120" y="4952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52800" y="1125360"/>
              <a:ext cx="1396800" cy="1058760"/>
              <a:chOff x="3052800" y="1125360"/>
              <a:chExt cx="1396800" cy="1058760"/>
            </a:xfrm>
          </p:grpSpPr>
          <p:sp>
            <p:nvSpPr>
              <p:cNvPr id="515" name=""/>
              <p:cNvSpPr/>
              <p:nvPr/>
            </p:nvSpPr>
            <p:spPr>
              <a:xfrm>
                <a:off x="3052800" y="1125360"/>
                <a:ext cx="139680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58880" y="15746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90480" y="4394160"/>
              <a:ext cx="1397160" cy="1058760"/>
              <a:chOff x="690480" y="4394160"/>
              <a:chExt cx="1397160" cy="105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690480" y="4394160"/>
                <a:ext cx="1397160" cy="1058760"/>
              </a:xfrm>
              <a:custGeom>
                <a:avLst/>
                <a:gdLst/>
                <a:ahLst/>
                <a:rect l="l" t="t" r="r" b="b"/>
                <a:pathLst>
                  <a:path w="1482" h="702">
                    <a:moveTo>
                      <a:pt x="132" y="230"/>
                    </a:moveTo>
                    <a:lnTo>
                      <a:pt x="102" y="240"/>
                    </a:lnTo>
                    <a:lnTo>
                      <a:pt x="71" y="240"/>
                    </a:lnTo>
                    <a:lnTo>
                      <a:pt x="51" y="250"/>
                    </a:lnTo>
                    <a:lnTo>
                      <a:pt x="41" y="271"/>
                    </a:lnTo>
                    <a:lnTo>
                      <a:pt x="20" y="271"/>
                    </a:lnTo>
                    <a:lnTo>
                      <a:pt x="20" y="281"/>
                    </a:lnTo>
                    <a:lnTo>
                      <a:pt x="10" y="291"/>
                    </a:lnTo>
                    <a:lnTo>
                      <a:pt x="10" y="301"/>
                    </a:lnTo>
                    <a:lnTo>
                      <a:pt x="0" y="301"/>
                    </a:lnTo>
                    <a:lnTo>
                      <a:pt x="0" y="311"/>
                    </a:lnTo>
                    <a:lnTo>
                      <a:pt x="0" y="321"/>
                    </a:lnTo>
                    <a:lnTo>
                      <a:pt x="0" y="331"/>
                    </a:lnTo>
                    <a:lnTo>
                      <a:pt x="0" y="341"/>
                    </a:lnTo>
                    <a:lnTo>
                      <a:pt x="0" y="361"/>
                    </a:lnTo>
                    <a:lnTo>
                      <a:pt x="10" y="371"/>
                    </a:lnTo>
                    <a:lnTo>
                      <a:pt x="10" y="381"/>
                    </a:lnTo>
                    <a:lnTo>
                      <a:pt x="20" y="391"/>
                    </a:lnTo>
                    <a:lnTo>
                      <a:pt x="41" y="401"/>
                    </a:lnTo>
                    <a:lnTo>
                      <a:pt x="51" y="411"/>
                    </a:lnTo>
                    <a:lnTo>
                      <a:pt x="71" y="411"/>
                    </a:lnTo>
                    <a:lnTo>
                      <a:pt x="71" y="411"/>
                    </a:lnTo>
                    <a:lnTo>
                      <a:pt x="61" y="421"/>
                    </a:lnTo>
                    <a:lnTo>
                      <a:pt x="51" y="431"/>
                    </a:lnTo>
                    <a:lnTo>
                      <a:pt x="51" y="431"/>
                    </a:lnTo>
                    <a:lnTo>
                      <a:pt x="41" y="451"/>
                    </a:lnTo>
                    <a:lnTo>
                      <a:pt x="41" y="461"/>
                    </a:lnTo>
                    <a:lnTo>
                      <a:pt x="31" y="461"/>
                    </a:lnTo>
                    <a:lnTo>
                      <a:pt x="31" y="471"/>
                    </a:lnTo>
                    <a:lnTo>
                      <a:pt x="31" y="481"/>
                    </a:lnTo>
                    <a:lnTo>
                      <a:pt x="31" y="491"/>
                    </a:lnTo>
                    <a:lnTo>
                      <a:pt x="31" y="501"/>
                    </a:lnTo>
                    <a:lnTo>
                      <a:pt x="41" y="511"/>
                    </a:lnTo>
                    <a:lnTo>
                      <a:pt x="41" y="521"/>
                    </a:lnTo>
                    <a:lnTo>
                      <a:pt x="51" y="521"/>
                    </a:lnTo>
                    <a:lnTo>
                      <a:pt x="51" y="541"/>
                    </a:lnTo>
                    <a:lnTo>
                      <a:pt x="61" y="541"/>
                    </a:lnTo>
                    <a:lnTo>
                      <a:pt x="71" y="551"/>
                    </a:lnTo>
                    <a:lnTo>
                      <a:pt x="81" y="561"/>
                    </a:lnTo>
                    <a:lnTo>
                      <a:pt x="91" y="561"/>
                    </a:lnTo>
                    <a:lnTo>
                      <a:pt x="122" y="571"/>
                    </a:lnTo>
                    <a:lnTo>
                      <a:pt x="152" y="581"/>
                    </a:lnTo>
                    <a:lnTo>
                      <a:pt x="163" y="581"/>
                    </a:lnTo>
                    <a:lnTo>
                      <a:pt x="173" y="581"/>
                    </a:lnTo>
                    <a:lnTo>
                      <a:pt x="193" y="581"/>
                    </a:lnTo>
                    <a:lnTo>
                      <a:pt x="193" y="581"/>
                    </a:lnTo>
                    <a:lnTo>
                      <a:pt x="213" y="601"/>
                    </a:lnTo>
                    <a:lnTo>
                      <a:pt x="244" y="611"/>
                    </a:lnTo>
                    <a:lnTo>
                      <a:pt x="264" y="631"/>
                    </a:lnTo>
                    <a:lnTo>
                      <a:pt x="294" y="641"/>
                    </a:lnTo>
                    <a:lnTo>
                      <a:pt x="325" y="652"/>
                    </a:lnTo>
                    <a:lnTo>
                      <a:pt x="355" y="662"/>
                    </a:lnTo>
                    <a:lnTo>
                      <a:pt x="396" y="662"/>
                    </a:lnTo>
                    <a:lnTo>
                      <a:pt x="426" y="662"/>
                    </a:lnTo>
                    <a:lnTo>
                      <a:pt x="457" y="662"/>
                    </a:lnTo>
                    <a:lnTo>
                      <a:pt x="497" y="662"/>
                    </a:lnTo>
                    <a:lnTo>
                      <a:pt x="528" y="652"/>
                    </a:lnTo>
                    <a:lnTo>
                      <a:pt x="558" y="641"/>
                    </a:lnTo>
                    <a:lnTo>
                      <a:pt x="558" y="641"/>
                    </a:lnTo>
                    <a:lnTo>
                      <a:pt x="579" y="662"/>
                    </a:lnTo>
                    <a:lnTo>
                      <a:pt x="599" y="672"/>
                    </a:lnTo>
                    <a:lnTo>
                      <a:pt x="619" y="682"/>
                    </a:lnTo>
                    <a:lnTo>
                      <a:pt x="650" y="692"/>
                    </a:lnTo>
                    <a:lnTo>
                      <a:pt x="670" y="702"/>
                    </a:lnTo>
                    <a:lnTo>
                      <a:pt x="700" y="702"/>
                    </a:lnTo>
                    <a:lnTo>
                      <a:pt x="731" y="702"/>
                    </a:lnTo>
                    <a:lnTo>
                      <a:pt x="751" y="702"/>
                    </a:lnTo>
                    <a:lnTo>
                      <a:pt x="771" y="702"/>
                    </a:lnTo>
                    <a:lnTo>
                      <a:pt x="792" y="702"/>
                    </a:lnTo>
                    <a:lnTo>
                      <a:pt x="832" y="702"/>
                    </a:lnTo>
                    <a:lnTo>
                      <a:pt x="863" y="692"/>
                    </a:lnTo>
                    <a:lnTo>
                      <a:pt x="893" y="682"/>
                    </a:lnTo>
                    <a:lnTo>
                      <a:pt x="903" y="672"/>
                    </a:lnTo>
                    <a:lnTo>
                      <a:pt x="924" y="662"/>
                    </a:lnTo>
                    <a:lnTo>
                      <a:pt x="934" y="652"/>
                    </a:lnTo>
                    <a:lnTo>
                      <a:pt x="944" y="641"/>
                    </a:lnTo>
                    <a:lnTo>
                      <a:pt x="954" y="641"/>
                    </a:lnTo>
                    <a:lnTo>
                      <a:pt x="964" y="621"/>
                    </a:lnTo>
                    <a:lnTo>
                      <a:pt x="974" y="611"/>
                    </a:lnTo>
                    <a:lnTo>
                      <a:pt x="974" y="601"/>
                    </a:lnTo>
                    <a:lnTo>
                      <a:pt x="974" y="601"/>
                    </a:lnTo>
                    <a:lnTo>
                      <a:pt x="995" y="611"/>
                    </a:lnTo>
                    <a:lnTo>
                      <a:pt x="1025" y="611"/>
                    </a:lnTo>
                    <a:lnTo>
                      <a:pt x="1056" y="621"/>
                    </a:lnTo>
                    <a:lnTo>
                      <a:pt x="1086" y="621"/>
                    </a:lnTo>
                    <a:lnTo>
                      <a:pt x="1096" y="621"/>
                    </a:lnTo>
                    <a:lnTo>
                      <a:pt x="1127" y="621"/>
                    </a:lnTo>
                    <a:lnTo>
                      <a:pt x="1137" y="611"/>
                    </a:lnTo>
                    <a:lnTo>
                      <a:pt x="1157" y="611"/>
                    </a:lnTo>
                    <a:lnTo>
                      <a:pt x="1177" y="601"/>
                    </a:lnTo>
                    <a:lnTo>
                      <a:pt x="1188" y="601"/>
                    </a:lnTo>
                    <a:lnTo>
                      <a:pt x="1208" y="591"/>
                    </a:lnTo>
                    <a:lnTo>
                      <a:pt x="1218" y="581"/>
                    </a:lnTo>
                    <a:lnTo>
                      <a:pt x="1238" y="571"/>
                    </a:lnTo>
                    <a:lnTo>
                      <a:pt x="1248" y="561"/>
                    </a:lnTo>
                    <a:lnTo>
                      <a:pt x="1248" y="551"/>
                    </a:lnTo>
                    <a:lnTo>
                      <a:pt x="1269" y="541"/>
                    </a:lnTo>
                    <a:lnTo>
                      <a:pt x="1269" y="531"/>
                    </a:lnTo>
                    <a:lnTo>
                      <a:pt x="1279" y="521"/>
                    </a:lnTo>
                    <a:lnTo>
                      <a:pt x="1279" y="501"/>
                    </a:lnTo>
                    <a:lnTo>
                      <a:pt x="1279" y="491"/>
                    </a:lnTo>
                    <a:lnTo>
                      <a:pt x="1279" y="491"/>
                    </a:lnTo>
                    <a:lnTo>
                      <a:pt x="1299" y="491"/>
                    </a:lnTo>
                    <a:lnTo>
                      <a:pt x="1319" y="491"/>
                    </a:lnTo>
                    <a:lnTo>
                      <a:pt x="1340" y="481"/>
                    </a:lnTo>
                    <a:lnTo>
                      <a:pt x="1360" y="481"/>
                    </a:lnTo>
                    <a:lnTo>
                      <a:pt x="1380" y="471"/>
                    </a:lnTo>
                    <a:lnTo>
                      <a:pt x="1391" y="461"/>
                    </a:lnTo>
                    <a:lnTo>
                      <a:pt x="1411" y="451"/>
                    </a:lnTo>
                    <a:lnTo>
                      <a:pt x="1421" y="441"/>
                    </a:lnTo>
                    <a:lnTo>
                      <a:pt x="1431" y="431"/>
                    </a:lnTo>
                    <a:lnTo>
                      <a:pt x="1441" y="421"/>
                    </a:lnTo>
                    <a:lnTo>
                      <a:pt x="1462" y="411"/>
                    </a:lnTo>
                    <a:lnTo>
                      <a:pt x="1462" y="401"/>
                    </a:lnTo>
                    <a:lnTo>
                      <a:pt x="1472" y="381"/>
                    </a:lnTo>
                    <a:lnTo>
                      <a:pt x="1472" y="371"/>
                    </a:lnTo>
                    <a:lnTo>
                      <a:pt x="1482" y="361"/>
                    </a:lnTo>
                    <a:lnTo>
                      <a:pt x="1482" y="341"/>
                    </a:lnTo>
                    <a:lnTo>
                      <a:pt x="1482" y="331"/>
                    </a:lnTo>
                    <a:lnTo>
                      <a:pt x="1472" y="321"/>
                    </a:lnTo>
                    <a:lnTo>
                      <a:pt x="1472" y="311"/>
                    </a:lnTo>
                    <a:lnTo>
                      <a:pt x="1472" y="291"/>
                    </a:lnTo>
                    <a:lnTo>
                      <a:pt x="1462" y="281"/>
                    </a:lnTo>
                    <a:lnTo>
                      <a:pt x="1451" y="271"/>
                    </a:lnTo>
                    <a:lnTo>
                      <a:pt x="1441" y="261"/>
                    </a:lnTo>
                    <a:lnTo>
                      <a:pt x="1431" y="250"/>
                    </a:lnTo>
                    <a:lnTo>
                      <a:pt x="1431" y="250"/>
                    </a:lnTo>
                    <a:lnTo>
                      <a:pt x="1441" y="240"/>
                    </a:lnTo>
                    <a:lnTo>
                      <a:pt x="1441" y="230"/>
                    </a:lnTo>
                    <a:lnTo>
                      <a:pt x="1441" y="220"/>
                    </a:lnTo>
                    <a:lnTo>
                      <a:pt x="1441" y="200"/>
                    </a:lnTo>
                    <a:lnTo>
                      <a:pt x="1441" y="190"/>
                    </a:lnTo>
                    <a:lnTo>
                      <a:pt x="1441" y="190"/>
                    </a:lnTo>
                    <a:lnTo>
                      <a:pt x="1441" y="170"/>
                    </a:lnTo>
                    <a:lnTo>
                      <a:pt x="1431" y="160"/>
                    </a:lnTo>
                    <a:lnTo>
                      <a:pt x="1431" y="150"/>
                    </a:lnTo>
                    <a:lnTo>
                      <a:pt x="1421" y="150"/>
                    </a:lnTo>
                    <a:lnTo>
                      <a:pt x="1421" y="140"/>
                    </a:lnTo>
                    <a:lnTo>
                      <a:pt x="1401" y="130"/>
                    </a:lnTo>
                    <a:lnTo>
                      <a:pt x="1391" y="120"/>
                    </a:lnTo>
                    <a:lnTo>
                      <a:pt x="1370" y="110"/>
                    </a:lnTo>
                    <a:lnTo>
                      <a:pt x="1340" y="10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309" y="80"/>
                    </a:lnTo>
                    <a:lnTo>
                      <a:pt x="1299" y="70"/>
                    </a:lnTo>
                    <a:lnTo>
                      <a:pt x="1299" y="60"/>
                    </a:lnTo>
                    <a:lnTo>
                      <a:pt x="1289" y="50"/>
                    </a:lnTo>
                    <a:lnTo>
                      <a:pt x="1279" y="40"/>
                    </a:lnTo>
                    <a:lnTo>
                      <a:pt x="1279" y="40"/>
                    </a:lnTo>
                    <a:lnTo>
                      <a:pt x="1248" y="20"/>
                    </a:lnTo>
                    <a:lnTo>
                      <a:pt x="1228" y="10"/>
                    </a:lnTo>
                    <a:lnTo>
                      <a:pt x="1198" y="10"/>
                    </a:lnTo>
                    <a:lnTo>
                      <a:pt x="1177" y="0"/>
                    </a:lnTo>
                    <a:lnTo>
                      <a:pt x="1147" y="0"/>
                    </a:lnTo>
                    <a:lnTo>
                      <a:pt x="1127" y="0"/>
                    </a:lnTo>
                    <a:lnTo>
                      <a:pt x="1106" y="0"/>
                    </a:lnTo>
                    <a:lnTo>
                      <a:pt x="1096" y="10"/>
                    </a:lnTo>
                    <a:lnTo>
                      <a:pt x="1076" y="10"/>
                    </a:lnTo>
                    <a:lnTo>
                      <a:pt x="1056" y="20"/>
                    </a:lnTo>
                    <a:lnTo>
                      <a:pt x="1045" y="20"/>
                    </a:lnTo>
                    <a:lnTo>
                      <a:pt x="1035" y="30"/>
                    </a:lnTo>
                    <a:lnTo>
                      <a:pt x="1025" y="40"/>
                    </a:lnTo>
                    <a:lnTo>
                      <a:pt x="1025" y="40"/>
                    </a:lnTo>
                    <a:lnTo>
                      <a:pt x="1005" y="30"/>
                    </a:lnTo>
                    <a:lnTo>
                      <a:pt x="995" y="20"/>
                    </a:lnTo>
                    <a:lnTo>
                      <a:pt x="985" y="20"/>
                    </a:lnTo>
                    <a:lnTo>
                      <a:pt x="974" y="10"/>
                    </a:lnTo>
                    <a:lnTo>
                      <a:pt x="954" y="10"/>
                    </a:lnTo>
                    <a:lnTo>
                      <a:pt x="934" y="0"/>
                    </a:lnTo>
                    <a:lnTo>
                      <a:pt x="924" y="0"/>
                    </a:lnTo>
                    <a:lnTo>
                      <a:pt x="903" y="0"/>
                    </a:lnTo>
                    <a:lnTo>
                      <a:pt x="883" y="0"/>
                    </a:lnTo>
                    <a:lnTo>
                      <a:pt x="863" y="0"/>
                    </a:lnTo>
                    <a:lnTo>
                      <a:pt x="842" y="10"/>
                    </a:lnTo>
                    <a:lnTo>
                      <a:pt x="822" y="10"/>
                    </a:lnTo>
                    <a:lnTo>
                      <a:pt x="802" y="20"/>
                    </a:lnTo>
                    <a:lnTo>
                      <a:pt x="792" y="30"/>
                    </a:lnTo>
                    <a:lnTo>
                      <a:pt x="782" y="40"/>
                    </a:lnTo>
                    <a:lnTo>
                      <a:pt x="761" y="50"/>
                    </a:lnTo>
                    <a:lnTo>
                      <a:pt x="761" y="50"/>
                    </a:lnTo>
                    <a:lnTo>
                      <a:pt x="751" y="50"/>
                    </a:lnTo>
                    <a:lnTo>
                      <a:pt x="741" y="40"/>
                    </a:lnTo>
                    <a:lnTo>
                      <a:pt x="731" y="30"/>
                    </a:lnTo>
                    <a:lnTo>
                      <a:pt x="711" y="30"/>
                    </a:lnTo>
                    <a:lnTo>
                      <a:pt x="690" y="30"/>
                    </a:lnTo>
                    <a:lnTo>
                      <a:pt x="680" y="20"/>
                    </a:lnTo>
                    <a:lnTo>
                      <a:pt x="660" y="20"/>
                    </a:lnTo>
                    <a:lnTo>
                      <a:pt x="640" y="20"/>
                    </a:lnTo>
                    <a:lnTo>
                      <a:pt x="609" y="20"/>
                    </a:lnTo>
                    <a:lnTo>
                      <a:pt x="589" y="30"/>
                    </a:lnTo>
                    <a:lnTo>
                      <a:pt x="568" y="30"/>
                    </a:lnTo>
                    <a:lnTo>
                      <a:pt x="548" y="40"/>
                    </a:lnTo>
                    <a:lnTo>
                      <a:pt x="518" y="50"/>
                    </a:lnTo>
                    <a:lnTo>
                      <a:pt x="508" y="60"/>
                    </a:lnTo>
                    <a:lnTo>
                      <a:pt x="487" y="70"/>
                    </a:lnTo>
                    <a:lnTo>
                      <a:pt x="477" y="80"/>
                    </a:lnTo>
                    <a:lnTo>
                      <a:pt x="477" y="80"/>
                    </a:lnTo>
                    <a:lnTo>
                      <a:pt x="447" y="70"/>
                    </a:lnTo>
                    <a:lnTo>
                      <a:pt x="416" y="70"/>
                    </a:lnTo>
                    <a:lnTo>
                      <a:pt x="396" y="60"/>
                    </a:lnTo>
                    <a:lnTo>
                      <a:pt x="355" y="60"/>
                    </a:lnTo>
                    <a:lnTo>
                      <a:pt x="335" y="60"/>
                    </a:lnTo>
                    <a:lnTo>
                      <a:pt x="315" y="60"/>
                    </a:lnTo>
                    <a:lnTo>
                      <a:pt x="294" y="70"/>
                    </a:lnTo>
                    <a:lnTo>
                      <a:pt x="264" y="70"/>
                    </a:lnTo>
                    <a:lnTo>
                      <a:pt x="254" y="80"/>
                    </a:lnTo>
                    <a:lnTo>
                      <a:pt x="223" y="90"/>
                    </a:lnTo>
                    <a:lnTo>
                      <a:pt x="213" y="100"/>
                    </a:lnTo>
                    <a:lnTo>
                      <a:pt x="193" y="110"/>
                    </a:lnTo>
                    <a:lnTo>
                      <a:pt x="183" y="120"/>
                    </a:lnTo>
                    <a:lnTo>
                      <a:pt x="163" y="130"/>
                    </a:lnTo>
                    <a:lnTo>
                      <a:pt x="152" y="140"/>
                    </a:lnTo>
                    <a:lnTo>
                      <a:pt x="142" y="150"/>
                    </a:lnTo>
                    <a:lnTo>
                      <a:pt x="142" y="170"/>
                    </a:lnTo>
                    <a:lnTo>
                      <a:pt x="132" y="190"/>
                    </a:lnTo>
                    <a:lnTo>
                      <a:pt x="122" y="200"/>
                    </a:lnTo>
                    <a:lnTo>
                      <a:pt x="122" y="210"/>
                    </a:lnTo>
                    <a:lnTo>
                      <a:pt x="122" y="220"/>
                    </a:lnTo>
                    <a:lnTo>
                      <a:pt x="132" y="230"/>
                    </a:lnTo>
                    <a:lnTo>
                      <a:pt x="132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96920" y="4843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Pv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690560" y="4225680"/>
              <a:ext cx="472680" cy="301320"/>
              <a:chOff x="1690560" y="4225680"/>
              <a:chExt cx="472680" cy="301320"/>
            </a:xfrm>
          </p:grpSpPr>
          <p:sp>
            <p:nvSpPr>
              <p:cNvPr id="521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90560" y="42256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90560" y="43034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90560" y="42256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03600" y="42530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91360" y="42512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79200" y="44064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4160" y="44031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815000" y="4244760"/>
              <a:ext cx="472680" cy="301320"/>
              <a:chOff x="4815000" y="4244760"/>
              <a:chExt cx="472680" cy="301320"/>
            </a:xfrm>
          </p:grpSpPr>
          <p:sp>
            <p:nvSpPr>
              <p:cNvPr id="536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815000" y="4244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5000" y="4322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15000" y="4244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928040" y="4272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915800" y="4270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03640" y="4425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98600" y="4422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611520" y="2108160"/>
              <a:ext cx="472680" cy="301320"/>
              <a:chOff x="3611520" y="2108160"/>
              <a:chExt cx="472680" cy="301320"/>
            </a:xfrm>
          </p:grpSpPr>
          <p:sp>
            <p:nvSpPr>
              <p:cNvPr id="551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11520" y="2108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11520" y="2185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2108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24560" y="2135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12320" y="2133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00160" y="2288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5120" y="2285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413080" y="3749400"/>
              <a:ext cx="431280" cy="289080"/>
              <a:chOff x="2413080" y="3749400"/>
              <a:chExt cx="431280" cy="28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13080" y="374940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13080" y="382392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13080" y="37494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16400" y="377532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04880" y="37738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85160" y="39225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80480" y="39193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32000" y="2743200"/>
              <a:ext cx="431640" cy="288720"/>
              <a:chOff x="3132000" y="2743200"/>
              <a:chExt cx="431640" cy="288720"/>
            </a:xfrm>
          </p:grpSpPr>
          <p:sp>
            <p:nvSpPr>
              <p:cNvPr id="581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32000" y="2743200"/>
                <a:ext cx="43164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32000" y="2817720"/>
                <a:ext cx="43164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2000" y="274320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353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238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0444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994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141800" y="2743200"/>
              <a:ext cx="431280" cy="288720"/>
              <a:chOff x="4141800" y="2743200"/>
              <a:chExt cx="431280" cy="288720"/>
            </a:xfrm>
          </p:grpSpPr>
          <p:sp>
            <p:nvSpPr>
              <p:cNvPr id="596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41800" y="2743200"/>
                <a:ext cx="431280" cy="2887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41800" y="2817720"/>
                <a:ext cx="431280" cy="21384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41800" y="274320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45120" y="2769120"/>
                <a:ext cx="262080" cy="8892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600" y="276768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313880" y="29163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9200" y="291312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573440" y="3679560"/>
              <a:ext cx="431640" cy="289080"/>
              <a:chOff x="4573440" y="3679560"/>
              <a:chExt cx="431640" cy="289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73440" y="3679560"/>
                <a:ext cx="43164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73440" y="3754080"/>
                <a:ext cx="43164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73440" y="3679560"/>
                <a:ext cx="43020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76760" y="3705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5240" y="3704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45880" y="3852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40840" y="3849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997440" y="3895560"/>
              <a:ext cx="431280" cy="289080"/>
              <a:chOff x="3997440" y="3895560"/>
              <a:chExt cx="431280" cy="289080"/>
            </a:xfrm>
          </p:grpSpPr>
          <p:sp>
            <p:nvSpPr>
              <p:cNvPr id="626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97440" y="389556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97440" y="397008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97440" y="389556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00760" y="392148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89240" y="392004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69520" y="406872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164840" y="40654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348000" y="3462120"/>
              <a:ext cx="431280" cy="289080"/>
              <a:chOff x="3348000" y="3462120"/>
              <a:chExt cx="431280" cy="289080"/>
            </a:xfrm>
          </p:grpSpPr>
          <p:sp>
            <p:nvSpPr>
              <p:cNvPr id="641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348000" y="3462120"/>
                <a:ext cx="431280" cy="28908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348000" y="3536640"/>
                <a:ext cx="431280" cy="214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48000" y="3462120"/>
                <a:ext cx="429840" cy="14508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51320" y="3488040"/>
                <a:ext cx="262080" cy="892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39800" y="3486600"/>
                <a:ext cx="260640" cy="860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20080" y="363528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5400" y="363204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205080" y="4398840"/>
              <a:ext cx="472680" cy="301320"/>
              <a:chOff x="3205080" y="4398840"/>
              <a:chExt cx="472680" cy="301320"/>
            </a:xfrm>
          </p:grpSpPr>
          <p:sp>
            <p:nvSpPr>
              <p:cNvPr id="656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05080" y="43988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05080" y="44766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05080" y="43988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318120" y="44262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305880" y="44244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393720" y="45795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88680" y="45763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981080" y="3319200"/>
              <a:ext cx="472680" cy="301320"/>
              <a:chOff x="1981080" y="3319200"/>
              <a:chExt cx="472680" cy="301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981080" y="33192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981080" y="33969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81080" y="33192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94120" y="33465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81880" y="33447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69720" y="34999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64680" y="34966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42960" y="2814480"/>
              <a:ext cx="473040" cy="301320"/>
              <a:chOff x="2442960" y="2814480"/>
              <a:chExt cx="473040" cy="3013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42960" y="281448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2960" y="289224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42960" y="281448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55600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43760" y="284004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196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2656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819680" y="2814480"/>
              <a:ext cx="472680" cy="301320"/>
              <a:chOff x="4819680" y="2814480"/>
              <a:chExt cx="472680" cy="301320"/>
            </a:xfrm>
          </p:grpSpPr>
          <p:sp>
            <p:nvSpPr>
              <p:cNvPr id="701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19680" y="28144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19680" y="28922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19680" y="28144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32720" y="28418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0480" y="28400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08320" y="29952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03280" y="29919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5180040" y="3378240"/>
              <a:ext cx="472680" cy="300960"/>
              <a:chOff x="5180040" y="3378240"/>
              <a:chExt cx="472680" cy="300960"/>
            </a:xfrm>
          </p:grpSpPr>
          <p:sp>
            <p:nvSpPr>
              <p:cNvPr id="716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80040" y="3378240"/>
                <a:ext cx="472680" cy="30096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0040" y="3456000"/>
                <a:ext cx="472680" cy="22320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180040" y="33782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3080" y="3405240"/>
                <a:ext cx="287280" cy="9288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0840" y="34038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68680" y="3558960"/>
                <a:ext cx="112680" cy="10872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63640" y="35553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445080" y="5229000"/>
              <a:ext cx="10796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AS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5440" y="40766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4360" y="2001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69800" y="409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FB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981080" y="2349360"/>
            <a:ext cx="7270920" cy="4259520"/>
            <a:chOff x="1981080" y="2349360"/>
            <a:chExt cx="7270920" cy="4259520"/>
          </a:xfrm>
        </p:grpSpPr>
        <p:sp>
          <p:nvSpPr>
            <p:cNvPr id="735" name=""/>
            <p:cNvSpPr/>
            <p:nvPr/>
          </p:nvSpPr>
          <p:spPr>
            <a:xfrm>
              <a:off x="4714920" y="5667480"/>
              <a:ext cx="45370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AFBRs exchange IPv4 reachability using BGP-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Tunnels established between AFBRs full-me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99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FrutigerNext LT Regular"/>
                </a:rPr>
                <a:t>IPv4 packets transported in tunnel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981080" y="2349360"/>
              <a:ext cx="3024360" cy="2016360"/>
              <a:chOff x="1981080" y="2349360"/>
              <a:chExt cx="3024360" cy="201636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1981080" y="2349360"/>
                <a:ext cx="1727280" cy="19432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924360" y="2349360"/>
                <a:ext cx="1081080" cy="201636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052720" y="4365720"/>
                <a:ext cx="2808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SPFv3 MT/MI Approach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"/>
          <p:cNvSpPr/>
          <p:nvPr/>
        </p:nvSpPr>
        <p:spPr>
          <a:xfrm>
            <a:off x="7908120" y="4292640"/>
            <a:ext cx="597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411360" y="4930920"/>
            <a:ext cx="1625400" cy="990360"/>
            <a:chOff x="3411360" y="4930920"/>
            <a:chExt cx="1625400" cy="990360"/>
          </a:xfrm>
        </p:grpSpPr>
        <p:sp>
          <p:nvSpPr>
            <p:cNvPr id="744" name=""/>
            <p:cNvSpPr/>
            <p:nvPr/>
          </p:nvSpPr>
          <p:spPr>
            <a:xfrm>
              <a:off x="3411360" y="493092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93760" y="523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826920" y="1882800"/>
            <a:ext cx="1625400" cy="990360"/>
            <a:chOff x="826920" y="1882800"/>
            <a:chExt cx="1625400" cy="990360"/>
          </a:xfrm>
        </p:grpSpPr>
        <p:sp>
          <p:nvSpPr>
            <p:cNvPr id="747" name=""/>
            <p:cNvSpPr/>
            <p:nvPr/>
          </p:nvSpPr>
          <p:spPr>
            <a:xfrm>
              <a:off x="826920" y="18828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09320" y="2187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065320" y="2187720"/>
            <a:ext cx="4038480" cy="259056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48000" y="3068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IPv6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65720" y="4100400"/>
            <a:ext cx="1397160" cy="1059120"/>
          </a:xfrm>
          <a:custGeom>
            <a:avLst/>
            <a:gdLst/>
            <a:ahLst/>
            <a:rect l="l" t="t" r="r" b="b"/>
            <a:pathLst>
              <a:path w="1482" h="702">
                <a:moveTo>
                  <a:pt x="132" y="230"/>
                </a:moveTo>
                <a:lnTo>
                  <a:pt x="102" y="240"/>
                </a:lnTo>
                <a:lnTo>
                  <a:pt x="71" y="240"/>
                </a:lnTo>
                <a:lnTo>
                  <a:pt x="51" y="250"/>
                </a:lnTo>
                <a:lnTo>
                  <a:pt x="41" y="271"/>
                </a:lnTo>
                <a:lnTo>
                  <a:pt x="20" y="271"/>
                </a:lnTo>
                <a:lnTo>
                  <a:pt x="20" y="281"/>
                </a:lnTo>
                <a:lnTo>
                  <a:pt x="10" y="291"/>
                </a:lnTo>
                <a:lnTo>
                  <a:pt x="10" y="301"/>
                </a:lnTo>
                <a:lnTo>
                  <a:pt x="0" y="301"/>
                </a:lnTo>
                <a:lnTo>
                  <a:pt x="0" y="311"/>
                </a:lnTo>
                <a:lnTo>
                  <a:pt x="0" y="321"/>
                </a:lnTo>
                <a:lnTo>
                  <a:pt x="0" y="331"/>
                </a:lnTo>
                <a:lnTo>
                  <a:pt x="0" y="341"/>
                </a:lnTo>
                <a:lnTo>
                  <a:pt x="0" y="361"/>
                </a:lnTo>
                <a:lnTo>
                  <a:pt x="10" y="371"/>
                </a:lnTo>
                <a:lnTo>
                  <a:pt x="10" y="381"/>
                </a:lnTo>
                <a:lnTo>
                  <a:pt x="20" y="391"/>
                </a:lnTo>
                <a:lnTo>
                  <a:pt x="41" y="401"/>
                </a:lnTo>
                <a:lnTo>
                  <a:pt x="51" y="411"/>
                </a:lnTo>
                <a:lnTo>
                  <a:pt x="71" y="411"/>
                </a:lnTo>
                <a:lnTo>
                  <a:pt x="71" y="411"/>
                </a:lnTo>
                <a:lnTo>
                  <a:pt x="61" y="421"/>
                </a:lnTo>
                <a:lnTo>
                  <a:pt x="51" y="431"/>
                </a:lnTo>
                <a:lnTo>
                  <a:pt x="51" y="431"/>
                </a:lnTo>
                <a:lnTo>
                  <a:pt x="41" y="451"/>
                </a:lnTo>
                <a:lnTo>
                  <a:pt x="41" y="461"/>
                </a:lnTo>
                <a:lnTo>
                  <a:pt x="31" y="461"/>
                </a:lnTo>
                <a:lnTo>
                  <a:pt x="31" y="471"/>
                </a:lnTo>
                <a:lnTo>
                  <a:pt x="31" y="481"/>
                </a:lnTo>
                <a:lnTo>
                  <a:pt x="31" y="491"/>
                </a:lnTo>
                <a:lnTo>
                  <a:pt x="31" y="501"/>
                </a:lnTo>
                <a:lnTo>
                  <a:pt x="41" y="511"/>
                </a:lnTo>
                <a:lnTo>
                  <a:pt x="41" y="521"/>
                </a:lnTo>
                <a:lnTo>
                  <a:pt x="51" y="521"/>
                </a:lnTo>
                <a:lnTo>
                  <a:pt x="51" y="541"/>
                </a:lnTo>
                <a:lnTo>
                  <a:pt x="61" y="541"/>
                </a:lnTo>
                <a:lnTo>
                  <a:pt x="71" y="551"/>
                </a:lnTo>
                <a:lnTo>
                  <a:pt x="81" y="561"/>
                </a:lnTo>
                <a:lnTo>
                  <a:pt x="91" y="561"/>
                </a:lnTo>
                <a:lnTo>
                  <a:pt x="122" y="571"/>
                </a:lnTo>
                <a:lnTo>
                  <a:pt x="152" y="581"/>
                </a:lnTo>
                <a:lnTo>
                  <a:pt x="163" y="581"/>
                </a:lnTo>
                <a:lnTo>
                  <a:pt x="173" y="581"/>
                </a:lnTo>
                <a:lnTo>
                  <a:pt x="193" y="581"/>
                </a:lnTo>
                <a:lnTo>
                  <a:pt x="193" y="581"/>
                </a:lnTo>
                <a:lnTo>
                  <a:pt x="213" y="601"/>
                </a:lnTo>
                <a:lnTo>
                  <a:pt x="244" y="611"/>
                </a:lnTo>
                <a:lnTo>
                  <a:pt x="264" y="631"/>
                </a:lnTo>
                <a:lnTo>
                  <a:pt x="294" y="641"/>
                </a:lnTo>
                <a:lnTo>
                  <a:pt x="325" y="652"/>
                </a:lnTo>
                <a:lnTo>
                  <a:pt x="355" y="662"/>
                </a:lnTo>
                <a:lnTo>
                  <a:pt x="396" y="662"/>
                </a:lnTo>
                <a:lnTo>
                  <a:pt x="426" y="662"/>
                </a:lnTo>
                <a:lnTo>
                  <a:pt x="457" y="662"/>
                </a:lnTo>
                <a:lnTo>
                  <a:pt x="497" y="662"/>
                </a:lnTo>
                <a:lnTo>
                  <a:pt x="528" y="652"/>
                </a:lnTo>
                <a:lnTo>
                  <a:pt x="558" y="641"/>
                </a:lnTo>
                <a:lnTo>
                  <a:pt x="558" y="641"/>
                </a:lnTo>
                <a:lnTo>
                  <a:pt x="579" y="662"/>
                </a:lnTo>
                <a:lnTo>
                  <a:pt x="599" y="672"/>
                </a:lnTo>
                <a:lnTo>
                  <a:pt x="619" y="682"/>
                </a:lnTo>
                <a:lnTo>
                  <a:pt x="650" y="692"/>
                </a:lnTo>
                <a:lnTo>
                  <a:pt x="670" y="702"/>
                </a:lnTo>
                <a:lnTo>
                  <a:pt x="700" y="702"/>
                </a:lnTo>
                <a:lnTo>
                  <a:pt x="731" y="702"/>
                </a:lnTo>
                <a:lnTo>
                  <a:pt x="751" y="702"/>
                </a:lnTo>
                <a:lnTo>
                  <a:pt x="771" y="702"/>
                </a:lnTo>
                <a:lnTo>
                  <a:pt x="792" y="702"/>
                </a:lnTo>
                <a:lnTo>
                  <a:pt x="832" y="702"/>
                </a:lnTo>
                <a:lnTo>
                  <a:pt x="863" y="692"/>
                </a:lnTo>
                <a:lnTo>
                  <a:pt x="893" y="682"/>
                </a:lnTo>
                <a:lnTo>
                  <a:pt x="903" y="672"/>
                </a:lnTo>
                <a:lnTo>
                  <a:pt x="924" y="662"/>
                </a:lnTo>
                <a:lnTo>
                  <a:pt x="934" y="652"/>
                </a:lnTo>
                <a:lnTo>
                  <a:pt x="944" y="641"/>
                </a:lnTo>
                <a:lnTo>
                  <a:pt x="954" y="641"/>
                </a:lnTo>
                <a:lnTo>
                  <a:pt x="964" y="621"/>
                </a:lnTo>
                <a:lnTo>
                  <a:pt x="974" y="611"/>
                </a:lnTo>
                <a:lnTo>
                  <a:pt x="974" y="601"/>
                </a:lnTo>
                <a:lnTo>
                  <a:pt x="974" y="601"/>
                </a:lnTo>
                <a:lnTo>
                  <a:pt x="995" y="611"/>
                </a:lnTo>
                <a:lnTo>
                  <a:pt x="1025" y="611"/>
                </a:lnTo>
                <a:lnTo>
                  <a:pt x="1056" y="621"/>
                </a:lnTo>
                <a:lnTo>
                  <a:pt x="1086" y="621"/>
                </a:lnTo>
                <a:lnTo>
                  <a:pt x="1096" y="621"/>
                </a:lnTo>
                <a:lnTo>
                  <a:pt x="1127" y="621"/>
                </a:lnTo>
                <a:lnTo>
                  <a:pt x="1137" y="611"/>
                </a:lnTo>
                <a:lnTo>
                  <a:pt x="1157" y="611"/>
                </a:lnTo>
                <a:lnTo>
                  <a:pt x="1177" y="601"/>
                </a:lnTo>
                <a:lnTo>
                  <a:pt x="1188" y="601"/>
                </a:lnTo>
                <a:lnTo>
                  <a:pt x="1208" y="591"/>
                </a:lnTo>
                <a:lnTo>
                  <a:pt x="1218" y="581"/>
                </a:lnTo>
                <a:lnTo>
                  <a:pt x="1238" y="571"/>
                </a:lnTo>
                <a:lnTo>
                  <a:pt x="1248" y="561"/>
                </a:lnTo>
                <a:lnTo>
                  <a:pt x="1248" y="551"/>
                </a:lnTo>
                <a:lnTo>
                  <a:pt x="1269" y="541"/>
                </a:lnTo>
                <a:lnTo>
                  <a:pt x="1269" y="531"/>
                </a:lnTo>
                <a:lnTo>
                  <a:pt x="1279" y="521"/>
                </a:lnTo>
                <a:lnTo>
                  <a:pt x="1279" y="501"/>
                </a:lnTo>
                <a:lnTo>
                  <a:pt x="1279" y="491"/>
                </a:lnTo>
                <a:lnTo>
                  <a:pt x="1279" y="491"/>
                </a:lnTo>
                <a:lnTo>
                  <a:pt x="1299" y="491"/>
                </a:lnTo>
                <a:lnTo>
                  <a:pt x="1319" y="491"/>
                </a:lnTo>
                <a:lnTo>
                  <a:pt x="1340" y="481"/>
                </a:lnTo>
                <a:lnTo>
                  <a:pt x="1360" y="481"/>
                </a:lnTo>
                <a:lnTo>
                  <a:pt x="1380" y="471"/>
                </a:lnTo>
                <a:lnTo>
                  <a:pt x="1391" y="461"/>
                </a:lnTo>
                <a:lnTo>
                  <a:pt x="1411" y="451"/>
                </a:lnTo>
                <a:lnTo>
                  <a:pt x="1421" y="441"/>
                </a:lnTo>
                <a:lnTo>
                  <a:pt x="1431" y="431"/>
                </a:lnTo>
                <a:lnTo>
                  <a:pt x="1441" y="421"/>
                </a:lnTo>
                <a:lnTo>
                  <a:pt x="1462" y="411"/>
                </a:lnTo>
                <a:lnTo>
                  <a:pt x="1462" y="401"/>
                </a:lnTo>
                <a:lnTo>
                  <a:pt x="1472" y="381"/>
                </a:lnTo>
                <a:lnTo>
                  <a:pt x="1472" y="371"/>
                </a:lnTo>
                <a:lnTo>
                  <a:pt x="1482" y="361"/>
                </a:lnTo>
                <a:lnTo>
                  <a:pt x="1482" y="341"/>
                </a:lnTo>
                <a:lnTo>
                  <a:pt x="1482" y="331"/>
                </a:lnTo>
                <a:lnTo>
                  <a:pt x="1472" y="321"/>
                </a:lnTo>
                <a:lnTo>
                  <a:pt x="1472" y="311"/>
                </a:lnTo>
                <a:lnTo>
                  <a:pt x="1472" y="291"/>
                </a:lnTo>
                <a:lnTo>
                  <a:pt x="1462" y="281"/>
                </a:lnTo>
                <a:lnTo>
                  <a:pt x="1451" y="271"/>
                </a:lnTo>
                <a:lnTo>
                  <a:pt x="1441" y="261"/>
                </a:lnTo>
                <a:lnTo>
                  <a:pt x="1431" y="250"/>
                </a:lnTo>
                <a:lnTo>
                  <a:pt x="1431" y="250"/>
                </a:lnTo>
                <a:lnTo>
                  <a:pt x="1441" y="240"/>
                </a:lnTo>
                <a:lnTo>
                  <a:pt x="1441" y="230"/>
                </a:lnTo>
                <a:lnTo>
                  <a:pt x="1441" y="220"/>
                </a:lnTo>
                <a:lnTo>
                  <a:pt x="1441" y="200"/>
                </a:lnTo>
                <a:lnTo>
                  <a:pt x="1441" y="190"/>
                </a:lnTo>
                <a:lnTo>
                  <a:pt x="1441" y="190"/>
                </a:lnTo>
                <a:lnTo>
                  <a:pt x="1441" y="170"/>
                </a:lnTo>
                <a:lnTo>
                  <a:pt x="1431" y="160"/>
                </a:lnTo>
                <a:lnTo>
                  <a:pt x="1431" y="150"/>
                </a:lnTo>
                <a:lnTo>
                  <a:pt x="1421" y="150"/>
                </a:lnTo>
                <a:lnTo>
                  <a:pt x="1421" y="140"/>
                </a:lnTo>
                <a:lnTo>
                  <a:pt x="1401" y="130"/>
                </a:lnTo>
                <a:lnTo>
                  <a:pt x="1391" y="120"/>
                </a:lnTo>
                <a:lnTo>
                  <a:pt x="1370" y="110"/>
                </a:lnTo>
                <a:lnTo>
                  <a:pt x="1340" y="100"/>
                </a:lnTo>
                <a:lnTo>
                  <a:pt x="1309" y="80"/>
                </a:lnTo>
                <a:lnTo>
                  <a:pt x="1309" y="80"/>
                </a:lnTo>
                <a:lnTo>
                  <a:pt x="1309" y="80"/>
                </a:lnTo>
                <a:lnTo>
                  <a:pt x="1299" y="70"/>
                </a:lnTo>
                <a:lnTo>
                  <a:pt x="1299" y="60"/>
                </a:lnTo>
                <a:lnTo>
                  <a:pt x="1289" y="50"/>
                </a:lnTo>
                <a:lnTo>
                  <a:pt x="1279" y="40"/>
                </a:lnTo>
                <a:lnTo>
                  <a:pt x="1279" y="40"/>
                </a:lnTo>
                <a:lnTo>
                  <a:pt x="1248" y="20"/>
                </a:lnTo>
                <a:lnTo>
                  <a:pt x="1228" y="10"/>
                </a:lnTo>
                <a:lnTo>
                  <a:pt x="1198" y="10"/>
                </a:lnTo>
                <a:lnTo>
                  <a:pt x="1177" y="0"/>
                </a:lnTo>
                <a:lnTo>
                  <a:pt x="1147" y="0"/>
                </a:lnTo>
                <a:lnTo>
                  <a:pt x="1127" y="0"/>
                </a:lnTo>
                <a:lnTo>
                  <a:pt x="1106" y="0"/>
                </a:lnTo>
                <a:lnTo>
                  <a:pt x="1096" y="10"/>
                </a:lnTo>
                <a:lnTo>
                  <a:pt x="1076" y="10"/>
                </a:lnTo>
                <a:lnTo>
                  <a:pt x="1056" y="20"/>
                </a:lnTo>
                <a:lnTo>
                  <a:pt x="1045" y="20"/>
                </a:lnTo>
                <a:lnTo>
                  <a:pt x="1035" y="30"/>
                </a:lnTo>
                <a:lnTo>
                  <a:pt x="1025" y="40"/>
                </a:lnTo>
                <a:lnTo>
                  <a:pt x="1025" y="40"/>
                </a:lnTo>
                <a:lnTo>
                  <a:pt x="1005" y="30"/>
                </a:lnTo>
                <a:lnTo>
                  <a:pt x="995" y="20"/>
                </a:lnTo>
                <a:lnTo>
                  <a:pt x="985" y="20"/>
                </a:lnTo>
                <a:lnTo>
                  <a:pt x="974" y="10"/>
                </a:lnTo>
                <a:lnTo>
                  <a:pt x="954" y="10"/>
                </a:lnTo>
                <a:lnTo>
                  <a:pt x="934" y="0"/>
                </a:lnTo>
                <a:lnTo>
                  <a:pt x="924" y="0"/>
                </a:lnTo>
                <a:lnTo>
                  <a:pt x="903" y="0"/>
                </a:lnTo>
                <a:lnTo>
                  <a:pt x="883" y="0"/>
                </a:lnTo>
                <a:lnTo>
                  <a:pt x="863" y="0"/>
                </a:lnTo>
                <a:lnTo>
                  <a:pt x="842" y="10"/>
                </a:lnTo>
                <a:lnTo>
                  <a:pt x="822" y="10"/>
                </a:lnTo>
                <a:lnTo>
                  <a:pt x="802" y="20"/>
                </a:lnTo>
                <a:lnTo>
                  <a:pt x="792" y="30"/>
                </a:lnTo>
                <a:lnTo>
                  <a:pt x="782" y="40"/>
                </a:lnTo>
                <a:lnTo>
                  <a:pt x="761" y="50"/>
                </a:lnTo>
                <a:lnTo>
                  <a:pt x="761" y="50"/>
                </a:lnTo>
                <a:lnTo>
                  <a:pt x="751" y="50"/>
                </a:lnTo>
                <a:lnTo>
                  <a:pt x="741" y="40"/>
                </a:lnTo>
                <a:lnTo>
                  <a:pt x="731" y="30"/>
                </a:lnTo>
                <a:lnTo>
                  <a:pt x="711" y="30"/>
                </a:lnTo>
                <a:lnTo>
                  <a:pt x="690" y="30"/>
                </a:lnTo>
                <a:lnTo>
                  <a:pt x="680" y="20"/>
                </a:lnTo>
                <a:lnTo>
                  <a:pt x="660" y="20"/>
                </a:lnTo>
                <a:lnTo>
                  <a:pt x="640" y="20"/>
                </a:lnTo>
                <a:lnTo>
                  <a:pt x="609" y="20"/>
                </a:lnTo>
                <a:lnTo>
                  <a:pt x="589" y="30"/>
                </a:lnTo>
                <a:lnTo>
                  <a:pt x="568" y="30"/>
                </a:lnTo>
                <a:lnTo>
                  <a:pt x="548" y="40"/>
                </a:lnTo>
                <a:lnTo>
                  <a:pt x="518" y="50"/>
                </a:lnTo>
                <a:lnTo>
                  <a:pt x="508" y="60"/>
                </a:lnTo>
                <a:lnTo>
                  <a:pt x="487" y="70"/>
                </a:lnTo>
                <a:lnTo>
                  <a:pt x="477" y="80"/>
                </a:lnTo>
                <a:lnTo>
                  <a:pt x="477" y="80"/>
                </a:lnTo>
                <a:lnTo>
                  <a:pt x="447" y="70"/>
                </a:lnTo>
                <a:lnTo>
                  <a:pt x="416" y="70"/>
                </a:lnTo>
                <a:lnTo>
                  <a:pt x="396" y="60"/>
                </a:lnTo>
                <a:lnTo>
                  <a:pt x="355" y="60"/>
                </a:lnTo>
                <a:lnTo>
                  <a:pt x="335" y="60"/>
                </a:lnTo>
                <a:lnTo>
                  <a:pt x="315" y="60"/>
                </a:lnTo>
                <a:lnTo>
                  <a:pt x="294" y="70"/>
                </a:lnTo>
                <a:lnTo>
                  <a:pt x="264" y="70"/>
                </a:lnTo>
                <a:lnTo>
                  <a:pt x="254" y="80"/>
                </a:lnTo>
                <a:lnTo>
                  <a:pt x="223" y="90"/>
                </a:lnTo>
                <a:lnTo>
                  <a:pt x="213" y="100"/>
                </a:lnTo>
                <a:lnTo>
                  <a:pt x="193" y="110"/>
                </a:lnTo>
                <a:lnTo>
                  <a:pt x="183" y="120"/>
                </a:lnTo>
                <a:lnTo>
                  <a:pt x="163" y="130"/>
                </a:lnTo>
                <a:lnTo>
                  <a:pt x="152" y="140"/>
                </a:lnTo>
                <a:lnTo>
                  <a:pt x="142" y="150"/>
                </a:lnTo>
                <a:lnTo>
                  <a:pt x="142" y="170"/>
                </a:lnTo>
                <a:lnTo>
                  <a:pt x="132" y="190"/>
                </a:lnTo>
                <a:lnTo>
                  <a:pt x="122" y="200"/>
                </a:lnTo>
                <a:lnTo>
                  <a:pt x="122" y="210"/>
                </a:lnTo>
                <a:lnTo>
                  <a:pt x="122" y="220"/>
                </a:lnTo>
                <a:lnTo>
                  <a:pt x="132" y="230"/>
                </a:lnTo>
                <a:lnTo>
                  <a:pt x="132" y="2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72160" y="454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875200" y="1654200"/>
            <a:ext cx="1625400" cy="990360"/>
            <a:chOff x="5875200" y="1654200"/>
            <a:chExt cx="1625400" cy="990360"/>
          </a:xfrm>
        </p:grpSpPr>
        <p:sp>
          <p:nvSpPr>
            <p:cNvPr id="754" name=""/>
            <p:cNvSpPr/>
            <p:nvPr/>
          </p:nvSpPr>
          <p:spPr>
            <a:xfrm>
              <a:off x="5875200" y="1654200"/>
              <a:ext cx="1625400" cy="990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7600" y="1958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00"/>
                  </a:solidFill>
                  <a:latin typeface="Arial"/>
                  <a:ea typeface="宋体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630760" y="2340000"/>
            <a:ext cx="472680" cy="301320"/>
            <a:chOff x="5630760" y="2340000"/>
            <a:chExt cx="472680" cy="301320"/>
          </a:xfrm>
        </p:grpSpPr>
        <p:sp>
          <p:nvSpPr>
            <p:cNvPr id="757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30760" y="234000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30760" y="241776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30760" y="234000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3800" y="236736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31560" y="236556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19400" y="252072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4360" y="251748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141640" y="2492280"/>
            <a:ext cx="472680" cy="301320"/>
            <a:chOff x="2141640" y="2492280"/>
            <a:chExt cx="472680" cy="301320"/>
          </a:xfrm>
        </p:grpSpPr>
        <p:sp>
          <p:nvSpPr>
            <p:cNvPr id="772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41640" y="24922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1640" y="25700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1640" y="24922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4680" y="25196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2440" y="25178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0280" y="26730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25240" y="26697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970440" y="4702320"/>
            <a:ext cx="472680" cy="300960"/>
            <a:chOff x="3970440" y="4702320"/>
            <a:chExt cx="472680" cy="300960"/>
          </a:xfrm>
        </p:grpSpPr>
        <p:sp>
          <p:nvSpPr>
            <p:cNvPr id="787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70440" y="470232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70440" y="478008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70440" y="470232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3480" y="472932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1240" y="472788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59080" y="488304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54040" y="487944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411360" y="1052640"/>
            <a:ext cx="1397160" cy="1058760"/>
            <a:chOff x="3411360" y="1052640"/>
            <a:chExt cx="1397160" cy="1058760"/>
          </a:xfrm>
        </p:grpSpPr>
        <p:sp>
          <p:nvSpPr>
            <p:cNvPr id="802" name=""/>
            <p:cNvSpPr/>
            <p:nvPr/>
          </p:nvSpPr>
          <p:spPr>
            <a:xfrm>
              <a:off x="3411360" y="1052640"/>
              <a:ext cx="139716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7800" y="1501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49400" y="4321080"/>
            <a:ext cx="1396800" cy="1058760"/>
            <a:chOff x="1049400" y="4321080"/>
            <a:chExt cx="1396800" cy="1058760"/>
          </a:xfrm>
        </p:grpSpPr>
        <p:sp>
          <p:nvSpPr>
            <p:cNvPr id="805" name=""/>
            <p:cNvSpPr/>
            <p:nvPr/>
          </p:nvSpPr>
          <p:spPr>
            <a:xfrm>
              <a:off x="1049400" y="4321080"/>
              <a:ext cx="1396800" cy="10587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55480" y="477036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049480" y="4152960"/>
            <a:ext cx="472680" cy="301320"/>
            <a:chOff x="2049480" y="4152960"/>
            <a:chExt cx="472680" cy="301320"/>
          </a:xfrm>
        </p:grpSpPr>
        <p:sp>
          <p:nvSpPr>
            <p:cNvPr id="808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49480" y="41529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9480" y="42307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9480" y="41529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2520" y="41803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50280" y="41785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38120" y="43336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33080" y="43304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173560" y="4172040"/>
            <a:ext cx="472680" cy="301320"/>
            <a:chOff x="5173560" y="4172040"/>
            <a:chExt cx="472680" cy="301320"/>
          </a:xfrm>
        </p:grpSpPr>
        <p:sp>
          <p:nvSpPr>
            <p:cNvPr id="823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73560" y="417204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73560" y="424980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3560" y="417204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86600" y="419940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4360" y="419760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2200" y="435276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57160" y="434952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970440" y="2035080"/>
            <a:ext cx="472680" cy="301320"/>
            <a:chOff x="3970440" y="2035080"/>
            <a:chExt cx="472680" cy="301320"/>
          </a:xfrm>
        </p:grpSpPr>
        <p:sp>
          <p:nvSpPr>
            <p:cNvPr id="838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0440" y="20350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0440" y="21128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70440" y="20350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3480" y="20624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1240" y="20606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22158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4040" y="22125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676680"/>
            <a:ext cx="431640" cy="288720"/>
            <a:chOff x="2771640" y="3676680"/>
            <a:chExt cx="431640" cy="288720"/>
          </a:xfrm>
        </p:grpSpPr>
        <p:sp>
          <p:nvSpPr>
            <p:cNvPr id="853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367668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71640" y="375120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367668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74960" y="370260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3440" y="370116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44080" y="384984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39040" y="384660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490920" y="2670120"/>
            <a:ext cx="431280" cy="289080"/>
            <a:chOff x="3490920" y="2670120"/>
            <a:chExt cx="431280" cy="289080"/>
          </a:xfrm>
        </p:grpSpPr>
        <p:sp>
          <p:nvSpPr>
            <p:cNvPr id="868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09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909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942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827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30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583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00720" y="2670120"/>
            <a:ext cx="431280" cy="289080"/>
            <a:chOff x="4500720" y="2670120"/>
            <a:chExt cx="431280" cy="289080"/>
          </a:xfrm>
        </p:grpSpPr>
        <p:sp>
          <p:nvSpPr>
            <p:cNvPr id="883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00720" y="2670120"/>
              <a:ext cx="431280" cy="28908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0720" y="2744640"/>
              <a:ext cx="431280" cy="214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00720" y="267012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4040" y="2696040"/>
              <a:ext cx="262080" cy="892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2520" y="269460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72800" y="284328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68120" y="284004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932360" y="3606840"/>
            <a:ext cx="431280" cy="288720"/>
            <a:chOff x="4932360" y="3606840"/>
            <a:chExt cx="431280" cy="288720"/>
          </a:xfrm>
        </p:grpSpPr>
        <p:sp>
          <p:nvSpPr>
            <p:cNvPr id="898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32360" y="360684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32360" y="368136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32360" y="360684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35680" y="3632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4160" y="3631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4440" y="3780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99760" y="3776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356000" y="3822840"/>
            <a:ext cx="431640" cy="288720"/>
            <a:chOff x="4356000" y="3822840"/>
            <a:chExt cx="431640" cy="288720"/>
          </a:xfrm>
        </p:grpSpPr>
        <p:sp>
          <p:nvSpPr>
            <p:cNvPr id="913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56000" y="3822840"/>
              <a:ext cx="43164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56000" y="3897360"/>
              <a:ext cx="43164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56000" y="3822840"/>
              <a:ext cx="43020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59320" y="384876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47800" y="384732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28440" y="399600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23400" y="399276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706920" y="3389400"/>
            <a:ext cx="431280" cy="288720"/>
            <a:chOff x="3706920" y="3389400"/>
            <a:chExt cx="431280" cy="288720"/>
          </a:xfrm>
        </p:grpSpPr>
        <p:sp>
          <p:nvSpPr>
            <p:cNvPr id="928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6920" y="3389400"/>
              <a:ext cx="431280" cy="2887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06920" y="3463920"/>
              <a:ext cx="431280" cy="21384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6920" y="3389400"/>
              <a:ext cx="429840" cy="145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10240" y="3415320"/>
              <a:ext cx="262080" cy="8892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98720" y="3413880"/>
              <a:ext cx="260640" cy="860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79000" y="3562560"/>
              <a:ext cx="102960" cy="10440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874320" y="3559320"/>
              <a:ext cx="102960" cy="1047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64000" y="4325760"/>
            <a:ext cx="472680" cy="301320"/>
            <a:chOff x="3564000" y="4325760"/>
            <a:chExt cx="472680" cy="301320"/>
          </a:xfrm>
        </p:grpSpPr>
        <p:sp>
          <p:nvSpPr>
            <p:cNvPr id="943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64000" y="43257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64000" y="44035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564000" y="4325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77040" y="43531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64800" y="4351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52640" y="45064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47600" y="45032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340000" y="3246480"/>
            <a:ext cx="472680" cy="301320"/>
            <a:chOff x="2340000" y="3246480"/>
            <a:chExt cx="472680" cy="301320"/>
          </a:xfrm>
        </p:grpSpPr>
        <p:sp>
          <p:nvSpPr>
            <p:cNvPr id="958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40000" y="324648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40000" y="332424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40000" y="324648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3040" y="327384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0800" y="327204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28640" y="342720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23600" y="342396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801880" y="2741760"/>
            <a:ext cx="472680" cy="300960"/>
            <a:chOff x="2801880" y="2741760"/>
            <a:chExt cx="472680" cy="300960"/>
          </a:xfrm>
        </p:grpSpPr>
        <p:sp>
          <p:nvSpPr>
            <p:cNvPr id="973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0188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0188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0188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1492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0268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9052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8548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78600" y="2741760"/>
            <a:ext cx="472680" cy="300960"/>
            <a:chOff x="5178600" y="2741760"/>
            <a:chExt cx="472680" cy="300960"/>
          </a:xfrm>
        </p:grpSpPr>
        <p:sp>
          <p:nvSpPr>
            <p:cNvPr id="988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78600" y="2741760"/>
              <a:ext cx="472680" cy="30096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78600" y="2819520"/>
              <a:ext cx="472680" cy="22320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78600" y="27417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91640" y="2768760"/>
              <a:ext cx="287280" cy="9288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79400" y="27673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7240" y="2922480"/>
              <a:ext cx="112680" cy="1087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62200" y="2918880"/>
              <a:ext cx="112680" cy="1090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538960" y="3305160"/>
            <a:ext cx="472680" cy="301320"/>
            <a:chOff x="5538960" y="3305160"/>
            <a:chExt cx="472680" cy="301320"/>
          </a:xfrm>
        </p:grpSpPr>
        <p:sp>
          <p:nvSpPr>
            <p:cNvPr id="1003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38960" y="3305160"/>
              <a:ext cx="472680" cy="30132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3382920"/>
              <a:ext cx="472680" cy="2235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38960" y="3305160"/>
              <a:ext cx="471240" cy="15156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2000" y="3332520"/>
              <a:ext cx="287280" cy="93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39760" y="3330720"/>
              <a:ext cx="285480" cy="8964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27600" y="3485880"/>
              <a:ext cx="112680" cy="10908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560" y="3482640"/>
              <a:ext cx="112680" cy="10944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04000" y="5156280"/>
            <a:ext cx="1079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AS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64000" y="400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82920" y="192888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28720" y="401796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FXL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482920" y="2276640"/>
            <a:ext cx="2880720" cy="2087280"/>
            <a:chOff x="2482920" y="2276640"/>
            <a:chExt cx="2880720" cy="2087280"/>
          </a:xfrm>
        </p:grpSpPr>
        <p:sp>
          <p:nvSpPr>
            <p:cNvPr id="1022" name=""/>
            <p:cNvSpPr/>
            <p:nvPr/>
          </p:nvSpPr>
          <p:spPr>
            <a:xfrm flipH="1" flipV="1">
              <a:off x="3779640" y="2923920"/>
              <a:ext cx="142560" cy="431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482920" y="2276640"/>
              <a:ext cx="2880720" cy="2087280"/>
              <a:chOff x="2482920" y="2276640"/>
              <a:chExt cx="2880720" cy="208728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3132000" y="3499920"/>
                <a:ext cx="647280" cy="28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66920" y="3573360"/>
                <a:ext cx="431280" cy="2872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714560" y="3789000"/>
                <a:ext cx="288720" cy="142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356000" y="2276640"/>
                <a:ext cx="215280" cy="50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3850560" y="2276640"/>
                <a:ext cx="215640" cy="431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22560" y="2852640"/>
                <a:ext cx="64872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7640" y="2924280"/>
                <a:ext cx="360000" cy="720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482920" y="3860280"/>
                <a:ext cx="431640" cy="287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290920" y="3789000"/>
                <a:ext cx="72720" cy="358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14560" y="4076640"/>
                <a:ext cx="504360" cy="216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482920" y="4005360"/>
                <a:ext cx="1873080" cy="358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3078000" y="2867040"/>
                <a:ext cx="431280" cy="7920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"/>
          <p:cNvSpPr/>
          <p:nvPr/>
        </p:nvSpPr>
        <p:spPr>
          <a:xfrm>
            <a:off x="4788000" y="5587920"/>
            <a:ext cx="4356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FXLBRs advertise IPv4-embedded IPv6 addresses into the partial IPv6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FrutigerNext LT Regular"/>
              </a:rPr>
              <a:t>A separate routing table for routing IPv4-embedded IPv6 pack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6407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cenarios where OSPFv3 approach usefu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02920" y="62028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nning BGP not feasible someti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nnel based forwarding not feasi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08000" y="1557360"/>
            <a:ext cx="8496360" cy="5298480"/>
            <a:chOff x="108000" y="1557360"/>
            <a:chExt cx="8496360" cy="5298480"/>
          </a:xfrm>
        </p:grpSpPr>
        <p:sp>
          <p:nvSpPr>
            <p:cNvPr id="1041" name=""/>
            <p:cNvSpPr/>
            <p:nvPr/>
          </p:nvSpPr>
          <p:spPr>
            <a:xfrm>
              <a:off x="5292720" y="4870440"/>
              <a:ext cx="1440000" cy="10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80160" y="526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24000" y="2351160"/>
              <a:ext cx="4197600" cy="2879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45080" y="3430440"/>
              <a:ext cx="1584360" cy="1224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7080" y="3862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857160" y="1701720"/>
              <a:ext cx="763560" cy="522360"/>
              <a:chOff x="857160" y="1701720"/>
              <a:chExt cx="763560" cy="5223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94940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"/>
              <p:cNvSpPr/>
              <p:nvPr/>
            </p:nvSpPr>
            <p:spPr>
              <a:xfrm>
                <a:off x="901800" y="170172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3203640" y="37180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4500720" y="2854440"/>
              <a:ext cx="472680" cy="301320"/>
              <a:chOff x="4500720" y="2854440"/>
              <a:chExt cx="472680" cy="301320"/>
            </a:xfrm>
          </p:grpSpPr>
          <p:sp>
            <p:nvSpPr>
              <p:cNvPr id="1051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00720" y="2854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00720" y="2932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00720" y="2854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13760" y="2881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01520" y="2880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89360" y="3035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4320" y="3031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6084720" y="1917720"/>
              <a:ext cx="1727280" cy="129528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720" y="2349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421080" y="2782800"/>
              <a:ext cx="472680" cy="301320"/>
              <a:chOff x="3421080" y="2782800"/>
              <a:chExt cx="472680" cy="301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21080" y="27828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21080" y="28605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21080" y="27828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34120" y="28101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21880" y="28083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09720" y="29635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04680" y="29602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60720" y="3359160"/>
              <a:ext cx="472680" cy="301320"/>
              <a:chOff x="3060720" y="3359160"/>
              <a:chExt cx="472680" cy="301320"/>
            </a:xfrm>
          </p:grpSpPr>
          <p:sp>
            <p:nvSpPr>
              <p:cNvPr id="1083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60720" y="3359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060720" y="3436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60720" y="3359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3760" y="3386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61520" y="3384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249360" y="3539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244320" y="3536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027320" y="4581360"/>
              <a:ext cx="473040" cy="301320"/>
              <a:chOff x="4027320" y="4581360"/>
              <a:chExt cx="473040" cy="301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27320" y="4581360"/>
                <a:ext cx="47304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27320" y="4659120"/>
                <a:ext cx="47304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27320" y="4581360"/>
                <a:ext cx="47160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4036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28120" y="4606920"/>
                <a:ext cx="28584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632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1092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1073160" y="2403360"/>
              <a:ext cx="763560" cy="522360"/>
              <a:chOff x="1073160" y="2403360"/>
              <a:chExt cx="763560" cy="522360"/>
            </a:xfrm>
          </p:grpSpPr>
          <p:pic>
            <p:nvPicPr>
              <p:cNvPr id="1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3160" y="26510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>
                <a:off x="1117800" y="24033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684360" y="2836800"/>
              <a:ext cx="763560" cy="522360"/>
              <a:chOff x="684360" y="2836800"/>
              <a:chExt cx="763560" cy="52236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3084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729000" y="2836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900000" y="3340080"/>
              <a:ext cx="763560" cy="522360"/>
              <a:chOff x="900000" y="3340080"/>
              <a:chExt cx="763560" cy="52236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00" y="358776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"/>
              <p:cNvSpPr/>
              <p:nvPr/>
            </p:nvSpPr>
            <p:spPr>
              <a:xfrm>
                <a:off x="944640" y="334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1649520" y="5284800"/>
              <a:ext cx="763560" cy="522360"/>
              <a:chOff x="1649520" y="5284800"/>
              <a:chExt cx="763560" cy="522360"/>
            </a:xfrm>
          </p:grpSpPr>
          <p:pic>
            <p:nvPicPr>
              <p:cNvPr id="11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520" y="553248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>
                <a:off x="1694160" y="528480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1405080" y="4654440"/>
              <a:ext cx="763560" cy="522360"/>
              <a:chOff x="1405080" y="4654440"/>
              <a:chExt cx="763560" cy="5223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05080" y="490212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1449720" y="4654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1260360" y="4151160"/>
              <a:ext cx="763560" cy="522360"/>
              <a:chOff x="1260360" y="4151160"/>
              <a:chExt cx="763560" cy="52236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360" y="4398840"/>
                <a:ext cx="57780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9" name=""/>
              <p:cNvSpPr/>
              <p:nvPr/>
            </p:nvSpPr>
            <p:spPr>
              <a:xfrm>
                <a:off x="1305000" y="4151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C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5724360" y="2567160"/>
              <a:ext cx="719280" cy="547200"/>
              <a:chOff x="5724360" y="2567160"/>
              <a:chExt cx="719280" cy="5472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768640" y="2825640"/>
                <a:ext cx="431640" cy="288720"/>
                <a:chOff x="5768640" y="2825640"/>
                <a:chExt cx="431640" cy="288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68640" y="2825640"/>
                  <a:ext cx="43164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768640" y="2900160"/>
                  <a:ext cx="43164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768640" y="2825640"/>
                  <a:ext cx="43020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871960" y="285156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860440" y="285012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941080" y="299880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936040" y="299556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5724360" y="256716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5221440" y="4510080"/>
              <a:ext cx="718920" cy="547200"/>
              <a:chOff x="5221440" y="4510080"/>
              <a:chExt cx="718920" cy="5472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265360" y="4768560"/>
                <a:ext cx="431280" cy="288720"/>
                <a:chOff x="5265360" y="4768560"/>
                <a:chExt cx="431280" cy="28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65360" y="4768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65360" y="4843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65360" y="4768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68680" y="4794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357160" y="4793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437440" y="4941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432760" y="4938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5221440" y="4510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1332000" y="2062080"/>
              <a:ext cx="129708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49440" y="2709720"/>
              <a:ext cx="1008000" cy="7308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189080" y="2854080"/>
              <a:ext cx="1368360" cy="3603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5080" y="3718080"/>
              <a:ext cx="5029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692360" y="3862080"/>
              <a:ext cx="215640" cy="647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908000" y="4798800"/>
              <a:ext cx="505080" cy="215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052720" y="4941720"/>
              <a:ext cx="360360" cy="649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2270160" y="4424400"/>
              <a:ext cx="719280" cy="516960"/>
              <a:chOff x="2270160" y="4424400"/>
              <a:chExt cx="719280" cy="516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2327400" y="4640040"/>
                <a:ext cx="472680" cy="301320"/>
                <a:chOff x="2327400" y="4640040"/>
                <a:chExt cx="472680" cy="3013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27400" y="4640040"/>
                  <a:ext cx="47268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27400" y="4717800"/>
                  <a:ext cx="47268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327400" y="4640040"/>
                  <a:ext cx="47124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440440" y="4667400"/>
                  <a:ext cx="28728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428200" y="466560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516040" y="482076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511000" y="481752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2270160" y="4424400"/>
                <a:ext cx="71928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1765440" y="3359160"/>
              <a:ext cx="718920" cy="516960"/>
              <a:chOff x="1765440" y="3359160"/>
              <a:chExt cx="718920" cy="51696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1822320" y="3574800"/>
                <a:ext cx="472320" cy="301320"/>
                <a:chOff x="1822320" y="3574800"/>
                <a:chExt cx="472320" cy="30132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22320" y="357480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822320" y="365256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822320" y="357480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35360" y="360216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922760" y="360036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010960" y="375552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05560" y="375228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1765440" y="335916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348000" y="4581360"/>
              <a:ext cx="472680" cy="301320"/>
              <a:chOff x="3348000" y="4581360"/>
              <a:chExt cx="472680" cy="301320"/>
            </a:xfrm>
          </p:grpSpPr>
          <p:sp>
            <p:nvSpPr>
              <p:cNvPr id="1206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348000" y="4581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8000" y="4659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348000" y="4581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461040" y="4608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448800" y="4606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536640" y="4762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31600" y="4758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180040" y="3286080"/>
              <a:ext cx="472680" cy="301320"/>
              <a:chOff x="5180040" y="3286080"/>
              <a:chExt cx="472680" cy="301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0040" y="3286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0040" y="3363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80040" y="3286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93080" y="3313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80840" y="3311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68680" y="3466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63640" y="3463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221440" y="2565360"/>
              <a:ext cx="472680" cy="301320"/>
              <a:chOff x="5221440" y="2565360"/>
              <a:chExt cx="472680" cy="30132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221440" y="25653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21440" y="26431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1440" y="25653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34480" y="25927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22240" y="25909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0080" y="27460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27428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556000" y="3848040"/>
              <a:ext cx="472680" cy="301320"/>
              <a:chOff x="2556000" y="3848040"/>
              <a:chExt cx="472680" cy="301320"/>
            </a:xfrm>
          </p:grpSpPr>
          <p:sp>
            <p:nvSpPr>
              <p:cNvPr id="1251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56000" y="38480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56000" y="39258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56000" y="38480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669040" y="38754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56800" y="38736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44640" y="40287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9600" y="40255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486160" y="2422440"/>
              <a:ext cx="718920" cy="516960"/>
              <a:chOff x="2486160" y="2422440"/>
              <a:chExt cx="718920" cy="5169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2543040" y="2638080"/>
                <a:ext cx="472320" cy="301320"/>
                <a:chOff x="2543040" y="2638080"/>
                <a:chExt cx="472320" cy="30132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543040" y="2638080"/>
                  <a:ext cx="472320" cy="3013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543040" y="2715840"/>
                  <a:ext cx="472320" cy="22356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43040" y="2638080"/>
                  <a:ext cx="470880" cy="15156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56080" y="266544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43480" y="2663640"/>
                  <a:ext cx="285480" cy="896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31680" y="2818800"/>
                  <a:ext cx="112680" cy="10908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26280" y="2815560"/>
                  <a:ext cx="112680" cy="10944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2486160" y="242244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AF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3924360" y="3430440"/>
              <a:ext cx="472680" cy="301320"/>
              <a:chOff x="3924360" y="3430440"/>
              <a:chExt cx="472680" cy="301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24360" y="343044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24360" y="350820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24360" y="343044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37400" y="345780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025160" y="345600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13000" y="361116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07960" y="36079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086520" y="3502080"/>
              <a:ext cx="718920" cy="547200"/>
              <a:chOff x="6086520" y="3502080"/>
              <a:chExt cx="718920" cy="54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6130440" y="3760560"/>
                <a:ext cx="431280" cy="288720"/>
                <a:chOff x="6130440" y="3760560"/>
                <a:chExt cx="431280" cy="28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130440" y="3760560"/>
                  <a:ext cx="431280" cy="288720"/>
                </a:xfrm>
                <a:custGeom>
                  <a:avLst/>
                  <a:gdLst/>
                  <a:ahLst/>
                  <a:rect l="l" t="t" r="r" b="b"/>
                  <a:pathLst>
                    <a:path w="536" h="370">
                      <a:moveTo>
                        <a:pt x="0" y="94"/>
                      </a:move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6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9" y="0"/>
                      </a:lnTo>
                      <a:lnTo>
                        <a:pt x="323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4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8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4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9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2" y="65"/>
                      </a:lnTo>
                      <a:lnTo>
                        <a:pt x="526" y="71"/>
                      </a:lnTo>
                      <a:lnTo>
                        <a:pt x="528" y="75"/>
                      </a:lnTo>
                      <a:lnTo>
                        <a:pt x="532" y="81"/>
                      </a:lnTo>
                      <a:lnTo>
                        <a:pt x="534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lnTo>
                        <a:pt x="536" y="94"/>
                      </a:lnTo>
                      <a:lnTo>
                        <a:pt x="536" y="106"/>
                      </a:lnTo>
                      <a:lnTo>
                        <a:pt x="536" y="117"/>
                      </a:lnTo>
                      <a:lnTo>
                        <a:pt x="536" y="129"/>
                      </a:lnTo>
                      <a:lnTo>
                        <a:pt x="536" y="141"/>
                      </a:lnTo>
                      <a:lnTo>
                        <a:pt x="534" y="152"/>
                      </a:lnTo>
                      <a:lnTo>
                        <a:pt x="534" y="164"/>
                      </a:lnTo>
                      <a:lnTo>
                        <a:pt x="534" y="175"/>
                      </a:lnTo>
                      <a:lnTo>
                        <a:pt x="534" y="187"/>
                      </a:lnTo>
                      <a:lnTo>
                        <a:pt x="534" y="198"/>
                      </a:lnTo>
                      <a:lnTo>
                        <a:pt x="534" y="210"/>
                      </a:lnTo>
                      <a:lnTo>
                        <a:pt x="534" y="222"/>
                      </a:lnTo>
                      <a:lnTo>
                        <a:pt x="534" y="233"/>
                      </a:lnTo>
                      <a:lnTo>
                        <a:pt x="534" y="245"/>
                      </a:lnTo>
                      <a:lnTo>
                        <a:pt x="534" y="256"/>
                      </a:lnTo>
                      <a:lnTo>
                        <a:pt x="534" y="268"/>
                      </a:lnTo>
                      <a:lnTo>
                        <a:pt x="534" y="279"/>
                      </a:lnTo>
                      <a:lnTo>
                        <a:pt x="534" y="283"/>
                      </a:lnTo>
                      <a:lnTo>
                        <a:pt x="534" y="287"/>
                      </a:lnTo>
                      <a:lnTo>
                        <a:pt x="532" y="293"/>
                      </a:lnTo>
                      <a:lnTo>
                        <a:pt x="528" y="297"/>
                      </a:lnTo>
                      <a:lnTo>
                        <a:pt x="526" y="300"/>
                      </a:lnTo>
                      <a:lnTo>
                        <a:pt x="522" y="304"/>
                      </a:lnTo>
                      <a:lnTo>
                        <a:pt x="516" y="310"/>
                      </a:lnTo>
                      <a:lnTo>
                        <a:pt x="513" y="314"/>
                      </a:lnTo>
                      <a:lnTo>
                        <a:pt x="509" y="318"/>
                      </a:lnTo>
                      <a:lnTo>
                        <a:pt x="501" y="322"/>
                      </a:lnTo>
                      <a:lnTo>
                        <a:pt x="495" y="326"/>
                      </a:lnTo>
                      <a:lnTo>
                        <a:pt x="488" y="329"/>
                      </a:lnTo>
                      <a:lnTo>
                        <a:pt x="480" y="333"/>
                      </a:lnTo>
                      <a:lnTo>
                        <a:pt x="474" y="335"/>
                      </a:lnTo>
                      <a:lnTo>
                        <a:pt x="465" y="339"/>
                      </a:lnTo>
                      <a:lnTo>
                        <a:pt x="455" y="343"/>
                      </a:lnTo>
                      <a:lnTo>
                        <a:pt x="447" y="345"/>
                      </a:lnTo>
                      <a:lnTo>
                        <a:pt x="438" y="349"/>
                      </a:lnTo>
                      <a:lnTo>
                        <a:pt x="426" y="351"/>
                      </a:lnTo>
                      <a:lnTo>
                        <a:pt x="417" y="354"/>
                      </a:lnTo>
                      <a:lnTo>
                        <a:pt x="405" y="356"/>
                      </a:lnTo>
                      <a:lnTo>
                        <a:pt x="394" y="358"/>
                      </a:lnTo>
                      <a:lnTo>
                        <a:pt x="384" y="360"/>
                      </a:lnTo>
                      <a:lnTo>
                        <a:pt x="371" y="364"/>
                      </a:lnTo>
                      <a:lnTo>
                        <a:pt x="359" y="364"/>
                      </a:lnTo>
                      <a:lnTo>
                        <a:pt x="348" y="366"/>
                      </a:lnTo>
                      <a:lnTo>
                        <a:pt x="334" y="366"/>
                      </a:lnTo>
                      <a:lnTo>
                        <a:pt x="323" y="368"/>
                      </a:lnTo>
                      <a:lnTo>
                        <a:pt x="309" y="368"/>
                      </a:lnTo>
                      <a:lnTo>
                        <a:pt x="296" y="370"/>
                      </a:lnTo>
                      <a:lnTo>
                        <a:pt x="282" y="370"/>
                      </a:lnTo>
                      <a:lnTo>
                        <a:pt x="269" y="370"/>
                      </a:lnTo>
                      <a:lnTo>
                        <a:pt x="256" y="370"/>
                      </a:lnTo>
                      <a:lnTo>
                        <a:pt x="240" y="370"/>
                      </a:lnTo>
                      <a:lnTo>
                        <a:pt x="227" y="368"/>
                      </a:lnTo>
                      <a:lnTo>
                        <a:pt x="213" y="368"/>
                      </a:lnTo>
                      <a:lnTo>
                        <a:pt x="202" y="366"/>
                      </a:lnTo>
                      <a:lnTo>
                        <a:pt x="188" y="366"/>
                      </a:lnTo>
                      <a:lnTo>
                        <a:pt x="177" y="364"/>
                      </a:lnTo>
                      <a:lnTo>
                        <a:pt x="163" y="364"/>
                      </a:lnTo>
                      <a:lnTo>
                        <a:pt x="152" y="360"/>
                      </a:lnTo>
                      <a:lnTo>
                        <a:pt x="140" y="358"/>
                      </a:lnTo>
                      <a:lnTo>
                        <a:pt x="129" y="356"/>
                      </a:lnTo>
                      <a:lnTo>
                        <a:pt x="119" y="354"/>
                      </a:lnTo>
                      <a:lnTo>
                        <a:pt x="108" y="351"/>
                      </a:lnTo>
                      <a:lnTo>
                        <a:pt x="96" y="349"/>
                      </a:lnTo>
                      <a:lnTo>
                        <a:pt x="89" y="345"/>
                      </a:lnTo>
                      <a:lnTo>
                        <a:pt x="79" y="343"/>
                      </a:lnTo>
                      <a:lnTo>
                        <a:pt x="69" y="339"/>
                      </a:lnTo>
                      <a:lnTo>
                        <a:pt x="60" y="335"/>
                      </a:lnTo>
                      <a:lnTo>
                        <a:pt x="54" y="333"/>
                      </a:lnTo>
                      <a:lnTo>
                        <a:pt x="46" y="329"/>
                      </a:lnTo>
                      <a:lnTo>
                        <a:pt x="39" y="326"/>
                      </a:lnTo>
                      <a:lnTo>
                        <a:pt x="31" y="322"/>
                      </a:lnTo>
                      <a:lnTo>
                        <a:pt x="27" y="318"/>
                      </a:lnTo>
                      <a:lnTo>
                        <a:pt x="21" y="314"/>
                      </a:lnTo>
                      <a:lnTo>
                        <a:pt x="16" y="310"/>
                      </a:lnTo>
                      <a:lnTo>
                        <a:pt x="12" y="304"/>
                      </a:lnTo>
                      <a:lnTo>
                        <a:pt x="8" y="300"/>
                      </a:lnTo>
                      <a:lnTo>
                        <a:pt x="4" y="297"/>
                      </a:lnTo>
                      <a:lnTo>
                        <a:pt x="2" y="293"/>
                      </a:lnTo>
                      <a:lnTo>
                        <a:pt x="0" y="287"/>
                      </a:lnTo>
                      <a:lnTo>
                        <a:pt x="0" y="283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0" y="274"/>
                      </a:lnTo>
                      <a:lnTo>
                        <a:pt x="0" y="272"/>
                      </a:lnTo>
                      <a:lnTo>
                        <a:pt x="0" y="268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30440" y="3835080"/>
                  <a:ext cx="431280" cy="213840"/>
                </a:xfrm>
                <a:custGeom>
                  <a:avLst/>
                  <a:gdLst/>
                  <a:ahLst/>
                  <a:rect l="l" t="t" r="r" b="b"/>
                  <a:pathLst>
                    <a:path w="536" h="276">
                      <a:moveTo>
                        <a:pt x="534" y="185"/>
                      </a:moveTo>
                      <a:lnTo>
                        <a:pt x="534" y="189"/>
                      </a:lnTo>
                      <a:lnTo>
                        <a:pt x="534" y="193"/>
                      </a:lnTo>
                      <a:lnTo>
                        <a:pt x="532" y="199"/>
                      </a:lnTo>
                      <a:lnTo>
                        <a:pt x="528" y="203"/>
                      </a:lnTo>
                      <a:lnTo>
                        <a:pt x="526" y="206"/>
                      </a:lnTo>
                      <a:lnTo>
                        <a:pt x="522" y="210"/>
                      </a:lnTo>
                      <a:lnTo>
                        <a:pt x="516" y="216"/>
                      </a:lnTo>
                      <a:lnTo>
                        <a:pt x="513" y="220"/>
                      </a:lnTo>
                      <a:lnTo>
                        <a:pt x="509" y="224"/>
                      </a:lnTo>
                      <a:lnTo>
                        <a:pt x="501" y="228"/>
                      </a:lnTo>
                      <a:lnTo>
                        <a:pt x="495" y="232"/>
                      </a:lnTo>
                      <a:lnTo>
                        <a:pt x="488" y="235"/>
                      </a:lnTo>
                      <a:lnTo>
                        <a:pt x="480" y="239"/>
                      </a:lnTo>
                      <a:lnTo>
                        <a:pt x="474" y="241"/>
                      </a:lnTo>
                      <a:lnTo>
                        <a:pt x="465" y="245"/>
                      </a:lnTo>
                      <a:lnTo>
                        <a:pt x="455" y="249"/>
                      </a:lnTo>
                      <a:lnTo>
                        <a:pt x="447" y="251"/>
                      </a:lnTo>
                      <a:lnTo>
                        <a:pt x="438" y="255"/>
                      </a:lnTo>
                      <a:lnTo>
                        <a:pt x="426" y="257"/>
                      </a:lnTo>
                      <a:lnTo>
                        <a:pt x="417" y="260"/>
                      </a:lnTo>
                      <a:lnTo>
                        <a:pt x="405" y="262"/>
                      </a:lnTo>
                      <a:lnTo>
                        <a:pt x="394" y="264"/>
                      </a:lnTo>
                      <a:lnTo>
                        <a:pt x="384" y="266"/>
                      </a:lnTo>
                      <a:lnTo>
                        <a:pt x="371" y="270"/>
                      </a:lnTo>
                      <a:lnTo>
                        <a:pt x="359" y="270"/>
                      </a:lnTo>
                      <a:lnTo>
                        <a:pt x="348" y="272"/>
                      </a:lnTo>
                      <a:lnTo>
                        <a:pt x="334" y="272"/>
                      </a:lnTo>
                      <a:lnTo>
                        <a:pt x="323" y="274"/>
                      </a:lnTo>
                      <a:lnTo>
                        <a:pt x="309" y="274"/>
                      </a:lnTo>
                      <a:lnTo>
                        <a:pt x="296" y="276"/>
                      </a:lnTo>
                      <a:lnTo>
                        <a:pt x="282" y="276"/>
                      </a:lnTo>
                      <a:lnTo>
                        <a:pt x="269" y="276"/>
                      </a:lnTo>
                      <a:lnTo>
                        <a:pt x="256" y="276"/>
                      </a:lnTo>
                      <a:lnTo>
                        <a:pt x="240" y="276"/>
                      </a:lnTo>
                      <a:lnTo>
                        <a:pt x="227" y="274"/>
                      </a:lnTo>
                      <a:lnTo>
                        <a:pt x="213" y="274"/>
                      </a:lnTo>
                      <a:lnTo>
                        <a:pt x="202" y="272"/>
                      </a:lnTo>
                      <a:lnTo>
                        <a:pt x="188" y="272"/>
                      </a:lnTo>
                      <a:lnTo>
                        <a:pt x="177" y="270"/>
                      </a:lnTo>
                      <a:lnTo>
                        <a:pt x="163" y="270"/>
                      </a:lnTo>
                      <a:lnTo>
                        <a:pt x="152" y="266"/>
                      </a:lnTo>
                      <a:lnTo>
                        <a:pt x="140" y="264"/>
                      </a:lnTo>
                      <a:lnTo>
                        <a:pt x="129" y="262"/>
                      </a:lnTo>
                      <a:lnTo>
                        <a:pt x="119" y="260"/>
                      </a:lnTo>
                      <a:lnTo>
                        <a:pt x="108" y="257"/>
                      </a:lnTo>
                      <a:lnTo>
                        <a:pt x="96" y="255"/>
                      </a:lnTo>
                      <a:lnTo>
                        <a:pt x="89" y="251"/>
                      </a:lnTo>
                      <a:lnTo>
                        <a:pt x="79" y="249"/>
                      </a:lnTo>
                      <a:lnTo>
                        <a:pt x="69" y="245"/>
                      </a:lnTo>
                      <a:lnTo>
                        <a:pt x="60" y="241"/>
                      </a:lnTo>
                      <a:lnTo>
                        <a:pt x="54" y="239"/>
                      </a:lnTo>
                      <a:lnTo>
                        <a:pt x="46" y="235"/>
                      </a:lnTo>
                      <a:lnTo>
                        <a:pt x="39" y="232"/>
                      </a:lnTo>
                      <a:lnTo>
                        <a:pt x="31" y="228"/>
                      </a:lnTo>
                      <a:lnTo>
                        <a:pt x="27" y="224"/>
                      </a:lnTo>
                      <a:lnTo>
                        <a:pt x="21" y="220"/>
                      </a:lnTo>
                      <a:lnTo>
                        <a:pt x="16" y="216"/>
                      </a:lnTo>
                      <a:lnTo>
                        <a:pt x="12" y="210"/>
                      </a:lnTo>
                      <a:lnTo>
                        <a:pt x="8" y="206"/>
                      </a:lnTo>
                      <a:lnTo>
                        <a:pt x="4" y="203"/>
                      </a:lnTo>
                      <a:lnTo>
                        <a:pt x="2" y="199"/>
                      </a:lnTo>
                      <a:lnTo>
                        <a:pt x="0" y="193"/>
                      </a:lnTo>
                      <a:lnTo>
                        <a:pt x="0" y="189"/>
                      </a:lnTo>
                      <a:lnTo>
                        <a:pt x="0" y="185"/>
                      </a:lnTo>
                      <a:lnTo>
                        <a:pt x="0" y="181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4"/>
                      </a:lnTo>
                      <a:lnTo>
                        <a:pt x="0" y="0"/>
                      </a:lnTo>
                      <a:lnTo>
                        <a:pt x="536" y="0"/>
                      </a:lnTo>
                      <a:lnTo>
                        <a:pt x="536" y="12"/>
                      </a:lnTo>
                      <a:lnTo>
                        <a:pt x="536" y="23"/>
                      </a:lnTo>
                      <a:lnTo>
                        <a:pt x="536" y="35"/>
                      </a:lnTo>
                      <a:lnTo>
                        <a:pt x="536" y="47"/>
                      </a:lnTo>
                      <a:lnTo>
                        <a:pt x="534" y="58"/>
                      </a:lnTo>
                      <a:lnTo>
                        <a:pt x="534" y="70"/>
                      </a:lnTo>
                      <a:lnTo>
                        <a:pt x="534" y="81"/>
                      </a:lnTo>
                      <a:lnTo>
                        <a:pt x="534" y="93"/>
                      </a:lnTo>
                      <a:lnTo>
                        <a:pt x="534" y="104"/>
                      </a:lnTo>
                      <a:lnTo>
                        <a:pt x="534" y="116"/>
                      </a:lnTo>
                      <a:lnTo>
                        <a:pt x="534" y="128"/>
                      </a:lnTo>
                      <a:lnTo>
                        <a:pt x="534" y="139"/>
                      </a:lnTo>
                      <a:lnTo>
                        <a:pt x="534" y="151"/>
                      </a:lnTo>
                      <a:lnTo>
                        <a:pt x="534" y="162"/>
                      </a:lnTo>
                      <a:lnTo>
                        <a:pt x="534" y="174"/>
                      </a:lnTo>
                      <a:lnTo>
                        <a:pt x="534" y="185"/>
                      </a:lnTo>
                      <a:close/>
                    </a:path>
                  </a:pathLst>
                </a:custGeom>
                <a:solidFill>
                  <a:srgbClr val="4d7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30440" y="3760560"/>
                  <a:ext cx="429840" cy="145080"/>
                </a:xfrm>
                <a:custGeom>
                  <a:avLst/>
                  <a:gdLst/>
                  <a:ahLst/>
                  <a:rect l="l" t="t" r="r" b="b"/>
                  <a:pathLst>
                    <a:path w="534" h="185">
                      <a:moveTo>
                        <a:pt x="534" y="94"/>
                      </a:moveTo>
                      <a:lnTo>
                        <a:pt x="534" y="98"/>
                      </a:lnTo>
                      <a:lnTo>
                        <a:pt x="532" y="104"/>
                      </a:lnTo>
                      <a:lnTo>
                        <a:pt x="530" y="108"/>
                      </a:lnTo>
                      <a:lnTo>
                        <a:pt x="528" y="114"/>
                      </a:lnTo>
                      <a:lnTo>
                        <a:pt x="524" y="117"/>
                      </a:lnTo>
                      <a:lnTo>
                        <a:pt x="520" y="121"/>
                      </a:lnTo>
                      <a:lnTo>
                        <a:pt x="516" y="125"/>
                      </a:lnTo>
                      <a:lnTo>
                        <a:pt x="513" y="129"/>
                      </a:lnTo>
                      <a:lnTo>
                        <a:pt x="507" y="133"/>
                      </a:lnTo>
                      <a:lnTo>
                        <a:pt x="501" y="139"/>
                      </a:lnTo>
                      <a:lnTo>
                        <a:pt x="495" y="141"/>
                      </a:lnTo>
                      <a:lnTo>
                        <a:pt x="488" y="144"/>
                      </a:lnTo>
                      <a:lnTo>
                        <a:pt x="480" y="148"/>
                      </a:lnTo>
                      <a:lnTo>
                        <a:pt x="472" y="152"/>
                      </a:lnTo>
                      <a:lnTo>
                        <a:pt x="465" y="156"/>
                      </a:lnTo>
                      <a:lnTo>
                        <a:pt x="455" y="158"/>
                      </a:lnTo>
                      <a:lnTo>
                        <a:pt x="447" y="162"/>
                      </a:lnTo>
                      <a:lnTo>
                        <a:pt x="436" y="164"/>
                      </a:lnTo>
                      <a:lnTo>
                        <a:pt x="426" y="168"/>
                      </a:lnTo>
                      <a:lnTo>
                        <a:pt x="417" y="170"/>
                      </a:lnTo>
                      <a:lnTo>
                        <a:pt x="405" y="173"/>
                      </a:lnTo>
                      <a:lnTo>
                        <a:pt x="394" y="175"/>
                      </a:lnTo>
                      <a:lnTo>
                        <a:pt x="382" y="177"/>
                      </a:lnTo>
                      <a:lnTo>
                        <a:pt x="371" y="179"/>
                      </a:lnTo>
                      <a:lnTo>
                        <a:pt x="359" y="181"/>
                      </a:lnTo>
                      <a:lnTo>
                        <a:pt x="348" y="183"/>
                      </a:lnTo>
                      <a:lnTo>
                        <a:pt x="334" y="183"/>
                      </a:lnTo>
                      <a:lnTo>
                        <a:pt x="321" y="183"/>
                      </a:lnTo>
                      <a:lnTo>
                        <a:pt x="307" y="185"/>
                      </a:lnTo>
                      <a:lnTo>
                        <a:pt x="296" y="185"/>
                      </a:lnTo>
                      <a:lnTo>
                        <a:pt x="282" y="185"/>
                      </a:lnTo>
                      <a:lnTo>
                        <a:pt x="269" y="185"/>
                      </a:lnTo>
                      <a:lnTo>
                        <a:pt x="254" y="185"/>
                      </a:lnTo>
                      <a:lnTo>
                        <a:pt x="240" y="185"/>
                      </a:lnTo>
                      <a:lnTo>
                        <a:pt x="227" y="185"/>
                      </a:lnTo>
                      <a:lnTo>
                        <a:pt x="213" y="183"/>
                      </a:lnTo>
                      <a:lnTo>
                        <a:pt x="202" y="183"/>
                      </a:lnTo>
                      <a:lnTo>
                        <a:pt x="188" y="183"/>
                      </a:lnTo>
                      <a:lnTo>
                        <a:pt x="177" y="181"/>
                      </a:lnTo>
                      <a:lnTo>
                        <a:pt x="163" y="179"/>
                      </a:lnTo>
                      <a:lnTo>
                        <a:pt x="152" y="177"/>
                      </a:lnTo>
                      <a:lnTo>
                        <a:pt x="140" y="175"/>
                      </a:lnTo>
                      <a:lnTo>
                        <a:pt x="129" y="173"/>
                      </a:lnTo>
                      <a:lnTo>
                        <a:pt x="119" y="170"/>
                      </a:lnTo>
                      <a:lnTo>
                        <a:pt x="108" y="168"/>
                      </a:lnTo>
                      <a:lnTo>
                        <a:pt x="96" y="164"/>
                      </a:lnTo>
                      <a:lnTo>
                        <a:pt x="89" y="162"/>
                      </a:lnTo>
                      <a:lnTo>
                        <a:pt x="79" y="158"/>
                      </a:lnTo>
                      <a:lnTo>
                        <a:pt x="69" y="156"/>
                      </a:lnTo>
                      <a:lnTo>
                        <a:pt x="60" y="152"/>
                      </a:lnTo>
                      <a:lnTo>
                        <a:pt x="54" y="148"/>
                      </a:lnTo>
                      <a:lnTo>
                        <a:pt x="46" y="144"/>
                      </a:lnTo>
                      <a:lnTo>
                        <a:pt x="39" y="141"/>
                      </a:lnTo>
                      <a:lnTo>
                        <a:pt x="31" y="139"/>
                      </a:lnTo>
                      <a:lnTo>
                        <a:pt x="27" y="133"/>
                      </a:lnTo>
                      <a:lnTo>
                        <a:pt x="21" y="129"/>
                      </a:lnTo>
                      <a:lnTo>
                        <a:pt x="16" y="125"/>
                      </a:lnTo>
                      <a:lnTo>
                        <a:pt x="12" y="121"/>
                      </a:lnTo>
                      <a:lnTo>
                        <a:pt x="8" y="117"/>
                      </a:lnTo>
                      <a:lnTo>
                        <a:pt x="4" y="114"/>
                      </a:lnTo>
                      <a:lnTo>
                        <a:pt x="2" y="10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0" y="85"/>
                      </a:lnTo>
                      <a:lnTo>
                        <a:pt x="2" y="81"/>
                      </a:lnTo>
                      <a:lnTo>
                        <a:pt x="4" y="75"/>
                      </a:lnTo>
                      <a:lnTo>
                        <a:pt x="8" y="71"/>
                      </a:lnTo>
                      <a:lnTo>
                        <a:pt x="12" y="65"/>
                      </a:lnTo>
                      <a:lnTo>
                        <a:pt x="16" y="62"/>
                      </a:lnTo>
                      <a:lnTo>
                        <a:pt x="21" y="58"/>
                      </a:lnTo>
                      <a:lnTo>
                        <a:pt x="27" y="54"/>
                      </a:lnTo>
                      <a:lnTo>
                        <a:pt x="31" y="50"/>
                      </a:lnTo>
                      <a:lnTo>
                        <a:pt x="39" y="46"/>
                      </a:lnTo>
                      <a:lnTo>
                        <a:pt x="46" y="42"/>
                      </a:lnTo>
                      <a:lnTo>
                        <a:pt x="54" y="39"/>
                      </a:lnTo>
                      <a:lnTo>
                        <a:pt x="60" y="35"/>
                      </a:lnTo>
                      <a:lnTo>
                        <a:pt x="69" y="31"/>
                      </a:lnTo>
                      <a:lnTo>
                        <a:pt x="79" y="29"/>
                      </a:lnTo>
                      <a:lnTo>
                        <a:pt x="89" y="25"/>
                      </a:lnTo>
                      <a:lnTo>
                        <a:pt x="96" y="21"/>
                      </a:lnTo>
                      <a:lnTo>
                        <a:pt x="108" y="19"/>
                      </a:lnTo>
                      <a:lnTo>
                        <a:pt x="119" y="17"/>
                      </a:lnTo>
                      <a:lnTo>
                        <a:pt x="129" y="13"/>
                      </a:lnTo>
                      <a:lnTo>
                        <a:pt x="140" y="12"/>
                      </a:lnTo>
                      <a:lnTo>
                        <a:pt x="152" y="10"/>
                      </a:lnTo>
                      <a:lnTo>
                        <a:pt x="163" y="8"/>
                      </a:lnTo>
                      <a:lnTo>
                        <a:pt x="177" y="6"/>
                      </a:lnTo>
                      <a:lnTo>
                        <a:pt x="188" y="4"/>
                      </a:lnTo>
                      <a:lnTo>
                        <a:pt x="202" y="2"/>
                      </a:lnTo>
                      <a:lnTo>
                        <a:pt x="213" y="2"/>
                      </a:lnTo>
                      <a:lnTo>
                        <a:pt x="227" y="0"/>
                      </a:lnTo>
                      <a:lnTo>
                        <a:pt x="240" y="0"/>
                      </a:lnTo>
                      <a:lnTo>
                        <a:pt x="254" y="0"/>
                      </a:lnTo>
                      <a:lnTo>
                        <a:pt x="269" y="0"/>
                      </a:lnTo>
                      <a:lnTo>
                        <a:pt x="282" y="0"/>
                      </a:lnTo>
                      <a:lnTo>
                        <a:pt x="296" y="0"/>
                      </a:lnTo>
                      <a:lnTo>
                        <a:pt x="307" y="0"/>
                      </a:lnTo>
                      <a:lnTo>
                        <a:pt x="321" y="2"/>
                      </a:lnTo>
                      <a:lnTo>
                        <a:pt x="334" y="2"/>
                      </a:lnTo>
                      <a:lnTo>
                        <a:pt x="348" y="4"/>
                      </a:lnTo>
                      <a:lnTo>
                        <a:pt x="359" y="6"/>
                      </a:lnTo>
                      <a:lnTo>
                        <a:pt x="371" y="8"/>
                      </a:lnTo>
                      <a:lnTo>
                        <a:pt x="382" y="10"/>
                      </a:lnTo>
                      <a:lnTo>
                        <a:pt x="394" y="12"/>
                      </a:lnTo>
                      <a:lnTo>
                        <a:pt x="405" y="13"/>
                      </a:lnTo>
                      <a:lnTo>
                        <a:pt x="417" y="17"/>
                      </a:lnTo>
                      <a:lnTo>
                        <a:pt x="426" y="19"/>
                      </a:lnTo>
                      <a:lnTo>
                        <a:pt x="436" y="21"/>
                      </a:lnTo>
                      <a:lnTo>
                        <a:pt x="447" y="25"/>
                      </a:lnTo>
                      <a:lnTo>
                        <a:pt x="455" y="29"/>
                      </a:lnTo>
                      <a:lnTo>
                        <a:pt x="465" y="31"/>
                      </a:lnTo>
                      <a:lnTo>
                        <a:pt x="472" y="35"/>
                      </a:lnTo>
                      <a:lnTo>
                        <a:pt x="480" y="39"/>
                      </a:lnTo>
                      <a:lnTo>
                        <a:pt x="488" y="42"/>
                      </a:lnTo>
                      <a:lnTo>
                        <a:pt x="495" y="46"/>
                      </a:lnTo>
                      <a:lnTo>
                        <a:pt x="501" y="50"/>
                      </a:lnTo>
                      <a:lnTo>
                        <a:pt x="507" y="54"/>
                      </a:lnTo>
                      <a:lnTo>
                        <a:pt x="513" y="58"/>
                      </a:lnTo>
                      <a:lnTo>
                        <a:pt x="516" y="62"/>
                      </a:lnTo>
                      <a:lnTo>
                        <a:pt x="520" y="65"/>
                      </a:lnTo>
                      <a:lnTo>
                        <a:pt x="524" y="71"/>
                      </a:lnTo>
                      <a:lnTo>
                        <a:pt x="528" y="75"/>
                      </a:lnTo>
                      <a:lnTo>
                        <a:pt x="530" y="81"/>
                      </a:lnTo>
                      <a:lnTo>
                        <a:pt x="532" y="85"/>
                      </a:lnTo>
                      <a:lnTo>
                        <a:pt x="534" y="91"/>
                      </a:lnTo>
                      <a:lnTo>
                        <a:pt x="534" y="94"/>
                      </a:lnTo>
                      <a:close/>
                    </a:path>
                  </a:pathLst>
                </a:custGeom>
                <a:solidFill>
                  <a:srgbClr val="7fa6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233760" y="3786480"/>
                  <a:ext cx="262080" cy="88920"/>
                </a:xfrm>
                <a:custGeom>
                  <a:avLst/>
                  <a:gdLst/>
                  <a:ahLst/>
                  <a:rect l="l" t="t" r="r" b="b"/>
                  <a:pathLst>
                    <a:path w="324" h="113">
                      <a:moveTo>
                        <a:pt x="0" y="58"/>
                      </a:moveTo>
                      <a:lnTo>
                        <a:pt x="161" y="0"/>
                      </a:lnTo>
                      <a:lnTo>
                        <a:pt x="324" y="58"/>
                      </a:lnTo>
                      <a:lnTo>
                        <a:pt x="161" y="113"/>
                      </a:lnTo>
                      <a:lnTo>
                        <a:pt x="0" y="58"/>
                      </a:lnTo>
                      <a:close/>
                      <a:moveTo>
                        <a:pt x="61" y="52"/>
                      </a:moveTo>
                      <a:lnTo>
                        <a:pt x="263" y="52"/>
                      </a:lnTo>
                      <a:lnTo>
                        <a:pt x="161" y="17"/>
                      </a:lnTo>
                      <a:lnTo>
                        <a:pt x="61" y="52"/>
                      </a:lnTo>
                      <a:close/>
                      <a:moveTo>
                        <a:pt x="261" y="63"/>
                      </a:moveTo>
                      <a:lnTo>
                        <a:pt x="63" y="63"/>
                      </a:lnTo>
                      <a:lnTo>
                        <a:pt x="161" y="96"/>
                      </a:lnTo>
                      <a:lnTo>
                        <a:pt x="261" y="63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222240" y="3785040"/>
                  <a:ext cx="260640" cy="86040"/>
                </a:xfrm>
                <a:custGeom>
                  <a:avLst/>
                  <a:gdLst/>
                  <a:ahLst/>
                  <a:rect l="l" t="t" r="r" b="b"/>
                  <a:pathLst>
                    <a:path w="324" h="110">
                      <a:moveTo>
                        <a:pt x="0" y="56"/>
                      </a:moveTo>
                      <a:lnTo>
                        <a:pt x="161" y="0"/>
                      </a:lnTo>
                      <a:lnTo>
                        <a:pt x="324" y="56"/>
                      </a:lnTo>
                      <a:lnTo>
                        <a:pt x="161" y="110"/>
                      </a:lnTo>
                      <a:lnTo>
                        <a:pt x="0" y="56"/>
                      </a:lnTo>
                      <a:close/>
                      <a:moveTo>
                        <a:pt x="61" y="50"/>
                      </a:moveTo>
                      <a:lnTo>
                        <a:pt x="262" y="50"/>
                      </a:lnTo>
                      <a:lnTo>
                        <a:pt x="161" y="15"/>
                      </a:lnTo>
                      <a:lnTo>
                        <a:pt x="61" y="50"/>
                      </a:lnTo>
                      <a:close/>
                      <a:moveTo>
                        <a:pt x="260" y="60"/>
                      </a:moveTo>
                      <a:lnTo>
                        <a:pt x="63" y="60"/>
                      </a:lnTo>
                      <a:lnTo>
                        <a:pt x="161" y="94"/>
                      </a:lnTo>
                      <a:lnTo>
                        <a:pt x="26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02520" y="3933720"/>
                  <a:ext cx="10296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132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4" y="3"/>
                      </a:lnTo>
                      <a:lnTo>
                        <a:pt x="96" y="3"/>
                      </a:lnTo>
                      <a:lnTo>
                        <a:pt x="100" y="5"/>
                      </a:lnTo>
                      <a:lnTo>
                        <a:pt x="102" y="5"/>
                      </a:lnTo>
                      <a:lnTo>
                        <a:pt x="104" y="7"/>
                      </a:lnTo>
                      <a:lnTo>
                        <a:pt x="106" y="9"/>
                      </a:lnTo>
                      <a:lnTo>
                        <a:pt x="108" y="11"/>
                      </a:lnTo>
                      <a:lnTo>
                        <a:pt x="110" y="13"/>
                      </a:lnTo>
                      <a:lnTo>
                        <a:pt x="112" y="15"/>
                      </a:lnTo>
                      <a:lnTo>
                        <a:pt x="114" y="19"/>
                      </a:lnTo>
                      <a:lnTo>
                        <a:pt x="114" y="21"/>
                      </a:lnTo>
                      <a:lnTo>
                        <a:pt x="115" y="23"/>
                      </a:lnTo>
                      <a:lnTo>
                        <a:pt x="115" y="25"/>
                      </a:lnTo>
                      <a:lnTo>
                        <a:pt x="117" y="26"/>
                      </a:lnTo>
                      <a:lnTo>
                        <a:pt x="117" y="30"/>
                      </a:lnTo>
                      <a:lnTo>
                        <a:pt x="117" y="32"/>
                      </a:lnTo>
                      <a:lnTo>
                        <a:pt x="117" y="36"/>
                      </a:lnTo>
                      <a:lnTo>
                        <a:pt x="117" y="38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52"/>
                      </a:lnTo>
                      <a:lnTo>
                        <a:pt x="112" y="52"/>
                      </a:lnTo>
                      <a:lnTo>
                        <a:pt x="112" y="53"/>
                      </a:lnTo>
                      <a:lnTo>
                        <a:pt x="110" y="55"/>
                      </a:lnTo>
                      <a:lnTo>
                        <a:pt x="108" y="59"/>
                      </a:lnTo>
                      <a:lnTo>
                        <a:pt x="106" y="59"/>
                      </a:lnTo>
                      <a:lnTo>
                        <a:pt x="104" y="61"/>
                      </a:lnTo>
                      <a:lnTo>
                        <a:pt x="102" y="63"/>
                      </a:lnTo>
                      <a:lnTo>
                        <a:pt x="102" y="63"/>
                      </a:lnTo>
                      <a:lnTo>
                        <a:pt x="100" y="65"/>
                      </a:lnTo>
                      <a:lnTo>
                        <a:pt x="98" y="65"/>
                      </a:lnTo>
                      <a:lnTo>
                        <a:pt x="96" y="65"/>
                      </a:lnTo>
                      <a:lnTo>
                        <a:pt x="94" y="67"/>
                      </a:lnTo>
                      <a:lnTo>
                        <a:pt x="91" y="69"/>
                      </a:lnTo>
                      <a:lnTo>
                        <a:pt x="87" y="69"/>
                      </a:lnTo>
                      <a:lnTo>
                        <a:pt x="81" y="71"/>
                      </a:lnTo>
                      <a:lnTo>
                        <a:pt x="75" y="71"/>
                      </a:lnTo>
                      <a:lnTo>
                        <a:pt x="79" y="73"/>
                      </a:lnTo>
                      <a:lnTo>
                        <a:pt x="83" y="75"/>
                      </a:lnTo>
                      <a:lnTo>
                        <a:pt x="87" y="77"/>
                      </a:lnTo>
                      <a:lnTo>
                        <a:pt x="89" y="78"/>
                      </a:lnTo>
                      <a:lnTo>
                        <a:pt x="89" y="80"/>
                      </a:lnTo>
                      <a:lnTo>
                        <a:pt x="91" y="82"/>
                      </a:lnTo>
                      <a:lnTo>
                        <a:pt x="94" y="82"/>
                      </a:lnTo>
                      <a:lnTo>
                        <a:pt x="96" y="86"/>
                      </a:lnTo>
                      <a:lnTo>
                        <a:pt x="98" y="88"/>
                      </a:lnTo>
                      <a:lnTo>
                        <a:pt x="100" y="90"/>
                      </a:lnTo>
                      <a:lnTo>
                        <a:pt x="102" y="92"/>
                      </a:lnTo>
                      <a:lnTo>
                        <a:pt x="104" y="96"/>
                      </a:lnTo>
                      <a:lnTo>
                        <a:pt x="129" y="132"/>
                      </a:lnTo>
                      <a:lnTo>
                        <a:pt x="104" y="132"/>
                      </a:lnTo>
                      <a:lnTo>
                        <a:pt x="87" y="104"/>
                      </a:lnTo>
                      <a:lnTo>
                        <a:pt x="81" y="98"/>
                      </a:lnTo>
                      <a:lnTo>
                        <a:pt x="77" y="94"/>
                      </a:lnTo>
                      <a:lnTo>
                        <a:pt x="75" y="88"/>
                      </a:lnTo>
                      <a:lnTo>
                        <a:pt x="71" y="86"/>
                      </a:lnTo>
                      <a:lnTo>
                        <a:pt x="69" y="82"/>
                      </a:lnTo>
                      <a:lnTo>
                        <a:pt x="66" y="80"/>
                      </a:lnTo>
                      <a:lnTo>
                        <a:pt x="64" y="78"/>
                      </a:lnTo>
                      <a:lnTo>
                        <a:pt x="62" y="77"/>
                      </a:lnTo>
                      <a:lnTo>
                        <a:pt x="60" y="77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48" y="73"/>
                      </a:lnTo>
                      <a:lnTo>
                        <a:pt x="46" y="73"/>
                      </a:lnTo>
                      <a:lnTo>
                        <a:pt x="43" y="73"/>
                      </a:lnTo>
                      <a:lnTo>
                        <a:pt x="20" y="73"/>
                      </a:lnTo>
                      <a:lnTo>
                        <a:pt x="20" y="132"/>
                      </a:lnTo>
                      <a:lnTo>
                        <a:pt x="0" y="132"/>
                      </a:lnTo>
                      <a:close/>
                      <a:moveTo>
                        <a:pt x="20" y="57"/>
                      </a:moveTo>
                      <a:lnTo>
                        <a:pt x="62" y="57"/>
                      </a:lnTo>
                      <a:lnTo>
                        <a:pt x="64" y="57"/>
                      </a:lnTo>
                      <a:lnTo>
                        <a:pt x="67" y="57"/>
                      </a:lnTo>
                      <a:lnTo>
                        <a:pt x="71" y="57"/>
                      </a:lnTo>
                      <a:lnTo>
                        <a:pt x="73" y="57"/>
                      </a:lnTo>
                      <a:lnTo>
                        <a:pt x="75" y="55"/>
                      </a:lnTo>
                      <a:lnTo>
                        <a:pt x="79" y="55"/>
                      </a:lnTo>
                      <a:lnTo>
                        <a:pt x="81" y="55"/>
                      </a:lnTo>
                      <a:lnTo>
                        <a:pt x="83" y="55"/>
                      </a:lnTo>
                      <a:lnTo>
                        <a:pt x="85" y="53"/>
                      </a:lnTo>
                      <a:lnTo>
                        <a:pt x="87" y="53"/>
                      </a:lnTo>
                      <a:lnTo>
                        <a:pt x="87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91" y="50"/>
                      </a:lnTo>
                      <a:lnTo>
                        <a:pt x="92" y="50"/>
                      </a:lnTo>
                      <a:lnTo>
                        <a:pt x="92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6"/>
                      </a:lnTo>
                      <a:lnTo>
                        <a:pt x="96" y="32"/>
                      </a:lnTo>
                      <a:lnTo>
                        <a:pt x="96" y="30"/>
                      </a:lnTo>
                      <a:lnTo>
                        <a:pt x="96" y="28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2" y="23"/>
                      </a:lnTo>
                      <a:lnTo>
                        <a:pt x="91" y="21"/>
                      </a:lnTo>
                      <a:lnTo>
                        <a:pt x="89" y="21"/>
                      </a:lnTo>
                      <a:lnTo>
                        <a:pt x="89" y="19"/>
                      </a:lnTo>
                      <a:lnTo>
                        <a:pt x="87" y="17"/>
                      </a:lnTo>
                      <a:lnTo>
                        <a:pt x="83" y="17"/>
                      </a:lnTo>
                      <a:lnTo>
                        <a:pt x="81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9" y="15"/>
                      </a:lnTo>
                      <a:lnTo>
                        <a:pt x="66" y="13"/>
                      </a:lnTo>
                      <a:lnTo>
                        <a:pt x="20" y="13"/>
                      </a:lnTo>
                      <a:lnTo>
                        <a:pt x="2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297840" y="393048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8" h="133">
                      <a:moveTo>
                        <a:pt x="0" y="133"/>
                      </a:moveTo>
                      <a:lnTo>
                        <a:pt x="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2" y="4"/>
                      </a:lnTo>
                      <a:lnTo>
                        <a:pt x="94" y="4"/>
                      </a:lnTo>
                      <a:lnTo>
                        <a:pt x="96" y="5"/>
                      </a:lnTo>
                      <a:lnTo>
                        <a:pt x="99" y="5"/>
                      </a:lnTo>
                      <a:lnTo>
                        <a:pt x="101" y="7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7" y="13"/>
                      </a:lnTo>
                      <a:lnTo>
                        <a:pt x="109" y="15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3" y="21"/>
                      </a:lnTo>
                      <a:lnTo>
                        <a:pt x="115" y="25"/>
                      </a:lnTo>
                      <a:lnTo>
                        <a:pt x="115" y="25"/>
                      </a:lnTo>
                      <a:lnTo>
                        <a:pt x="115" y="29"/>
                      </a:lnTo>
                      <a:lnTo>
                        <a:pt x="117" y="30"/>
                      </a:lnTo>
                      <a:lnTo>
                        <a:pt x="117" y="34"/>
                      </a:lnTo>
                      <a:lnTo>
                        <a:pt x="117" y="36"/>
                      </a:lnTo>
                      <a:lnTo>
                        <a:pt x="117" y="40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3" y="52"/>
                      </a:lnTo>
                      <a:lnTo>
                        <a:pt x="113" y="54"/>
                      </a:lnTo>
                      <a:lnTo>
                        <a:pt x="111" y="54"/>
                      </a:lnTo>
                      <a:lnTo>
                        <a:pt x="111" y="56"/>
                      </a:lnTo>
                      <a:lnTo>
                        <a:pt x="109" y="57"/>
                      </a:lnTo>
                      <a:lnTo>
                        <a:pt x="105" y="59"/>
                      </a:lnTo>
                      <a:lnTo>
                        <a:pt x="105" y="61"/>
                      </a:lnTo>
                      <a:lnTo>
                        <a:pt x="103" y="61"/>
                      </a:lnTo>
                      <a:lnTo>
                        <a:pt x="101" y="63"/>
                      </a:lnTo>
                      <a:lnTo>
                        <a:pt x="99" y="65"/>
                      </a:lnTo>
                      <a:lnTo>
                        <a:pt x="99" y="65"/>
                      </a:lnTo>
                      <a:lnTo>
                        <a:pt x="97" y="67"/>
                      </a:lnTo>
                      <a:lnTo>
                        <a:pt x="96" y="67"/>
                      </a:lnTo>
                      <a:lnTo>
                        <a:pt x="94" y="67"/>
                      </a:lnTo>
                      <a:lnTo>
                        <a:pt x="90" y="69"/>
                      </a:lnTo>
                      <a:lnTo>
                        <a:pt x="86" y="71"/>
                      </a:lnTo>
                      <a:lnTo>
                        <a:pt x="80" y="71"/>
                      </a:lnTo>
                      <a:lnTo>
                        <a:pt x="74" y="73"/>
                      </a:lnTo>
                      <a:lnTo>
                        <a:pt x="78" y="75"/>
                      </a:lnTo>
                      <a:lnTo>
                        <a:pt x="82" y="77"/>
                      </a:lnTo>
                      <a:lnTo>
                        <a:pt x="84" y="77"/>
                      </a:lnTo>
                      <a:lnTo>
                        <a:pt x="88" y="79"/>
                      </a:lnTo>
                      <a:lnTo>
                        <a:pt x="90" y="81"/>
                      </a:lnTo>
                      <a:lnTo>
                        <a:pt x="92" y="82"/>
                      </a:lnTo>
                      <a:lnTo>
                        <a:pt x="94" y="84"/>
                      </a:lnTo>
                      <a:lnTo>
                        <a:pt x="96" y="86"/>
                      </a:lnTo>
                      <a:lnTo>
                        <a:pt x="97" y="88"/>
                      </a:lnTo>
                      <a:lnTo>
                        <a:pt x="99" y="92"/>
                      </a:lnTo>
                      <a:lnTo>
                        <a:pt x="101" y="94"/>
                      </a:lnTo>
                      <a:lnTo>
                        <a:pt x="103" y="96"/>
                      </a:lnTo>
                      <a:lnTo>
                        <a:pt x="128" y="133"/>
                      </a:lnTo>
                      <a:lnTo>
                        <a:pt x="103" y="133"/>
                      </a:lnTo>
                      <a:lnTo>
                        <a:pt x="84" y="106"/>
                      </a:lnTo>
                      <a:lnTo>
                        <a:pt x="80" y="100"/>
                      </a:lnTo>
                      <a:lnTo>
                        <a:pt x="76" y="94"/>
                      </a:lnTo>
                      <a:lnTo>
                        <a:pt x="74" y="90"/>
                      </a:lnTo>
                      <a:lnTo>
                        <a:pt x="71" y="86"/>
                      </a:lnTo>
                      <a:lnTo>
                        <a:pt x="69" y="84"/>
                      </a:lnTo>
                      <a:lnTo>
                        <a:pt x="65" y="82"/>
                      </a:lnTo>
                      <a:lnTo>
                        <a:pt x="63" y="81"/>
                      </a:lnTo>
                      <a:lnTo>
                        <a:pt x="61" y="79"/>
                      </a:lnTo>
                      <a:lnTo>
                        <a:pt x="59" y="77"/>
                      </a:lnTo>
                      <a:lnTo>
                        <a:pt x="57" y="77"/>
                      </a:lnTo>
                      <a:lnTo>
                        <a:pt x="55" y="75"/>
                      </a:lnTo>
                      <a:lnTo>
                        <a:pt x="53" y="75"/>
                      </a:lnTo>
                      <a:lnTo>
                        <a:pt x="51" y="75"/>
                      </a:lnTo>
                      <a:lnTo>
                        <a:pt x="48" y="75"/>
                      </a:lnTo>
                      <a:lnTo>
                        <a:pt x="46" y="73"/>
                      </a:lnTo>
                      <a:lnTo>
                        <a:pt x="42" y="73"/>
                      </a:lnTo>
                      <a:lnTo>
                        <a:pt x="19" y="73"/>
                      </a:lnTo>
                      <a:lnTo>
                        <a:pt x="19" y="133"/>
                      </a:lnTo>
                      <a:lnTo>
                        <a:pt x="0" y="133"/>
                      </a:lnTo>
                      <a:close/>
                      <a:moveTo>
                        <a:pt x="19" y="57"/>
                      </a:moveTo>
                      <a:lnTo>
                        <a:pt x="61" y="57"/>
                      </a:lnTo>
                      <a:lnTo>
                        <a:pt x="63" y="57"/>
                      </a:lnTo>
                      <a:lnTo>
                        <a:pt x="67" y="57"/>
                      </a:lnTo>
                      <a:lnTo>
                        <a:pt x="69" y="57"/>
                      </a:lnTo>
                      <a:lnTo>
                        <a:pt x="72" y="57"/>
                      </a:lnTo>
                      <a:lnTo>
                        <a:pt x="74" y="57"/>
                      </a:lnTo>
                      <a:lnTo>
                        <a:pt x="76" y="57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8" y="54"/>
                      </a:lnTo>
                      <a:lnTo>
                        <a:pt x="90" y="52"/>
                      </a:lnTo>
                      <a:lnTo>
                        <a:pt x="90" y="52"/>
                      </a:lnTo>
                      <a:lnTo>
                        <a:pt x="92" y="50"/>
                      </a:lnTo>
                      <a:lnTo>
                        <a:pt x="94" y="48"/>
                      </a:lnTo>
                      <a:lnTo>
                        <a:pt x="94" y="48"/>
                      </a:lnTo>
                      <a:lnTo>
                        <a:pt x="94" y="46"/>
                      </a:lnTo>
                      <a:lnTo>
                        <a:pt x="94" y="44"/>
                      </a:lnTo>
                      <a:lnTo>
                        <a:pt x="96" y="42"/>
                      </a:lnTo>
                      <a:lnTo>
                        <a:pt x="96" y="40"/>
                      </a:lnTo>
                      <a:lnTo>
                        <a:pt x="96" y="40"/>
                      </a:lnTo>
                      <a:lnTo>
                        <a:pt x="96" y="38"/>
                      </a:lnTo>
                      <a:lnTo>
                        <a:pt x="96" y="36"/>
                      </a:lnTo>
                      <a:lnTo>
                        <a:pt x="96" y="34"/>
                      </a:lnTo>
                      <a:lnTo>
                        <a:pt x="96" y="32"/>
                      </a:lnTo>
                      <a:lnTo>
                        <a:pt x="96" y="29"/>
                      </a:lnTo>
                      <a:lnTo>
                        <a:pt x="94" y="27"/>
                      </a:lnTo>
                      <a:lnTo>
                        <a:pt x="94" y="25"/>
                      </a:lnTo>
                      <a:lnTo>
                        <a:pt x="92" y="25"/>
                      </a:lnTo>
                      <a:lnTo>
                        <a:pt x="92" y="23"/>
                      </a:lnTo>
                      <a:lnTo>
                        <a:pt x="90" y="21"/>
                      </a:lnTo>
                      <a:lnTo>
                        <a:pt x="88" y="19"/>
                      </a:lnTo>
                      <a:lnTo>
                        <a:pt x="84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69" y="15"/>
                      </a:lnTo>
                      <a:lnTo>
                        <a:pt x="65" y="15"/>
                      </a:lnTo>
                      <a:lnTo>
                        <a:pt x="19" y="15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6086520" y="3502080"/>
                <a:ext cx="71892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FrutigerNext LT Regular"/>
                  </a:rPr>
                  <a:t>ICX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4500720" y="4151160"/>
              <a:ext cx="472680" cy="301320"/>
              <a:chOff x="4500720" y="4151160"/>
              <a:chExt cx="472680" cy="301320"/>
            </a:xfrm>
          </p:grpSpPr>
          <p:sp>
            <p:nvSpPr>
              <p:cNvPr id="1315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500720" y="41511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00720" y="42289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00720" y="41511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613760" y="41785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01520" y="41767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689360" y="43318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84320" y="43286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49800" y="3992400"/>
              <a:ext cx="472680" cy="301320"/>
              <a:chOff x="3349800" y="3992400"/>
              <a:chExt cx="472680" cy="301320"/>
            </a:xfrm>
          </p:grpSpPr>
          <p:sp>
            <p:nvSpPr>
              <p:cNvPr id="1330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49800" y="399240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49800" y="407016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49800" y="399240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2840" y="401976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450600" y="401796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38440" y="417312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33400" y="416988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251320" y="3776760"/>
              <a:ext cx="472680" cy="301320"/>
              <a:chOff x="5251320" y="3776760"/>
              <a:chExt cx="472680" cy="301320"/>
            </a:xfrm>
          </p:grpSpPr>
          <p:sp>
            <p:nvSpPr>
              <p:cNvPr id="1345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51320" y="377676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51320" y="385452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51320" y="377676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64360" y="380412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352120" y="380232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39960" y="395748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434920" y="395424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2844720" y="5302080"/>
              <a:ext cx="1800360" cy="100836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1080" y="5662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3924360" y="5145120"/>
              <a:ext cx="472680" cy="301320"/>
              <a:chOff x="3924360" y="5145120"/>
              <a:chExt cx="472680" cy="301320"/>
            </a:xfrm>
          </p:grpSpPr>
          <p:sp>
            <p:nvSpPr>
              <p:cNvPr id="1362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24360" y="514512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924360" y="522288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24360" y="514512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37400" y="517248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25160" y="517068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13000" y="532584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107960" y="532260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995640" y="1557360"/>
              <a:ext cx="1584360" cy="863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645080" y="2278080"/>
              <a:ext cx="472680" cy="301320"/>
              <a:chOff x="4645080" y="2278080"/>
              <a:chExt cx="472680" cy="30132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645080" y="2278080"/>
                <a:ext cx="472680" cy="301320"/>
              </a:xfrm>
              <a:custGeom>
                <a:avLst/>
                <a:gdLst/>
                <a:ahLst/>
                <a:rect l="l" t="t" r="r" b="b"/>
                <a:pathLst>
                  <a:path w="536" h="370">
                    <a:moveTo>
                      <a:pt x="0" y="94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9" y="0"/>
                    </a:lnTo>
                    <a:lnTo>
                      <a:pt x="323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4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8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4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9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2" y="65"/>
                    </a:lnTo>
                    <a:lnTo>
                      <a:pt x="526" y="71"/>
                    </a:lnTo>
                    <a:lnTo>
                      <a:pt x="528" y="75"/>
                    </a:lnTo>
                    <a:lnTo>
                      <a:pt x="532" y="81"/>
                    </a:lnTo>
                    <a:lnTo>
                      <a:pt x="534" y="85"/>
                    </a:lnTo>
                    <a:lnTo>
                      <a:pt x="534" y="91"/>
                    </a:lnTo>
                    <a:lnTo>
                      <a:pt x="534" y="94"/>
                    </a:lnTo>
                    <a:lnTo>
                      <a:pt x="536" y="94"/>
                    </a:lnTo>
                    <a:lnTo>
                      <a:pt x="536" y="106"/>
                    </a:lnTo>
                    <a:lnTo>
                      <a:pt x="536" y="117"/>
                    </a:lnTo>
                    <a:lnTo>
                      <a:pt x="536" y="129"/>
                    </a:lnTo>
                    <a:lnTo>
                      <a:pt x="536" y="141"/>
                    </a:lnTo>
                    <a:lnTo>
                      <a:pt x="534" y="152"/>
                    </a:lnTo>
                    <a:lnTo>
                      <a:pt x="534" y="164"/>
                    </a:lnTo>
                    <a:lnTo>
                      <a:pt x="534" y="175"/>
                    </a:lnTo>
                    <a:lnTo>
                      <a:pt x="534" y="187"/>
                    </a:lnTo>
                    <a:lnTo>
                      <a:pt x="534" y="198"/>
                    </a:lnTo>
                    <a:lnTo>
                      <a:pt x="534" y="210"/>
                    </a:lnTo>
                    <a:lnTo>
                      <a:pt x="534" y="222"/>
                    </a:lnTo>
                    <a:lnTo>
                      <a:pt x="534" y="233"/>
                    </a:lnTo>
                    <a:lnTo>
                      <a:pt x="534" y="245"/>
                    </a:lnTo>
                    <a:lnTo>
                      <a:pt x="534" y="256"/>
                    </a:lnTo>
                    <a:lnTo>
                      <a:pt x="534" y="268"/>
                    </a:lnTo>
                    <a:lnTo>
                      <a:pt x="534" y="279"/>
                    </a:lnTo>
                    <a:lnTo>
                      <a:pt x="534" y="283"/>
                    </a:lnTo>
                    <a:lnTo>
                      <a:pt x="534" y="287"/>
                    </a:lnTo>
                    <a:lnTo>
                      <a:pt x="532" y="293"/>
                    </a:lnTo>
                    <a:lnTo>
                      <a:pt x="528" y="297"/>
                    </a:lnTo>
                    <a:lnTo>
                      <a:pt x="526" y="300"/>
                    </a:lnTo>
                    <a:lnTo>
                      <a:pt x="522" y="304"/>
                    </a:lnTo>
                    <a:lnTo>
                      <a:pt x="516" y="310"/>
                    </a:lnTo>
                    <a:lnTo>
                      <a:pt x="513" y="314"/>
                    </a:lnTo>
                    <a:lnTo>
                      <a:pt x="509" y="318"/>
                    </a:lnTo>
                    <a:lnTo>
                      <a:pt x="501" y="322"/>
                    </a:lnTo>
                    <a:lnTo>
                      <a:pt x="495" y="326"/>
                    </a:lnTo>
                    <a:lnTo>
                      <a:pt x="488" y="329"/>
                    </a:lnTo>
                    <a:lnTo>
                      <a:pt x="480" y="333"/>
                    </a:lnTo>
                    <a:lnTo>
                      <a:pt x="474" y="335"/>
                    </a:lnTo>
                    <a:lnTo>
                      <a:pt x="465" y="339"/>
                    </a:lnTo>
                    <a:lnTo>
                      <a:pt x="455" y="343"/>
                    </a:lnTo>
                    <a:lnTo>
                      <a:pt x="447" y="345"/>
                    </a:lnTo>
                    <a:lnTo>
                      <a:pt x="438" y="349"/>
                    </a:lnTo>
                    <a:lnTo>
                      <a:pt x="426" y="351"/>
                    </a:lnTo>
                    <a:lnTo>
                      <a:pt x="417" y="354"/>
                    </a:lnTo>
                    <a:lnTo>
                      <a:pt x="405" y="356"/>
                    </a:lnTo>
                    <a:lnTo>
                      <a:pt x="394" y="358"/>
                    </a:lnTo>
                    <a:lnTo>
                      <a:pt x="384" y="360"/>
                    </a:lnTo>
                    <a:lnTo>
                      <a:pt x="371" y="364"/>
                    </a:lnTo>
                    <a:lnTo>
                      <a:pt x="359" y="364"/>
                    </a:lnTo>
                    <a:lnTo>
                      <a:pt x="348" y="366"/>
                    </a:lnTo>
                    <a:lnTo>
                      <a:pt x="334" y="366"/>
                    </a:lnTo>
                    <a:lnTo>
                      <a:pt x="323" y="368"/>
                    </a:lnTo>
                    <a:lnTo>
                      <a:pt x="309" y="368"/>
                    </a:lnTo>
                    <a:lnTo>
                      <a:pt x="296" y="370"/>
                    </a:lnTo>
                    <a:lnTo>
                      <a:pt x="282" y="370"/>
                    </a:lnTo>
                    <a:lnTo>
                      <a:pt x="269" y="370"/>
                    </a:lnTo>
                    <a:lnTo>
                      <a:pt x="256" y="370"/>
                    </a:lnTo>
                    <a:lnTo>
                      <a:pt x="240" y="370"/>
                    </a:lnTo>
                    <a:lnTo>
                      <a:pt x="227" y="368"/>
                    </a:lnTo>
                    <a:lnTo>
                      <a:pt x="213" y="368"/>
                    </a:lnTo>
                    <a:lnTo>
                      <a:pt x="202" y="366"/>
                    </a:lnTo>
                    <a:lnTo>
                      <a:pt x="188" y="366"/>
                    </a:lnTo>
                    <a:lnTo>
                      <a:pt x="177" y="364"/>
                    </a:lnTo>
                    <a:lnTo>
                      <a:pt x="163" y="364"/>
                    </a:lnTo>
                    <a:lnTo>
                      <a:pt x="152" y="360"/>
                    </a:lnTo>
                    <a:lnTo>
                      <a:pt x="140" y="358"/>
                    </a:lnTo>
                    <a:lnTo>
                      <a:pt x="129" y="356"/>
                    </a:lnTo>
                    <a:lnTo>
                      <a:pt x="119" y="354"/>
                    </a:lnTo>
                    <a:lnTo>
                      <a:pt x="108" y="351"/>
                    </a:lnTo>
                    <a:lnTo>
                      <a:pt x="96" y="349"/>
                    </a:lnTo>
                    <a:lnTo>
                      <a:pt x="89" y="345"/>
                    </a:lnTo>
                    <a:lnTo>
                      <a:pt x="79" y="343"/>
                    </a:lnTo>
                    <a:lnTo>
                      <a:pt x="69" y="339"/>
                    </a:lnTo>
                    <a:lnTo>
                      <a:pt x="60" y="335"/>
                    </a:lnTo>
                    <a:lnTo>
                      <a:pt x="54" y="333"/>
                    </a:lnTo>
                    <a:lnTo>
                      <a:pt x="46" y="329"/>
                    </a:lnTo>
                    <a:lnTo>
                      <a:pt x="39" y="326"/>
                    </a:lnTo>
                    <a:lnTo>
                      <a:pt x="31" y="322"/>
                    </a:lnTo>
                    <a:lnTo>
                      <a:pt x="27" y="318"/>
                    </a:lnTo>
                    <a:lnTo>
                      <a:pt x="21" y="314"/>
                    </a:lnTo>
                    <a:lnTo>
                      <a:pt x="16" y="310"/>
                    </a:lnTo>
                    <a:lnTo>
                      <a:pt x="12" y="304"/>
                    </a:lnTo>
                    <a:lnTo>
                      <a:pt x="8" y="300"/>
                    </a:lnTo>
                    <a:lnTo>
                      <a:pt x="4" y="297"/>
                    </a:lnTo>
                    <a:lnTo>
                      <a:pt x="2" y="293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9"/>
                    </a:lnTo>
                    <a:lnTo>
                      <a:pt x="0" y="275"/>
                    </a:lnTo>
                    <a:lnTo>
                      <a:pt x="0" y="274"/>
                    </a:lnTo>
                    <a:lnTo>
                      <a:pt x="0" y="272"/>
                    </a:lnTo>
                    <a:lnTo>
                      <a:pt x="0" y="26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645080" y="2355840"/>
                <a:ext cx="472680" cy="223560"/>
              </a:xfrm>
              <a:custGeom>
                <a:avLst/>
                <a:gdLst/>
                <a:ahLst/>
                <a:rect l="l" t="t" r="r" b="b"/>
                <a:pathLst>
                  <a:path w="536" h="276">
                    <a:moveTo>
                      <a:pt x="534" y="185"/>
                    </a:moveTo>
                    <a:lnTo>
                      <a:pt x="534" y="189"/>
                    </a:lnTo>
                    <a:lnTo>
                      <a:pt x="534" y="193"/>
                    </a:lnTo>
                    <a:lnTo>
                      <a:pt x="532" y="199"/>
                    </a:lnTo>
                    <a:lnTo>
                      <a:pt x="528" y="203"/>
                    </a:lnTo>
                    <a:lnTo>
                      <a:pt x="526" y="206"/>
                    </a:lnTo>
                    <a:lnTo>
                      <a:pt x="522" y="210"/>
                    </a:lnTo>
                    <a:lnTo>
                      <a:pt x="516" y="216"/>
                    </a:lnTo>
                    <a:lnTo>
                      <a:pt x="513" y="220"/>
                    </a:lnTo>
                    <a:lnTo>
                      <a:pt x="509" y="224"/>
                    </a:lnTo>
                    <a:lnTo>
                      <a:pt x="501" y="228"/>
                    </a:lnTo>
                    <a:lnTo>
                      <a:pt x="495" y="232"/>
                    </a:lnTo>
                    <a:lnTo>
                      <a:pt x="488" y="235"/>
                    </a:lnTo>
                    <a:lnTo>
                      <a:pt x="480" y="239"/>
                    </a:lnTo>
                    <a:lnTo>
                      <a:pt x="474" y="241"/>
                    </a:lnTo>
                    <a:lnTo>
                      <a:pt x="465" y="245"/>
                    </a:lnTo>
                    <a:lnTo>
                      <a:pt x="455" y="249"/>
                    </a:lnTo>
                    <a:lnTo>
                      <a:pt x="447" y="251"/>
                    </a:lnTo>
                    <a:lnTo>
                      <a:pt x="438" y="255"/>
                    </a:lnTo>
                    <a:lnTo>
                      <a:pt x="426" y="257"/>
                    </a:lnTo>
                    <a:lnTo>
                      <a:pt x="417" y="260"/>
                    </a:lnTo>
                    <a:lnTo>
                      <a:pt x="405" y="262"/>
                    </a:lnTo>
                    <a:lnTo>
                      <a:pt x="394" y="264"/>
                    </a:lnTo>
                    <a:lnTo>
                      <a:pt x="384" y="266"/>
                    </a:lnTo>
                    <a:lnTo>
                      <a:pt x="371" y="270"/>
                    </a:lnTo>
                    <a:lnTo>
                      <a:pt x="359" y="270"/>
                    </a:lnTo>
                    <a:lnTo>
                      <a:pt x="348" y="272"/>
                    </a:lnTo>
                    <a:lnTo>
                      <a:pt x="334" y="272"/>
                    </a:lnTo>
                    <a:lnTo>
                      <a:pt x="323" y="274"/>
                    </a:lnTo>
                    <a:lnTo>
                      <a:pt x="309" y="274"/>
                    </a:lnTo>
                    <a:lnTo>
                      <a:pt x="296" y="276"/>
                    </a:lnTo>
                    <a:lnTo>
                      <a:pt x="282" y="276"/>
                    </a:lnTo>
                    <a:lnTo>
                      <a:pt x="269" y="276"/>
                    </a:lnTo>
                    <a:lnTo>
                      <a:pt x="256" y="276"/>
                    </a:lnTo>
                    <a:lnTo>
                      <a:pt x="240" y="276"/>
                    </a:lnTo>
                    <a:lnTo>
                      <a:pt x="227" y="274"/>
                    </a:lnTo>
                    <a:lnTo>
                      <a:pt x="213" y="274"/>
                    </a:lnTo>
                    <a:lnTo>
                      <a:pt x="202" y="272"/>
                    </a:lnTo>
                    <a:lnTo>
                      <a:pt x="188" y="272"/>
                    </a:lnTo>
                    <a:lnTo>
                      <a:pt x="177" y="270"/>
                    </a:lnTo>
                    <a:lnTo>
                      <a:pt x="163" y="270"/>
                    </a:lnTo>
                    <a:lnTo>
                      <a:pt x="152" y="266"/>
                    </a:lnTo>
                    <a:lnTo>
                      <a:pt x="140" y="264"/>
                    </a:lnTo>
                    <a:lnTo>
                      <a:pt x="129" y="262"/>
                    </a:lnTo>
                    <a:lnTo>
                      <a:pt x="119" y="260"/>
                    </a:lnTo>
                    <a:lnTo>
                      <a:pt x="108" y="257"/>
                    </a:lnTo>
                    <a:lnTo>
                      <a:pt x="96" y="255"/>
                    </a:lnTo>
                    <a:lnTo>
                      <a:pt x="89" y="251"/>
                    </a:lnTo>
                    <a:lnTo>
                      <a:pt x="79" y="249"/>
                    </a:lnTo>
                    <a:lnTo>
                      <a:pt x="69" y="245"/>
                    </a:lnTo>
                    <a:lnTo>
                      <a:pt x="60" y="241"/>
                    </a:lnTo>
                    <a:lnTo>
                      <a:pt x="54" y="239"/>
                    </a:lnTo>
                    <a:lnTo>
                      <a:pt x="46" y="235"/>
                    </a:lnTo>
                    <a:lnTo>
                      <a:pt x="39" y="232"/>
                    </a:lnTo>
                    <a:lnTo>
                      <a:pt x="31" y="228"/>
                    </a:lnTo>
                    <a:lnTo>
                      <a:pt x="27" y="224"/>
                    </a:lnTo>
                    <a:lnTo>
                      <a:pt x="21" y="220"/>
                    </a:lnTo>
                    <a:lnTo>
                      <a:pt x="16" y="216"/>
                    </a:lnTo>
                    <a:lnTo>
                      <a:pt x="12" y="210"/>
                    </a:lnTo>
                    <a:lnTo>
                      <a:pt x="8" y="206"/>
                    </a:lnTo>
                    <a:lnTo>
                      <a:pt x="4" y="203"/>
                    </a:lnTo>
                    <a:lnTo>
                      <a:pt x="2" y="199"/>
                    </a:lnTo>
                    <a:lnTo>
                      <a:pt x="0" y="193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174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36" y="12"/>
                    </a:lnTo>
                    <a:lnTo>
                      <a:pt x="536" y="23"/>
                    </a:lnTo>
                    <a:lnTo>
                      <a:pt x="536" y="35"/>
                    </a:lnTo>
                    <a:lnTo>
                      <a:pt x="536" y="47"/>
                    </a:lnTo>
                    <a:lnTo>
                      <a:pt x="534" y="58"/>
                    </a:lnTo>
                    <a:lnTo>
                      <a:pt x="534" y="70"/>
                    </a:lnTo>
                    <a:lnTo>
                      <a:pt x="534" y="81"/>
                    </a:lnTo>
                    <a:lnTo>
                      <a:pt x="534" y="93"/>
                    </a:lnTo>
                    <a:lnTo>
                      <a:pt x="534" y="104"/>
                    </a:lnTo>
                    <a:lnTo>
                      <a:pt x="534" y="116"/>
                    </a:lnTo>
                    <a:lnTo>
                      <a:pt x="534" y="128"/>
                    </a:lnTo>
                    <a:lnTo>
                      <a:pt x="534" y="139"/>
                    </a:lnTo>
                    <a:lnTo>
                      <a:pt x="534" y="151"/>
                    </a:lnTo>
                    <a:lnTo>
                      <a:pt x="534" y="162"/>
                    </a:lnTo>
                    <a:lnTo>
                      <a:pt x="534" y="174"/>
                    </a:lnTo>
                    <a:lnTo>
                      <a:pt x="534" y="185"/>
                    </a:lnTo>
                    <a:close/>
                  </a:path>
                </a:pathLst>
              </a:custGeom>
              <a:solidFill>
                <a:srgbClr val="4d7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45080" y="2278080"/>
                <a:ext cx="471240" cy="151560"/>
              </a:xfrm>
              <a:custGeom>
                <a:avLst/>
                <a:gdLst/>
                <a:ahLst/>
                <a:rect l="l" t="t" r="r" b="b"/>
                <a:pathLst>
                  <a:path w="534" h="185">
                    <a:moveTo>
                      <a:pt x="534" y="94"/>
                    </a:moveTo>
                    <a:lnTo>
                      <a:pt x="534" y="98"/>
                    </a:lnTo>
                    <a:lnTo>
                      <a:pt x="532" y="104"/>
                    </a:lnTo>
                    <a:lnTo>
                      <a:pt x="530" y="108"/>
                    </a:lnTo>
                    <a:lnTo>
                      <a:pt x="528" y="114"/>
                    </a:lnTo>
                    <a:lnTo>
                      <a:pt x="524" y="117"/>
                    </a:lnTo>
                    <a:lnTo>
                      <a:pt x="520" y="121"/>
                    </a:lnTo>
                    <a:lnTo>
                      <a:pt x="516" y="125"/>
                    </a:lnTo>
                    <a:lnTo>
                      <a:pt x="513" y="129"/>
                    </a:lnTo>
                    <a:lnTo>
                      <a:pt x="507" y="133"/>
                    </a:lnTo>
                    <a:lnTo>
                      <a:pt x="501" y="139"/>
                    </a:lnTo>
                    <a:lnTo>
                      <a:pt x="495" y="141"/>
                    </a:lnTo>
                    <a:lnTo>
                      <a:pt x="488" y="144"/>
                    </a:lnTo>
                    <a:lnTo>
                      <a:pt x="480" y="148"/>
                    </a:lnTo>
                    <a:lnTo>
                      <a:pt x="472" y="152"/>
                    </a:lnTo>
                    <a:lnTo>
                      <a:pt x="465" y="156"/>
                    </a:lnTo>
                    <a:lnTo>
                      <a:pt x="455" y="158"/>
                    </a:lnTo>
                    <a:lnTo>
                      <a:pt x="447" y="162"/>
                    </a:lnTo>
                    <a:lnTo>
                      <a:pt x="436" y="164"/>
                    </a:lnTo>
                    <a:lnTo>
                      <a:pt x="426" y="168"/>
                    </a:lnTo>
                    <a:lnTo>
                      <a:pt x="417" y="170"/>
                    </a:lnTo>
                    <a:lnTo>
                      <a:pt x="405" y="173"/>
                    </a:lnTo>
                    <a:lnTo>
                      <a:pt x="394" y="175"/>
                    </a:lnTo>
                    <a:lnTo>
                      <a:pt x="382" y="177"/>
                    </a:lnTo>
                    <a:lnTo>
                      <a:pt x="371" y="179"/>
                    </a:lnTo>
                    <a:lnTo>
                      <a:pt x="359" y="181"/>
                    </a:lnTo>
                    <a:lnTo>
                      <a:pt x="348" y="183"/>
                    </a:lnTo>
                    <a:lnTo>
                      <a:pt x="334" y="183"/>
                    </a:lnTo>
                    <a:lnTo>
                      <a:pt x="321" y="183"/>
                    </a:lnTo>
                    <a:lnTo>
                      <a:pt x="307" y="185"/>
                    </a:lnTo>
                    <a:lnTo>
                      <a:pt x="296" y="185"/>
                    </a:lnTo>
                    <a:lnTo>
                      <a:pt x="282" y="185"/>
                    </a:lnTo>
                    <a:lnTo>
                      <a:pt x="269" y="185"/>
                    </a:lnTo>
                    <a:lnTo>
                      <a:pt x="254" y="185"/>
                    </a:lnTo>
                    <a:lnTo>
                      <a:pt x="240" y="185"/>
                    </a:lnTo>
                    <a:lnTo>
                      <a:pt x="227" y="185"/>
                    </a:lnTo>
                    <a:lnTo>
                      <a:pt x="213" y="183"/>
                    </a:lnTo>
                    <a:lnTo>
                      <a:pt x="202" y="183"/>
                    </a:lnTo>
                    <a:lnTo>
                      <a:pt x="188" y="183"/>
                    </a:lnTo>
                    <a:lnTo>
                      <a:pt x="177" y="181"/>
                    </a:lnTo>
                    <a:lnTo>
                      <a:pt x="163" y="179"/>
                    </a:lnTo>
                    <a:lnTo>
                      <a:pt x="152" y="177"/>
                    </a:lnTo>
                    <a:lnTo>
                      <a:pt x="140" y="175"/>
                    </a:lnTo>
                    <a:lnTo>
                      <a:pt x="129" y="173"/>
                    </a:lnTo>
                    <a:lnTo>
                      <a:pt x="119" y="170"/>
                    </a:lnTo>
                    <a:lnTo>
                      <a:pt x="108" y="168"/>
                    </a:lnTo>
                    <a:lnTo>
                      <a:pt x="96" y="164"/>
                    </a:lnTo>
                    <a:lnTo>
                      <a:pt x="89" y="162"/>
                    </a:lnTo>
                    <a:lnTo>
                      <a:pt x="79" y="158"/>
                    </a:lnTo>
                    <a:lnTo>
                      <a:pt x="69" y="156"/>
                    </a:lnTo>
                    <a:lnTo>
                      <a:pt x="60" y="152"/>
                    </a:lnTo>
                    <a:lnTo>
                      <a:pt x="54" y="148"/>
                    </a:lnTo>
                    <a:lnTo>
                      <a:pt x="46" y="144"/>
                    </a:lnTo>
                    <a:lnTo>
                      <a:pt x="39" y="141"/>
                    </a:lnTo>
                    <a:lnTo>
                      <a:pt x="31" y="139"/>
                    </a:lnTo>
                    <a:lnTo>
                      <a:pt x="27" y="133"/>
                    </a:lnTo>
                    <a:lnTo>
                      <a:pt x="21" y="129"/>
                    </a:lnTo>
                    <a:lnTo>
                      <a:pt x="16" y="125"/>
                    </a:lnTo>
                    <a:lnTo>
                      <a:pt x="12" y="121"/>
                    </a:lnTo>
                    <a:lnTo>
                      <a:pt x="8" y="117"/>
                    </a:lnTo>
                    <a:lnTo>
                      <a:pt x="4" y="114"/>
                    </a:lnTo>
                    <a:lnTo>
                      <a:pt x="2" y="108"/>
                    </a:lnTo>
                    <a:lnTo>
                      <a:pt x="0" y="104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2" y="81"/>
                    </a:lnTo>
                    <a:lnTo>
                      <a:pt x="4" y="75"/>
                    </a:lnTo>
                    <a:lnTo>
                      <a:pt x="8" y="71"/>
                    </a:lnTo>
                    <a:lnTo>
                      <a:pt x="12" y="65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7" y="54"/>
                    </a:lnTo>
                    <a:lnTo>
                      <a:pt x="31" y="50"/>
                    </a:lnTo>
                    <a:lnTo>
                      <a:pt x="39" y="46"/>
                    </a:lnTo>
                    <a:lnTo>
                      <a:pt x="46" y="42"/>
                    </a:lnTo>
                    <a:lnTo>
                      <a:pt x="54" y="39"/>
                    </a:lnTo>
                    <a:lnTo>
                      <a:pt x="60" y="35"/>
                    </a:lnTo>
                    <a:lnTo>
                      <a:pt x="69" y="31"/>
                    </a:lnTo>
                    <a:lnTo>
                      <a:pt x="79" y="29"/>
                    </a:lnTo>
                    <a:lnTo>
                      <a:pt x="89" y="25"/>
                    </a:lnTo>
                    <a:lnTo>
                      <a:pt x="96" y="21"/>
                    </a:lnTo>
                    <a:lnTo>
                      <a:pt x="108" y="19"/>
                    </a:lnTo>
                    <a:lnTo>
                      <a:pt x="119" y="17"/>
                    </a:lnTo>
                    <a:lnTo>
                      <a:pt x="129" y="13"/>
                    </a:lnTo>
                    <a:lnTo>
                      <a:pt x="140" y="12"/>
                    </a:lnTo>
                    <a:lnTo>
                      <a:pt x="152" y="10"/>
                    </a:lnTo>
                    <a:lnTo>
                      <a:pt x="163" y="8"/>
                    </a:lnTo>
                    <a:lnTo>
                      <a:pt x="177" y="6"/>
                    </a:lnTo>
                    <a:lnTo>
                      <a:pt x="188" y="4"/>
                    </a:lnTo>
                    <a:lnTo>
                      <a:pt x="202" y="2"/>
                    </a:lnTo>
                    <a:lnTo>
                      <a:pt x="213" y="2"/>
                    </a:lnTo>
                    <a:lnTo>
                      <a:pt x="227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9" y="0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0"/>
                    </a:lnTo>
                    <a:lnTo>
                      <a:pt x="321" y="2"/>
                    </a:lnTo>
                    <a:lnTo>
                      <a:pt x="334" y="2"/>
                    </a:lnTo>
                    <a:lnTo>
                      <a:pt x="348" y="4"/>
                    </a:lnTo>
                    <a:lnTo>
                      <a:pt x="359" y="6"/>
                    </a:lnTo>
                    <a:lnTo>
                      <a:pt x="371" y="8"/>
                    </a:lnTo>
                    <a:lnTo>
                      <a:pt x="382" y="10"/>
                    </a:lnTo>
                    <a:lnTo>
                      <a:pt x="394" y="12"/>
                    </a:lnTo>
                    <a:lnTo>
                      <a:pt x="405" y="13"/>
                    </a:lnTo>
                    <a:lnTo>
                      <a:pt x="417" y="17"/>
                    </a:lnTo>
                    <a:lnTo>
                      <a:pt x="426" y="19"/>
                    </a:lnTo>
                    <a:lnTo>
                      <a:pt x="436" y="21"/>
                    </a:lnTo>
                    <a:lnTo>
                      <a:pt x="447" y="25"/>
                    </a:lnTo>
                    <a:lnTo>
                      <a:pt x="455" y="29"/>
                    </a:lnTo>
                    <a:lnTo>
                      <a:pt x="465" y="31"/>
                    </a:lnTo>
                    <a:lnTo>
                      <a:pt x="472" y="35"/>
                    </a:lnTo>
                    <a:lnTo>
                      <a:pt x="480" y="39"/>
                    </a:lnTo>
                    <a:lnTo>
                      <a:pt x="488" y="42"/>
                    </a:lnTo>
                    <a:lnTo>
                      <a:pt x="495" y="46"/>
                    </a:lnTo>
                    <a:lnTo>
                      <a:pt x="501" y="50"/>
                    </a:lnTo>
                    <a:lnTo>
                      <a:pt x="507" y="54"/>
                    </a:lnTo>
                    <a:lnTo>
                      <a:pt x="513" y="58"/>
                    </a:lnTo>
                    <a:lnTo>
                      <a:pt x="516" y="62"/>
                    </a:lnTo>
                    <a:lnTo>
                      <a:pt x="520" y="65"/>
                    </a:lnTo>
                    <a:lnTo>
                      <a:pt x="524" y="71"/>
                    </a:lnTo>
                    <a:lnTo>
                      <a:pt x="528" y="75"/>
                    </a:lnTo>
                    <a:lnTo>
                      <a:pt x="530" y="81"/>
                    </a:lnTo>
                    <a:lnTo>
                      <a:pt x="532" y="85"/>
                    </a:lnTo>
                    <a:lnTo>
                      <a:pt x="534" y="91"/>
                    </a:lnTo>
                    <a:lnTo>
                      <a:pt x="534" y="94"/>
                    </a:lnTo>
                    <a:close/>
                  </a:path>
                </a:pathLst>
              </a:custGeom>
              <a:solidFill>
                <a:srgbClr val="7fa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58120" y="2305440"/>
                <a:ext cx="287280" cy="93240"/>
              </a:xfrm>
              <a:custGeom>
                <a:avLst/>
                <a:gdLst/>
                <a:ahLst/>
                <a:rect l="l" t="t" r="r" b="b"/>
                <a:pathLst>
                  <a:path w="324" h="113">
                    <a:moveTo>
                      <a:pt x="0" y="58"/>
                    </a:moveTo>
                    <a:lnTo>
                      <a:pt x="161" y="0"/>
                    </a:lnTo>
                    <a:lnTo>
                      <a:pt x="324" y="58"/>
                    </a:lnTo>
                    <a:lnTo>
                      <a:pt x="161" y="113"/>
                    </a:lnTo>
                    <a:lnTo>
                      <a:pt x="0" y="58"/>
                    </a:lnTo>
                    <a:close/>
                    <a:moveTo>
                      <a:pt x="61" y="52"/>
                    </a:moveTo>
                    <a:lnTo>
                      <a:pt x="263" y="52"/>
                    </a:lnTo>
                    <a:lnTo>
                      <a:pt x="161" y="17"/>
                    </a:lnTo>
                    <a:lnTo>
                      <a:pt x="61" y="52"/>
                    </a:lnTo>
                    <a:close/>
                    <a:moveTo>
                      <a:pt x="261" y="63"/>
                    </a:moveTo>
                    <a:lnTo>
                      <a:pt x="63" y="63"/>
                    </a:lnTo>
                    <a:lnTo>
                      <a:pt x="161" y="96"/>
                    </a:lnTo>
                    <a:lnTo>
                      <a:pt x="261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745880" y="2303640"/>
                <a:ext cx="285480" cy="89640"/>
              </a:xfrm>
              <a:custGeom>
                <a:avLst/>
                <a:gdLst/>
                <a:ahLst/>
                <a:rect l="l" t="t" r="r" b="b"/>
                <a:pathLst>
                  <a:path w="324" h="110">
                    <a:moveTo>
                      <a:pt x="0" y="56"/>
                    </a:moveTo>
                    <a:lnTo>
                      <a:pt x="161" y="0"/>
                    </a:lnTo>
                    <a:lnTo>
                      <a:pt x="324" y="56"/>
                    </a:lnTo>
                    <a:lnTo>
                      <a:pt x="161" y="110"/>
                    </a:lnTo>
                    <a:lnTo>
                      <a:pt x="0" y="56"/>
                    </a:lnTo>
                    <a:close/>
                    <a:moveTo>
                      <a:pt x="61" y="50"/>
                    </a:moveTo>
                    <a:lnTo>
                      <a:pt x="262" y="50"/>
                    </a:lnTo>
                    <a:lnTo>
                      <a:pt x="161" y="15"/>
                    </a:lnTo>
                    <a:lnTo>
                      <a:pt x="61" y="50"/>
                    </a:lnTo>
                    <a:close/>
                    <a:moveTo>
                      <a:pt x="260" y="60"/>
                    </a:moveTo>
                    <a:lnTo>
                      <a:pt x="63" y="60"/>
                    </a:lnTo>
                    <a:lnTo>
                      <a:pt x="161" y="94"/>
                    </a:lnTo>
                    <a:lnTo>
                      <a:pt x="26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33720" y="2458800"/>
                <a:ext cx="112680" cy="10908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0" y="132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4" y="7"/>
                    </a:lnTo>
                    <a:lnTo>
                      <a:pt x="106" y="9"/>
                    </a:lnTo>
                    <a:lnTo>
                      <a:pt x="108" y="11"/>
                    </a:lnTo>
                    <a:lnTo>
                      <a:pt x="110" y="13"/>
                    </a:lnTo>
                    <a:lnTo>
                      <a:pt x="112" y="15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5" y="23"/>
                    </a:lnTo>
                    <a:lnTo>
                      <a:pt x="115" y="25"/>
                    </a:lnTo>
                    <a:lnTo>
                      <a:pt x="117" y="26"/>
                    </a:lnTo>
                    <a:lnTo>
                      <a:pt x="117" y="30"/>
                    </a:lnTo>
                    <a:lnTo>
                      <a:pt x="117" y="32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2"/>
                    </a:lnTo>
                    <a:lnTo>
                      <a:pt x="117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4" y="50"/>
                    </a:lnTo>
                    <a:lnTo>
                      <a:pt x="114" y="52"/>
                    </a:lnTo>
                    <a:lnTo>
                      <a:pt x="112" y="52"/>
                    </a:lnTo>
                    <a:lnTo>
                      <a:pt x="112" y="53"/>
                    </a:lnTo>
                    <a:lnTo>
                      <a:pt x="110" y="55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4" y="61"/>
                    </a:lnTo>
                    <a:lnTo>
                      <a:pt x="102" y="63"/>
                    </a:lnTo>
                    <a:lnTo>
                      <a:pt x="102" y="63"/>
                    </a:lnTo>
                    <a:lnTo>
                      <a:pt x="100" y="65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1" y="69"/>
                    </a:lnTo>
                    <a:lnTo>
                      <a:pt x="87" y="69"/>
                    </a:lnTo>
                    <a:lnTo>
                      <a:pt x="81" y="71"/>
                    </a:lnTo>
                    <a:lnTo>
                      <a:pt x="75" y="71"/>
                    </a:lnTo>
                    <a:lnTo>
                      <a:pt x="79" y="73"/>
                    </a:lnTo>
                    <a:lnTo>
                      <a:pt x="83" y="75"/>
                    </a:lnTo>
                    <a:lnTo>
                      <a:pt x="87" y="77"/>
                    </a:lnTo>
                    <a:lnTo>
                      <a:pt x="89" y="78"/>
                    </a:lnTo>
                    <a:lnTo>
                      <a:pt x="89" y="80"/>
                    </a:lnTo>
                    <a:lnTo>
                      <a:pt x="91" y="82"/>
                    </a:lnTo>
                    <a:lnTo>
                      <a:pt x="94" y="82"/>
                    </a:lnTo>
                    <a:lnTo>
                      <a:pt x="96" y="86"/>
                    </a:lnTo>
                    <a:lnTo>
                      <a:pt x="98" y="88"/>
                    </a:lnTo>
                    <a:lnTo>
                      <a:pt x="100" y="90"/>
                    </a:lnTo>
                    <a:lnTo>
                      <a:pt x="102" y="92"/>
                    </a:lnTo>
                    <a:lnTo>
                      <a:pt x="104" y="96"/>
                    </a:lnTo>
                    <a:lnTo>
                      <a:pt x="129" y="132"/>
                    </a:lnTo>
                    <a:lnTo>
                      <a:pt x="104" y="132"/>
                    </a:lnTo>
                    <a:lnTo>
                      <a:pt x="87" y="104"/>
                    </a:lnTo>
                    <a:lnTo>
                      <a:pt x="81" y="98"/>
                    </a:lnTo>
                    <a:lnTo>
                      <a:pt x="77" y="94"/>
                    </a:lnTo>
                    <a:lnTo>
                      <a:pt x="75" y="88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6" y="80"/>
                    </a:lnTo>
                    <a:lnTo>
                      <a:pt x="64" y="78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5"/>
                    </a:lnTo>
                    <a:lnTo>
                      <a:pt x="56" y="7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8" y="73"/>
                    </a:lnTo>
                    <a:lnTo>
                      <a:pt x="46" y="73"/>
                    </a:lnTo>
                    <a:lnTo>
                      <a:pt x="43" y="73"/>
                    </a:lnTo>
                    <a:lnTo>
                      <a:pt x="20" y="73"/>
                    </a:lnTo>
                    <a:lnTo>
                      <a:pt x="20" y="132"/>
                    </a:lnTo>
                    <a:lnTo>
                      <a:pt x="0" y="132"/>
                    </a:lnTo>
                    <a:close/>
                    <a:moveTo>
                      <a:pt x="20" y="57"/>
                    </a:moveTo>
                    <a:lnTo>
                      <a:pt x="62" y="57"/>
                    </a:lnTo>
                    <a:lnTo>
                      <a:pt x="64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3" y="57"/>
                    </a:lnTo>
                    <a:lnTo>
                      <a:pt x="75" y="55"/>
                    </a:lnTo>
                    <a:lnTo>
                      <a:pt x="79" y="55"/>
                    </a:lnTo>
                    <a:lnTo>
                      <a:pt x="81" y="55"/>
                    </a:lnTo>
                    <a:lnTo>
                      <a:pt x="83" y="55"/>
                    </a:lnTo>
                    <a:lnTo>
                      <a:pt x="85" y="53"/>
                    </a:lnTo>
                    <a:lnTo>
                      <a:pt x="87" y="53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2"/>
                    </a:lnTo>
                    <a:lnTo>
                      <a:pt x="91" y="50"/>
                    </a:lnTo>
                    <a:lnTo>
                      <a:pt x="92" y="50"/>
                    </a:lnTo>
                    <a:lnTo>
                      <a:pt x="92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5"/>
                    </a:lnTo>
                    <a:lnTo>
                      <a:pt x="92" y="23"/>
                    </a:lnTo>
                    <a:lnTo>
                      <a:pt x="91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3" y="15"/>
                    </a:lnTo>
                    <a:lnTo>
                      <a:pt x="69" y="15"/>
                    </a:lnTo>
                    <a:lnTo>
                      <a:pt x="66" y="13"/>
                    </a:lnTo>
                    <a:lnTo>
                      <a:pt x="20" y="13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828680" y="245556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12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7"/>
                    </a:lnTo>
                    <a:lnTo>
                      <a:pt x="103" y="9"/>
                    </a:lnTo>
                    <a:lnTo>
                      <a:pt x="105" y="9"/>
                    </a:lnTo>
                    <a:lnTo>
                      <a:pt x="107" y="13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1" y="19"/>
                    </a:lnTo>
                    <a:lnTo>
                      <a:pt x="113" y="21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7" y="30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40"/>
                    </a:lnTo>
                    <a:lnTo>
                      <a:pt x="115" y="44"/>
                    </a:lnTo>
                    <a:lnTo>
                      <a:pt x="115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15" y="50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1" y="54"/>
                    </a:lnTo>
                    <a:lnTo>
                      <a:pt x="111" y="56"/>
                    </a:lnTo>
                    <a:lnTo>
                      <a:pt x="109" y="57"/>
                    </a:lnTo>
                    <a:lnTo>
                      <a:pt x="105" y="59"/>
                    </a:lnTo>
                    <a:lnTo>
                      <a:pt x="105" y="61"/>
                    </a:lnTo>
                    <a:lnTo>
                      <a:pt x="103" y="61"/>
                    </a:lnTo>
                    <a:lnTo>
                      <a:pt x="101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4" y="67"/>
                    </a:lnTo>
                    <a:lnTo>
                      <a:pt x="90" y="69"/>
                    </a:lnTo>
                    <a:lnTo>
                      <a:pt x="86" y="71"/>
                    </a:lnTo>
                    <a:lnTo>
                      <a:pt x="80" y="71"/>
                    </a:lnTo>
                    <a:lnTo>
                      <a:pt x="74" y="73"/>
                    </a:lnTo>
                    <a:lnTo>
                      <a:pt x="78" y="75"/>
                    </a:lnTo>
                    <a:lnTo>
                      <a:pt x="82" y="77"/>
                    </a:lnTo>
                    <a:lnTo>
                      <a:pt x="84" y="77"/>
                    </a:lnTo>
                    <a:lnTo>
                      <a:pt x="88" y="79"/>
                    </a:lnTo>
                    <a:lnTo>
                      <a:pt x="90" y="81"/>
                    </a:lnTo>
                    <a:lnTo>
                      <a:pt x="92" y="82"/>
                    </a:lnTo>
                    <a:lnTo>
                      <a:pt x="94" y="84"/>
                    </a:lnTo>
                    <a:lnTo>
                      <a:pt x="96" y="86"/>
                    </a:lnTo>
                    <a:lnTo>
                      <a:pt x="97" y="88"/>
                    </a:lnTo>
                    <a:lnTo>
                      <a:pt x="99" y="92"/>
                    </a:lnTo>
                    <a:lnTo>
                      <a:pt x="101" y="94"/>
                    </a:lnTo>
                    <a:lnTo>
                      <a:pt x="103" y="96"/>
                    </a:lnTo>
                    <a:lnTo>
                      <a:pt x="128" y="133"/>
                    </a:lnTo>
                    <a:lnTo>
                      <a:pt x="103" y="133"/>
                    </a:lnTo>
                    <a:lnTo>
                      <a:pt x="84" y="106"/>
                    </a:lnTo>
                    <a:lnTo>
                      <a:pt x="80" y="100"/>
                    </a:lnTo>
                    <a:lnTo>
                      <a:pt x="76" y="94"/>
                    </a:lnTo>
                    <a:lnTo>
                      <a:pt x="74" y="90"/>
                    </a:lnTo>
                    <a:lnTo>
                      <a:pt x="71" y="86"/>
                    </a:lnTo>
                    <a:lnTo>
                      <a:pt x="69" y="84"/>
                    </a:lnTo>
                    <a:lnTo>
                      <a:pt x="65" y="82"/>
                    </a:lnTo>
                    <a:lnTo>
                      <a:pt x="63" y="81"/>
                    </a:lnTo>
                    <a:lnTo>
                      <a:pt x="61" y="79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51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2" y="73"/>
                    </a:lnTo>
                    <a:lnTo>
                      <a:pt x="19" y="73"/>
                    </a:lnTo>
                    <a:lnTo>
                      <a:pt x="19" y="133"/>
                    </a:lnTo>
                    <a:lnTo>
                      <a:pt x="0" y="133"/>
                    </a:lnTo>
                    <a:close/>
                    <a:moveTo>
                      <a:pt x="19" y="57"/>
                    </a:moveTo>
                    <a:lnTo>
                      <a:pt x="61" y="57"/>
                    </a:lnTo>
                    <a:lnTo>
                      <a:pt x="63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72" y="57"/>
                    </a:lnTo>
                    <a:lnTo>
                      <a:pt x="74" y="57"/>
                    </a:lnTo>
                    <a:lnTo>
                      <a:pt x="76" y="57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8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4" y="44"/>
                    </a:lnTo>
                    <a:lnTo>
                      <a:pt x="96" y="42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6" y="38"/>
                    </a:lnTo>
                    <a:lnTo>
                      <a:pt x="96" y="36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6" y="29"/>
                    </a:lnTo>
                    <a:lnTo>
                      <a:pt x="94" y="27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2" y="23"/>
                    </a:lnTo>
                    <a:lnTo>
                      <a:pt x="90" y="21"/>
                    </a:lnTo>
                    <a:lnTo>
                      <a:pt x="88" y="19"/>
                    </a:lnTo>
                    <a:lnTo>
                      <a:pt x="84" y="19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19" y="1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4341960" y="1846440"/>
              <a:ext cx="80640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184464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9280" y="263700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5640" y="2060640"/>
              <a:ext cx="14436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55640" y="2781360"/>
              <a:ext cx="431640" cy="712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84360" y="3715920"/>
              <a:ext cx="287280" cy="730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42920" y="4508640"/>
              <a:ext cx="289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258920" y="5084640"/>
              <a:ext cx="28872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547640" y="5660640"/>
              <a:ext cx="216000" cy="144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6360" y="4365720"/>
              <a:ext cx="61092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20720" y="4941720"/>
              <a:ext cx="61128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81080" y="5734080"/>
              <a:ext cx="611280" cy="43164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0920" y="3573360"/>
              <a:ext cx="610920" cy="432000"/>
            </a:xfrm>
            <a:custGeom>
              <a:avLst/>
              <a:gdLst/>
              <a:ahLst/>
              <a:rect l="l" t="t" r="r" b="b"/>
              <a:pathLst>
                <a:path w="1482" h="702">
                  <a:moveTo>
                    <a:pt x="132" y="230"/>
                  </a:moveTo>
                  <a:lnTo>
                    <a:pt x="102" y="240"/>
                  </a:lnTo>
                  <a:lnTo>
                    <a:pt x="71" y="240"/>
                  </a:lnTo>
                  <a:lnTo>
                    <a:pt x="51" y="250"/>
                  </a:lnTo>
                  <a:lnTo>
                    <a:pt x="41" y="271"/>
                  </a:lnTo>
                  <a:lnTo>
                    <a:pt x="20" y="271"/>
                  </a:lnTo>
                  <a:lnTo>
                    <a:pt x="20" y="281"/>
                  </a:lnTo>
                  <a:lnTo>
                    <a:pt x="10" y="291"/>
                  </a:lnTo>
                  <a:lnTo>
                    <a:pt x="10" y="301"/>
                  </a:lnTo>
                  <a:lnTo>
                    <a:pt x="0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61"/>
                  </a:lnTo>
                  <a:lnTo>
                    <a:pt x="10" y="371"/>
                  </a:lnTo>
                  <a:lnTo>
                    <a:pt x="10" y="381"/>
                  </a:lnTo>
                  <a:lnTo>
                    <a:pt x="20" y="391"/>
                  </a:lnTo>
                  <a:lnTo>
                    <a:pt x="41" y="401"/>
                  </a:lnTo>
                  <a:lnTo>
                    <a:pt x="51" y="411"/>
                  </a:lnTo>
                  <a:lnTo>
                    <a:pt x="71" y="411"/>
                  </a:lnTo>
                  <a:lnTo>
                    <a:pt x="71" y="411"/>
                  </a:lnTo>
                  <a:lnTo>
                    <a:pt x="61" y="421"/>
                  </a:lnTo>
                  <a:lnTo>
                    <a:pt x="51" y="431"/>
                  </a:lnTo>
                  <a:lnTo>
                    <a:pt x="51" y="431"/>
                  </a:lnTo>
                  <a:lnTo>
                    <a:pt x="41" y="451"/>
                  </a:lnTo>
                  <a:lnTo>
                    <a:pt x="41" y="461"/>
                  </a:lnTo>
                  <a:lnTo>
                    <a:pt x="31" y="461"/>
                  </a:lnTo>
                  <a:lnTo>
                    <a:pt x="31" y="471"/>
                  </a:lnTo>
                  <a:lnTo>
                    <a:pt x="31" y="481"/>
                  </a:lnTo>
                  <a:lnTo>
                    <a:pt x="31" y="491"/>
                  </a:lnTo>
                  <a:lnTo>
                    <a:pt x="31" y="501"/>
                  </a:lnTo>
                  <a:lnTo>
                    <a:pt x="41" y="511"/>
                  </a:lnTo>
                  <a:lnTo>
                    <a:pt x="41" y="521"/>
                  </a:lnTo>
                  <a:lnTo>
                    <a:pt x="51" y="521"/>
                  </a:lnTo>
                  <a:lnTo>
                    <a:pt x="51" y="541"/>
                  </a:lnTo>
                  <a:lnTo>
                    <a:pt x="61" y="541"/>
                  </a:lnTo>
                  <a:lnTo>
                    <a:pt x="71" y="551"/>
                  </a:lnTo>
                  <a:lnTo>
                    <a:pt x="81" y="561"/>
                  </a:lnTo>
                  <a:lnTo>
                    <a:pt x="91" y="561"/>
                  </a:lnTo>
                  <a:lnTo>
                    <a:pt x="122" y="571"/>
                  </a:lnTo>
                  <a:lnTo>
                    <a:pt x="152" y="581"/>
                  </a:lnTo>
                  <a:lnTo>
                    <a:pt x="163" y="581"/>
                  </a:lnTo>
                  <a:lnTo>
                    <a:pt x="173" y="581"/>
                  </a:lnTo>
                  <a:lnTo>
                    <a:pt x="193" y="581"/>
                  </a:lnTo>
                  <a:lnTo>
                    <a:pt x="193" y="581"/>
                  </a:lnTo>
                  <a:lnTo>
                    <a:pt x="213" y="601"/>
                  </a:lnTo>
                  <a:lnTo>
                    <a:pt x="244" y="611"/>
                  </a:lnTo>
                  <a:lnTo>
                    <a:pt x="264" y="631"/>
                  </a:lnTo>
                  <a:lnTo>
                    <a:pt x="294" y="641"/>
                  </a:lnTo>
                  <a:lnTo>
                    <a:pt x="325" y="652"/>
                  </a:lnTo>
                  <a:lnTo>
                    <a:pt x="355" y="662"/>
                  </a:lnTo>
                  <a:lnTo>
                    <a:pt x="396" y="662"/>
                  </a:lnTo>
                  <a:lnTo>
                    <a:pt x="426" y="662"/>
                  </a:lnTo>
                  <a:lnTo>
                    <a:pt x="457" y="662"/>
                  </a:lnTo>
                  <a:lnTo>
                    <a:pt x="497" y="662"/>
                  </a:lnTo>
                  <a:lnTo>
                    <a:pt x="528" y="652"/>
                  </a:lnTo>
                  <a:lnTo>
                    <a:pt x="558" y="641"/>
                  </a:lnTo>
                  <a:lnTo>
                    <a:pt x="558" y="641"/>
                  </a:lnTo>
                  <a:lnTo>
                    <a:pt x="579" y="662"/>
                  </a:lnTo>
                  <a:lnTo>
                    <a:pt x="599" y="672"/>
                  </a:lnTo>
                  <a:lnTo>
                    <a:pt x="619" y="682"/>
                  </a:lnTo>
                  <a:lnTo>
                    <a:pt x="650" y="692"/>
                  </a:lnTo>
                  <a:lnTo>
                    <a:pt x="670" y="702"/>
                  </a:lnTo>
                  <a:lnTo>
                    <a:pt x="700" y="702"/>
                  </a:lnTo>
                  <a:lnTo>
                    <a:pt x="731" y="702"/>
                  </a:lnTo>
                  <a:lnTo>
                    <a:pt x="751" y="702"/>
                  </a:lnTo>
                  <a:lnTo>
                    <a:pt x="771" y="702"/>
                  </a:lnTo>
                  <a:lnTo>
                    <a:pt x="792" y="702"/>
                  </a:lnTo>
                  <a:lnTo>
                    <a:pt x="832" y="702"/>
                  </a:lnTo>
                  <a:lnTo>
                    <a:pt x="863" y="692"/>
                  </a:lnTo>
                  <a:lnTo>
                    <a:pt x="893" y="682"/>
                  </a:lnTo>
                  <a:lnTo>
                    <a:pt x="903" y="672"/>
                  </a:lnTo>
                  <a:lnTo>
                    <a:pt x="924" y="662"/>
                  </a:lnTo>
                  <a:lnTo>
                    <a:pt x="934" y="652"/>
                  </a:lnTo>
                  <a:lnTo>
                    <a:pt x="944" y="641"/>
                  </a:lnTo>
                  <a:lnTo>
                    <a:pt x="954" y="641"/>
                  </a:lnTo>
                  <a:lnTo>
                    <a:pt x="964" y="621"/>
                  </a:lnTo>
                  <a:lnTo>
                    <a:pt x="974" y="611"/>
                  </a:lnTo>
                  <a:lnTo>
                    <a:pt x="974" y="601"/>
                  </a:lnTo>
                  <a:lnTo>
                    <a:pt x="974" y="601"/>
                  </a:lnTo>
                  <a:lnTo>
                    <a:pt x="995" y="611"/>
                  </a:lnTo>
                  <a:lnTo>
                    <a:pt x="1025" y="611"/>
                  </a:lnTo>
                  <a:lnTo>
                    <a:pt x="1056" y="621"/>
                  </a:lnTo>
                  <a:lnTo>
                    <a:pt x="1086" y="621"/>
                  </a:lnTo>
                  <a:lnTo>
                    <a:pt x="1096" y="621"/>
                  </a:lnTo>
                  <a:lnTo>
                    <a:pt x="1127" y="621"/>
                  </a:lnTo>
                  <a:lnTo>
                    <a:pt x="1137" y="611"/>
                  </a:lnTo>
                  <a:lnTo>
                    <a:pt x="1157" y="611"/>
                  </a:lnTo>
                  <a:lnTo>
                    <a:pt x="1177" y="601"/>
                  </a:lnTo>
                  <a:lnTo>
                    <a:pt x="1188" y="601"/>
                  </a:lnTo>
                  <a:lnTo>
                    <a:pt x="1208" y="591"/>
                  </a:lnTo>
                  <a:lnTo>
                    <a:pt x="1218" y="581"/>
                  </a:lnTo>
                  <a:lnTo>
                    <a:pt x="1238" y="571"/>
                  </a:lnTo>
                  <a:lnTo>
                    <a:pt x="1248" y="561"/>
                  </a:lnTo>
                  <a:lnTo>
                    <a:pt x="1248" y="551"/>
                  </a:lnTo>
                  <a:lnTo>
                    <a:pt x="1269" y="541"/>
                  </a:lnTo>
                  <a:lnTo>
                    <a:pt x="1269" y="531"/>
                  </a:lnTo>
                  <a:lnTo>
                    <a:pt x="1279" y="521"/>
                  </a:lnTo>
                  <a:lnTo>
                    <a:pt x="1279" y="501"/>
                  </a:lnTo>
                  <a:lnTo>
                    <a:pt x="1279" y="491"/>
                  </a:lnTo>
                  <a:lnTo>
                    <a:pt x="1279" y="491"/>
                  </a:lnTo>
                  <a:lnTo>
                    <a:pt x="1299" y="491"/>
                  </a:lnTo>
                  <a:lnTo>
                    <a:pt x="1319" y="491"/>
                  </a:lnTo>
                  <a:lnTo>
                    <a:pt x="1340" y="481"/>
                  </a:lnTo>
                  <a:lnTo>
                    <a:pt x="1360" y="481"/>
                  </a:lnTo>
                  <a:lnTo>
                    <a:pt x="1380" y="471"/>
                  </a:lnTo>
                  <a:lnTo>
                    <a:pt x="1391" y="461"/>
                  </a:lnTo>
                  <a:lnTo>
                    <a:pt x="1411" y="451"/>
                  </a:lnTo>
                  <a:lnTo>
                    <a:pt x="1421" y="441"/>
                  </a:lnTo>
                  <a:lnTo>
                    <a:pt x="1431" y="431"/>
                  </a:lnTo>
                  <a:lnTo>
                    <a:pt x="1441" y="421"/>
                  </a:lnTo>
                  <a:lnTo>
                    <a:pt x="1462" y="411"/>
                  </a:lnTo>
                  <a:lnTo>
                    <a:pt x="1462" y="401"/>
                  </a:lnTo>
                  <a:lnTo>
                    <a:pt x="1472" y="381"/>
                  </a:lnTo>
                  <a:lnTo>
                    <a:pt x="1472" y="371"/>
                  </a:lnTo>
                  <a:lnTo>
                    <a:pt x="1482" y="361"/>
                  </a:lnTo>
                  <a:lnTo>
                    <a:pt x="1482" y="341"/>
                  </a:lnTo>
                  <a:lnTo>
                    <a:pt x="1482" y="331"/>
                  </a:lnTo>
                  <a:lnTo>
                    <a:pt x="1472" y="321"/>
                  </a:lnTo>
                  <a:lnTo>
                    <a:pt x="1472" y="311"/>
                  </a:lnTo>
                  <a:lnTo>
                    <a:pt x="1472" y="291"/>
                  </a:lnTo>
                  <a:lnTo>
                    <a:pt x="1462" y="281"/>
                  </a:lnTo>
                  <a:lnTo>
                    <a:pt x="1451" y="271"/>
                  </a:lnTo>
                  <a:lnTo>
                    <a:pt x="1441" y="261"/>
                  </a:lnTo>
                  <a:lnTo>
                    <a:pt x="1431" y="250"/>
                  </a:lnTo>
                  <a:lnTo>
                    <a:pt x="1431" y="250"/>
                  </a:lnTo>
                  <a:lnTo>
                    <a:pt x="1441" y="240"/>
                  </a:lnTo>
                  <a:lnTo>
                    <a:pt x="1441" y="230"/>
                  </a:lnTo>
                  <a:lnTo>
                    <a:pt x="1441" y="220"/>
                  </a:lnTo>
                  <a:lnTo>
                    <a:pt x="1441" y="200"/>
                  </a:lnTo>
                  <a:lnTo>
                    <a:pt x="1441" y="190"/>
                  </a:lnTo>
                  <a:lnTo>
                    <a:pt x="1441" y="190"/>
                  </a:lnTo>
                  <a:lnTo>
                    <a:pt x="1441" y="170"/>
                  </a:lnTo>
                  <a:lnTo>
                    <a:pt x="1431" y="160"/>
                  </a:lnTo>
                  <a:lnTo>
                    <a:pt x="1431" y="150"/>
                  </a:lnTo>
                  <a:lnTo>
                    <a:pt x="1421" y="150"/>
                  </a:lnTo>
                  <a:lnTo>
                    <a:pt x="1421" y="140"/>
                  </a:lnTo>
                  <a:lnTo>
                    <a:pt x="1401" y="130"/>
                  </a:lnTo>
                  <a:lnTo>
                    <a:pt x="1391" y="120"/>
                  </a:lnTo>
                  <a:lnTo>
                    <a:pt x="1370" y="110"/>
                  </a:lnTo>
                  <a:lnTo>
                    <a:pt x="1340" y="10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309" y="80"/>
                  </a:lnTo>
                  <a:lnTo>
                    <a:pt x="1299" y="70"/>
                  </a:lnTo>
                  <a:lnTo>
                    <a:pt x="1299" y="60"/>
                  </a:lnTo>
                  <a:lnTo>
                    <a:pt x="1289" y="50"/>
                  </a:lnTo>
                  <a:lnTo>
                    <a:pt x="1279" y="40"/>
                  </a:lnTo>
                  <a:lnTo>
                    <a:pt x="1279" y="40"/>
                  </a:lnTo>
                  <a:lnTo>
                    <a:pt x="1248" y="20"/>
                  </a:lnTo>
                  <a:lnTo>
                    <a:pt x="1228" y="10"/>
                  </a:lnTo>
                  <a:lnTo>
                    <a:pt x="1198" y="10"/>
                  </a:lnTo>
                  <a:lnTo>
                    <a:pt x="1177" y="0"/>
                  </a:lnTo>
                  <a:lnTo>
                    <a:pt x="1147" y="0"/>
                  </a:lnTo>
                  <a:lnTo>
                    <a:pt x="1127" y="0"/>
                  </a:lnTo>
                  <a:lnTo>
                    <a:pt x="1106" y="0"/>
                  </a:lnTo>
                  <a:lnTo>
                    <a:pt x="1096" y="10"/>
                  </a:lnTo>
                  <a:lnTo>
                    <a:pt x="1076" y="10"/>
                  </a:lnTo>
                  <a:lnTo>
                    <a:pt x="1056" y="20"/>
                  </a:lnTo>
                  <a:lnTo>
                    <a:pt x="1045" y="20"/>
                  </a:lnTo>
                  <a:lnTo>
                    <a:pt x="1035" y="30"/>
                  </a:lnTo>
                  <a:lnTo>
                    <a:pt x="1025" y="40"/>
                  </a:lnTo>
                  <a:lnTo>
                    <a:pt x="1025" y="40"/>
                  </a:lnTo>
                  <a:lnTo>
                    <a:pt x="1005" y="30"/>
                  </a:lnTo>
                  <a:lnTo>
                    <a:pt x="995" y="20"/>
                  </a:lnTo>
                  <a:lnTo>
                    <a:pt x="985" y="20"/>
                  </a:lnTo>
                  <a:lnTo>
                    <a:pt x="974" y="10"/>
                  </a:lnTo>
                  <a:lnTo>
                    <a:pt x="954" y="10"/>
                  </a:lnTo>
                  <a:lnTo>
                    <a:pt x="934" y="0"/>
                  </a:lnTo>
                  <a:lnTo>
                    <a:pt x="924" y="0"/>
                  </a:lnTo>
                  <a:lnTo>
                    <a:pt x="903" y="0"/>
                  </a:lnTo>
                  <a:lnTo>
                    <a:pt x="883" y="0"/>
                  </a:lnTo>
                  <a:lnTo>
                    <a:pt x="863" y="0"/>
                  </a:lnTo>
                  <a:lnTo>
                    <a:pt x="842" y="10"/>
                  </a:lnTo>
                  <a:lnTo>
                    <a:pt x="822" y="10"/>
                  </a:lnTo>
                  <a:lnTo>
                    <a:pt x="802" y="20"/>
                  </a:lnTo>
                  <a:lnTo>
                    <a:pt x="792" y="30"/>
                  </a:lnTo>
                  <a:lnTo>
                    <a:pt x="782" y="40"/>
                  </a:lnTo>
                  <a:lnTo>
                    <a:pt x="761" y="50"/>
                  </a:lnTo>
                  <a:lnTo>
                    <a:pt x="761" y="50"/>
                  </a:lnTo>
                  <a:lnTo>
                    <a:pt x="751" y="50"/>
                  </a:lnTo>
                  <a:lnTo>
                    <a:pt x="741" y="40"/>
                  </a:lnTo>
                  <a:lnTo>
                    <a:pt x="731" y="30"/>
                  </a:lnTo>
                  <a:lnTo>
                    <a:pt x="711" y="30"/>
                  </a:lnTo>
                  <a:lnTo>
                    <a:pt x="690" y="30"/>
                  </a:lnTo>
                  <a:lnTo>
                    <a:pt x="680" y="20"/>
                  </a:lnTo>
                  <a:lnTo>
                    <a:pt x="660" y="20"/>
                  </a:lnTo>
                  <a:lnTo>
                    <a:pt x="640" y="20"/>
                  </a:lnTo>
                  <a:lnTo>
                    <a:pt x="609" y="20"/>
                  </a:lnTo>
                  <a:lnTo>
                    <a:pt x="589" y="30"/>
                  </a:lnTo>
                  <a:lnTo>
                    <a:pt x="568" y="30"/>
                  </a:lnTo>
                  <a:lnTo>
                    <a:pt x="548" y="40"/>
                  </a:lnTo>
                  <a:lnTo>
                    <a:pt x="518" y="50"/>
                  </a:lnTo>
                  <a:lnTo>
                    <a:pt x="508" y="60"/>
                  </a:lnTo>
                  <a:lnTo>
                    <a:pt x="487" y="70"/>
                  </a:lnTo>
                  <a:lnTo>
                    <a:pt x="477" y="80"/>
                  </a:lnTo>
                  <a:lnTo>
                    <a:pt x="477" y="80"/>
                  </a:lnTo>
                  <a:lnTo>
                    <a:pt x="447" y="70"/>
                  </a:lnTo>
                  <a:lnTo>
                    <a:pt x="416" y="70"/>
                  </a:lnTo>
                  <a:lnTo>
                    <a:pt x="396" y="60"/>
                  </a:lnTo>
                  <a:lnTo>
                    <a:pt x="355" y="60"/>
                  </a:lnTo>
                  <a:lnTo>
                    <a:pt x="335" y="60"/>
                  </a:lnTo>
                  <a:lnTo>
                    <a:pt x="315" y="60"/>
                  </a:lnTo>
                  <a:lnTo>
                    <a:pt x="294" y="70"/>
                  </a:lnTo>
                  <a:lnTo>
                    <a:pt x="264" y="70"/>
                  </a:lnTo>
                  <a:lnTo>
                    <a:pt x="254" y="80"/>
                  </a:lnTo>
                  <a:lnTo>
                    <a:pt x="223" y="90"/>
                  </a:lnTo>
                  <a:lnTo>
                    <a:pt x="213" y="100"/>
                  </a:lnTo>
                  <a:lnTo>
                    <a:pt x="193" y="110"/>
                  </a:lnTo>
                  <a:lnTo>
                    <a:pt x="183" y="120"/>
                  </a:lnTo>
                  <a:lnTo>
                    <a:pt x="163" y="130"/>
                  </a:lnTo>
                  <a:lnTo>
                    <a:pt x="152" y="140"/>
                  </a:lnTo>
                  <a:lnTo>
                    <a:pt x="142" y="150"/>
                  </a:lnTo>
                  <a:lnTo>
                    <a:pt x="142" y="170"/>
                  </a:lnTo>
                  <a:lnTo>
                    <a:pt x="132" y="190"/>
                  </a:lnTo>
                  <a:lnTo>
                    <a:pt x="122" y="200"/>
                  </a:lnTo>
                  <a:lnTo>
                    <a:pt x="122" y="210"/>
                  </a:lnTo>
                  <a:lnTo>
                    <a:pt x="122" y="220"/>
                  </a:lnTo>
                  <a:lnTo>
                    <a:pt x="132" y="230"/>
                  </a:lnTo>
                  <a:lnTo>
                    <a:pt x="132" y="23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8000" y="5589720"/>
              <a:ext cx="806400" cy="580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ual-St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00360" y="1982880"/>
              <a:ext cx="1476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utigerNext LT Regular"/>
                </a:rPr>
                <a:t>DS-L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87280" y="6289560"/>
              <a:ext cx="74170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e use case: draft-boucadair-softwire-dslite-v6only-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101080" y="630864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echanisms for separate routing tabl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8920" y="1269720"/>
            <a:ext cx="8929800" cy="4822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instance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FrutigerNext LT Regular"/>
                <a:hlinkClick r:id="rId1"/>
              </a:rPr>
              <a:t>RFC5838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nstantiate a separate instance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SPFv3 multi-topology mechanism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tools.ietf.org/html/draft-ietf-ospf-mt-ospfv3-03.tx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gure interfaces for IPv4-embedded unicast IPv6 rou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1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17884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Advertising IPv4-Embedded IPv6 Route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-embedded IPv6 addresses would be advertised by AFXLBR into IPv6 network as AS External LSA per OSPFv3(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RFC53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ingle OSPFv3 AS External LSA carries one IPv4-embedded IPv6 address or prefix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etric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default, it is type-1 metric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also be set to type-2 metric (by provisioning at AFXLBR)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orwarding address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AFXLBR performs IPv4 routes look-up</a:t>
            </a:r>
            <a:endParaRPr b="0" lang="en-US" sz="2000" spc="-1" strike="noStrike">
              <a:solidFill>
                <a:srgbClr val="000000"/>
              </a:solidFill>
              <a:latin typeface="FrutigerNext LT Light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4" name=""/>
          <p:cNvSpPr/>
          <p:nvPr/>
        </p:nvSpPr>
        <p:spPr>
          <a:xfrm>
            <a:off x="8101080" y="630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Dean Cheng</dc:creator>
  <dc:description/>
  <dc:language>en-US</dc:language>
  <cp:lastModifiedBy>Dean Cheng</cp:lastModifiedBy>
  <dcterms:modified xsi:type="dcterms:W3CDTF">2011-07-21T17:49:08Z</dcterms:modified>
  <cp:revision>847</cp:revision>
  <dc:subject>MT-MI OSPFv3 for IPv4-Embedded IPv6</dc:subject>
  <dc:title>MT-MI OSPFv3 for IPv4-Embedded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sflag">
    <vt:lpwstr>1311262418</vt:lpwstr>
  </property>
</Properties>
</file>