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E85-4D76-438B-9B5A-F717DB8C8D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F84-725A-49FA-ADD6-16895B0825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3F1E-13E7-441E-9A57-091E0228F8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91B-1509-46FB-BE66-827B074042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7708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9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1960" y="1341000"/>
            <a:ext cx="7929720" cy="48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838" TargetMode="External"/><Relationship Id="rId2" Type="http://schemas.openxmlformats.org/officeDocument/2006/relationships/hyperlink" Target="http://tools.ietf.org/html/draft-ietf-ospf-mt-ospfv3-03.tx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34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51960" y="4005360"/>
            <a:ext cx="7929720" cy="183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an Cheng (dean.cheng@huawei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hamed Boucadair (mohamed.boucadair@orange-ftgroup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IETF Quebec Cit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670040"/>
            <a:ext cx="79293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outing IPv4-Embedded IPv6 Pack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raft-ietf-ospf-ipv4-embedded-ipv6-routing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Forwarding IPv4-Embedded IPv6 Packe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AFXLB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header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 614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IP/ICMP Translation Algorithm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6052</a:t>
            </a: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v6 prefix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ll known IPv6 prefix 64::FF9B::/96, or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P-specific IPv6 prefix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other IPv6 router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iving packets with IPv4-embedded IPv6 addresses are forwarded along on           IPv4-embedded IPv6 topology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U handl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Recommendation – AFXLTR to run PMTU (RFC1981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Next Step …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821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s would like to solicit comments with discussion on mailing list at this time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update the draft accordingly late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tatus Updat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ft-cheng-ospf-ipv4-embedded-ipv6-routing-01 was presented in Beijing meeting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posed as an informational RFC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suggestion from Acee was  incorporated into 02 text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 were solicited from BEHAVE/SOFTWIRE WG chairs and Joel Halpern with some discussions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no opposition to the draft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me clarifications were made during discussion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3 text was published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opted as OSPF WG document shortly after Prague meeting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some support on the mailing list during the WG poll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ft-ietf-ospf-ipv4-embedded-ipv6-routing-00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e-mail exchange (Nagendra Kumar) on the mailing list recently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me Terminologi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2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otes an IPv6 address which contains an embedded 32-bit IPv4 address constructed according to the rules defined in: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FC605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packet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packets with destination addresses as IPv4-embedded IPv6 addresse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XLB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Family Translation Border Router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s to a border router which is located at the boundary of an IPv6-only network and an IPv4-only network, supports both IPv4 and IPv6 address family, and performs IPv4-IPv6 header translation per RFC6145 (IP/ICMP Translation Algorith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he Proble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8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2800" y="5003640"/>
            <a:ext cx="1625400" cy="990360"/>
            <a:chOff x="3052800" y="5003640"/>
            <a:chExt cx="1625400" cy="990360"/>
          </a:xfrm>
        </p:grpSpPr>
        <p:sp>
          <p:nvSpPr>
            <p:cNvPr id="170" name=""/>
            <p:cNvSpPr/>
            <p:nvPr/>
          </p:nvSpPr>
          <p:spPr>
            <a:xfrm>
              <a:off x="3052800" y="500364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5200" y="5308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8360" y="1955880"/>
            <a:ext cx="1625400" cy="990360"/>
            <a:chOff x="468360" y="1955880"/>
            <a:chExt cx="1625400" cy="990360"/>
          </a:xfrm>
        </p:grpSpPr>
        <p:sp>
          <p:nvSpPr>
            <p:cNvPr id="173" name=""/>
            <p:cNvSpPr/>
            <p:nvPr/>
          </p:nvSpPr>
          <p:spPr>
            <a:xfrm>
              <a:off x="468360" y="19558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0760" y="2260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706400" y="2260440"/>
            <a:ext cx="4038840" cy="25909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9440" y="3141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06800" y="417348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46227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16640" y="1727280"/>
            <a:ext cx="1625400" cy="990360"/>
            <a:chOff x="5516640" y="1727280"/>
            <a:chExt cx="1625400" cy="990360"/>
          </a:xfrm>
        </p:grpSpPr>
        <p:sp>
          <p:nvSpPr>
            <p:cNvPr id="180" name=""/>
            <p:cNvSpPr/>
            <p:nvPr/>
          </p:nvSpPr>
          <p:spPr>
            <a:xfrm>
              <a:off x="5516640" y="17272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2031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72200" y="2413080"/>
            <a:ext cx="472680" cy="301320"/>
            <a:chOff x="5272200" y="2413080"/>
            <a:chExt cx="472680" cy="301320"/>
          </a:xfrm>
        </p:grpSpPr>
        <p:sp>
          <p:nvSpPr>
            <p:cNvPr id="183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82720" y="2565360"/>
            <a:ext cx="472680" cy="301320"/>
            <a:chOff x="1782720" y="2565360"/>
            <a:chExt cx="472680" cy="301320"/>
          </a:xfrm>
        </p:grpSpPr>
        <p:sp>
          <p:nvSpPr>
            <p:cNvPr id="198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11520" y="4775040"/>
            <a:ext cx="472680" cy="301320"/>
            <a:chOff x="3611520" y="4775040"/>
            <a:chExt cx="472680" cy="301320"/>
          </a:xfrm>
        </p:grpSpPr>
        <p:sp>
          <p:nvSpPr>
            <p:cNvPr id="213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52800" y="1125360"/>
            <a:ext cx="1396800" cy="1058760"/>
            <a:chOff x="3052800" y="1125360"/>
            <a:chExt cx="1396800" cy="1058760"/>
          </a:xfrm>
        </p:grpSpPr>
        <p:sp>
          <p:nvSpPr>
            <p:cNvPr id="228" name=""/>
            <p:cNvSpPr/>
            <p:nvPr/>
          </p:nvSpPr>
          <p:spPr>
            <a:xfrm>
              <a:off x="3052800" y="112536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8880" y="15746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90480" y="439416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6920" y="4843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690560" y="4226040"/>
            <a:ext cx="472680" cy="301320"/>
            <a:chOff x="1690560" y="4226040"/>
            <a:chExt cx="472680" cy="301320"/>
          </a:xfrm>
        </p:grpSpPr>
        <p:sp>
          <p:nvSpPr>
            <p:cNvPr id="233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15000" y="4245120"/>
            <a:ext cx="472680" cy="300960"/>
            <a:chOff x="4815000" y="4245120"/>
            <a:chExt cx="472680" cy="300960"/>
          </a:xfrm>
        </p:grpSpPr>
        <p:sp>
          <p:nvSpPr>
            <p:cNvPr id="248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11520" y="2108160"/>
            <a:ext cx="472680" cy="301320"/>
            <a:chOff x="3611520" y="2108160"/>
            <a:chExt cx="472680" cy="301320"/>
          </a:xfrm>
        </p:grpSpPr>
        <p:sp>
          <p:nvSpPr>
            <p:cNvPr id="263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13080" y="3749760"/>
            <a:ext cx="431280" cy="288720"/>
            <a:chOff x="2413080" y="3749760"/>
            <a:chExt cx="431280" cy="288720"/>
          </a:xfrm>
        </p:grpSpPr>
        <p:sp>
          <p:nvSpPr>
            <p:cNvPr id="278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132000" y="2743200"/>
            <a:ext cx="431640" cy="289080"/>
            <a:chOff x="3132000" y="2743200"/>
            <a:chExt cx="431640" cy="289080"/>
          </a:xfrm>
        </p:grpSpPr>
        <p:sp>
          <p:nvSpPr>
            <p:cNvPr id="293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41800" y="2743200"/>
            <a:ext cx="431280" cy="289080"/>
            <a:chOff x="4141800" y="2743200"/>
            <a:chExt cx="431280" cy="289080"/>
          </a:xfrm>
        </p:grpSpPr>
        <p:sp>
          <p:nvSpPr>
            <p:cNvPr id="308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73440" y="3679920"/>
            <a:ext cx="431640" cy="288720"/>
            <a:chOff x="4573440" y="3679920"/>
            <a:chExt cx="431640" cy="288720"/>
          </a:xfrm>
        </p:grpSpPr>
        <p:sp>
          <p:nvSpPr>
            <p:cNvPr id="323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997440" y="3895560"/>
            <a:ext cx="431280" cy="289080"/>
            <a:chOff x="3997440" y="3895560"/>
            <a:chExt cx="431280" cy="289080"/>
          </a:xfrm>
        </p:grpSpPr>
        <p:sp>
          <p:nvSpPr>
            <p:cNvPr id="338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8000" y="3462480"/>
            <a:ext cx="431640" cy="288720"/>
            <a:chOff x="3348000" y="3462480"/>
            <a:chExt cx="431640" cy="288720"/>
          </a:xfrm>
        </p:grpSpPr>
        <p:sp>
          <p:nvSpPr>
            <p:cNvPr id="353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05080" y="4398840"/>
            <a:ext cx="472680" cy="301320"/>
            <a:chOff x="3205080" y="4398840"/>
            <a:chExt cx="472680" cy="301320"/>
          </a:xfrm>
        </p:grpSpPr>
        <p:sp>
          <p:nvSpPr>
            <p:cNvPr id="368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81080" y="3319560"/>
            <a:ext cx="472680" cy="301320"/>
            <a:chOff x="1981080" y="3319560"/>
            <a:chExt cx="472680" cy="301320"/>
          </a:xfrm>
        </p:grpSpPr>
        <p:sp>
          <p:nvSpPr>
            <p:cNvPr id="383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443320" y="2814480"/>
            <a:ext cx="472680" cy="301320"/>
            <a:chOff x="2443320" y="2814480"/>
            <a:chExt cx="472680" cy="301320"/>
          </a:xfrm>
        </p:grpSpPr>
        <p:sp>
          <p:nvSpPr>
            <p:cNvPr id="398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19680" y="2814480"/>
            <a:ext cx="472680" cy="301320"/>
            <a:chOff x="4819680" y="2814480"/>
            <a:chExt cx="472680" cy="301320"/>
          </a:xfrm>
        </p:grpSpPr>
        <p:sp>
          <p:nvSpPr>
            <p:cNvPr id="413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180040" y="3378240"/>
            <a:ext cx="472680" cy="301320"/>
            <a:chOff x="5180040" y="3378240"/>
            <a:chExt cx="472680" cy="301320"/>
          </a:xfrm>
        </p:grpSpPr>
        <p:sp>
          <p:nvSpPr>
            <p:cNvPr id="428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45080" y="522936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05440" y="40766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20019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70160" y="4091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284800">
            <a:off x="826920" y="2349360"/>
            <a:ext cx="3024360" cy="1681200"/>
          </a:xfrm>
          <a:custGeom>
            <a:avLst/>
            <a:gdLst/>
            <a:ahLst/>
            <a:rect l="l" t="t" r="r" b="b"/>
            <a:pathLst>
              <a:path w="1905" h="1059">
                <a:moveTo>
                  <a:pt x="0" y="1059"/>
                </a:moveTo>
                <a:cubicBezTo>
                  <a:pt x="226" y="680"/>
                  <a:pt x="453" y="302"/>
                  <a:pt x="771" y="151"/>
                </a:cubicBezTo>
                <a:cubicBezTo>
                  <a:pt x="1089" y="0"/>
                  <a:pt x="1716" y="151"/>
                  <a:pt x="1905" y="151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3820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5339600">
            <a:off x="3738240" y="2317320"/>
            <a:ext cx="3024360" cy="1357200"/>
          </a:xfrm>
          <a:custGeom>
            <a:avLst/>
            <a:gdLst/>
            <a:ahLst/>
            <a:rect l="l" t="t" r="r" b="b"/>
            <a:pathLst>
              <a:path w="1905" h="855">
                <a:moveTo>
                  <a:pt x="0" y="499"/>
                </a:moveTo>
                <a:cubicBezTo>
                  <a:pt x="249" y="677"/>
                  <a:pt x="499" y="855"/>
                  <a:pt x="816" y="772"/>
                </a:cubicBezTo>
                <a:cubicBezTo>
                  <a:pt x="1133" y="689"/>
                  <a:pt x="1519" y="344"/>
                  <a:pt x="1905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57840" y="3068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35280" y="4292640"/>
            <a:ext cx="3673440" cy="504720"/>
          </a:xfrm>
          <a:custGeom>
            <a:avLst/>
            <a:gdLst/>
            <a:ahLst/>
            <a:rect l="l" t="t" r="r" b="b"/>
            <a:pathLst>
              <a:path w="2314" h="318">
                <a:moveTo>
                  <a:pt x="91" y="318"/>
                </a:moveTo>
                <a:cubicBezTo>
                  <a:pt x="45" y="276"/>
                  <a:pt x="0" y="235"/>
                  <a:pt x="227" y="182"/>
                </a:cubicBezTo>
                <a:cubicBezTo>
                  <a:pt x="454" y="129"/>
                  <a:pt x="1104" y="0"/>
                  <a:pt x="1452" y="0"/>
                </a:cubicBezTo>
                <a:cubicBezTo>
                  <a:pt x="1800" y="0"/>
                  <a:pt x="2057" y="91"/>
                  <a:pt x="2314" y="18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98920" y="4062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ftwire Mesh (RFC5565)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4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8360" y="1125360"/>
            <a:ext cx="7056360" cy="4868640"/>
            <a:chOff x="468360" y="1125360"/>
            <a:chExt cx="7056360" cy="4868640"/>
          </a:xfrm>
        </p:grpSpPr>
        <p:grpSp>
          <p:nvGrpSpPr>
            <p:cNvPr id="456" name=""/>
            <p:cNvGrpSpPr/>
            <p:nvPr/>
          </p:nvGrpSpPr>
          <p:grpSpPr>
            <a:xfrm>
              <a:off x="3052800" y="5003640"/>
              <a:ext cx="1625400" cy="990360"/>
              <a:chOff x="3052800" y="5003640"/>
              <a:chExt cx="1625400" cy="990360"/>
            </a:xfrm>
          </p:grpSpPr>
          <p:sp>
            <p:nvSpPr>
              <p:cNvPr id="457" name=""/>
              <p:cNvSpPr/>
              <p:nvPr/>
            </p:nvSpPr>
            <p:spPr>
              <a:xfrm>
                <a:off x="3052800" y="500364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35200" y="5308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68360" y="1955880"/>
              <a:ext cx="1625400" cy="990360"/>
              <a:chOff x="468360" y="1955880"/>
              <a:chExt cx="162540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468360" y="19558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50760" y="2260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706400" y="2260440"/>
              <a:ext cx="4038840" cy="259092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89080" y="314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 back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06800" y="417348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4622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516640" y="1727280"/>
              <a:ext cx="1625400" cy="990360"/>
              <a:chOff x="5516640" y="1727280"/>
              <a:chExt cx="1625400" cy="990360"/>
            </a:xfrm>
          </p:grpSpPr>
          <p:sp>
            <p:nvSpPr>
              <p:cNvPr id="467" name=""/>
              <p:cNvSpPr/>
              <p:nvPr/>
            </p:nvSpPr>
            <p:spPr>
              <a:xfrm>
                <a:off x="5516640" y="17272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99040" y="20318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272200" y="2413080"/>
              <a:ext cx="472680" cy="300960"/>
              <a:chOff x="5272200" y="2413080"/>
              <a:chExt cx="472680" cy="300960"/>
            </a:xfrm>
          </p:grpSpPr>
          <p:sp>
            <p:nvSpPr>
              <p:cNvPr id="470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782720" y="2565360"/>
              <a:ext cx="472680" cy="301320"/>
              <a:chOff x="1782720" y="2565360"/>
              <a:chExt cx="472680" cy="301320"/>
            </a:xfrm>
          </p:grpSpPr>
          <p:sp>
            <p:nvSpPr>
              <p:cNvPr id="485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11520" y="4775040"/>
              <a:ext cx="472680" cy="301320"/>
              <a:chOff x="3611520" y="4775040"/>
              <a:chExt cx="472680" cy="301320"/>
            </a:xfrm>
          </p:grpSpPr>
          <p:sp>
            <p:nvSpPr>
              <p:cNvPr id="500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52800" y="1125360"/>
              <a:ext cx="1396800" cy="1058760"/>
              <a:chOff x="3052800" y="1125360"/>
              <a:chExt cx="1396800" cy="1058760"/>
            </a:xfrm>
          </p:grpSpPr>
          <p:sp>
            <p:nvSpPr>
              <p:cNvPr id="515" name=""/>
              <p:cNvSpPr/>
              <p:nvPr/>
            </p:nvSpPr>
            <p:spPr>
              <a:xfrm>
                <a:off x="3052800" y="1125360"/>
                <a:ext cx="139680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58880" y="157464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90480" y="4394160"/>
              <a:ext cx="1397160" cy="1058760"/>
              <a:chOff x="690480" y="4394160"/>
              <a:chExt cx="1397160" cy="1058760"/>
            </a:xfrm>
          </p:grpSpPr>
          <p:sp>
            <p:nvSpPr>
              <p:cNvPr id="518" name=""/>
              <p:cNvSpPr/>
              <p:nvPr/>
            </p:nvSpPr>
            <p:spPr>
              <a:xfrm>
                <a:off x="690480" y="4394160"/>
                <a:ext cx="139716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96920" y="4843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690560" y="4225680"/>
              <a:ext cx="472680" cy="301320"/>
              <a:chOff x="1690560" y="4225680"/>
              <a:chExt cx="472680" cy="301320"/>
            </a:xfrm>
          </p:grpSpPr>
          <p:sp>
            <p:nvSpPr>
              <p:cNvPr id="521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815000" y="4244760"/>
              <a:ext cx="472680" cy="301320"/>
              <a:chOff x="4815000" y="4244760"/>
              <a:chExt cx="472680" cy="301320"/>
            </a:xfrm>
          </p:grpSpPr>
          <p:sp>
            <p:nvSpPr>
              <p:cNvPr id="536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611520" y="2108160"/>
              <a:ext cx="472680" cy="301320"/>
              <a:chOff x="3611520" y="2108160"/>
              <a:chExt cx="472680" cy="301320"/>
            </a:xfrm>
          </p:grpSpPr>
          <p:sp>
            <p:nvSpPr>
              <p:cNvPr id="551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413080" y="3749400"/>
              <a:ext cx="431280" cy="289080"/>
              <a:chOff x="2413080" y="3749400"/>
              <a:chExt cx="431280" cy="289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32000" y="2743200"/>
              <a:ext cx="431640" cy="288720"/>
              <a:chOff x="3132000" y="2743200"/>
              <a:chExt cx="431640" cy="288720"/>
            </a:xfrm>
          </p:grpSpPr>
          <p:sp>
            <p:nvSpPr>
              <p:cNvPr id="581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141800" y="2743200"/>
              <a:ext cx="431280" cy="288720"/>
              <a:chOff x="4141800" y="2743200"/>
              <a:chExt cx="431280" cy="288720"/>
            </a:xfrm>
          </p:grpSpPr>
          <p:sp>
            <p:nvSpPr>
              <p:cNvPr id="596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573440" y="3679560"/>
              <a:ext cx="431640" cy="289080"/>
              <a:chOff x="4573440" y="3679560"/>
              <a:chExt cx="431640" cy="289080"/>
            </a:xfrm>
          </p:grpSpPr>
          <p:sp>
            <p:nvSpPr>
              <p:cNvPr id="611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997440" y="3895560"/>
              <a:ext cx="431280" cy="289080"/>
              <a:chOff x="3997440" y="3895560"/>
              <a:chExt cx="431280" cy="289080"/>
            </a:xfrm>
          </p:grpSpPr>
          <p:sp>
            <p:nvSpPr>
              <p:cNvPr id="626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348000" y="3462120"/>
              <a:ext cx="431280" cy="289080"/>
              <a:chOff x="3348000" y="3462120"/>
              <a:chExt cx="431280" cy="289080"/>
            </a:xfrm>
          </p:grpSpPr>
          <p:sp>
            <p:nvSpPr>
              <p:cNvPr id="641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205080" y="4398840"/>
              <a:ext cx="472680" cy="301320"/>
              <a:chOff x="3205080" y="4398840"/>
              <a:chExt cx="472680" cy="301320"/>
            </a:xfrm>
          </p:grpSpPr>
          <p:sp>
            <p:nvSpPr>
              <p:cNvPr id="656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981080" y="3319200"/>
              <a:ext cx="472680" cy="301320"/>
              <a:chOff x="1981080" y="3319200"/>
              <a:chExt cx="472680" cy="301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42960" y="2814480"/>
              <a:ext cx="473040" cy="301320"/>
              <a:chOff x="2442960" y="2814480"/>
              <a:chExt cx="473040" cy="3013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819680" y="2814480"/>
              <a:ext cx="472680" cy="301320"/>
              <a:chOff x="4819680" y="2814480"/>
              <a:chExt cx="472680" cy="301320"/>
            </a:xfrm>
          </p:grpSpPr>
          <p:sp>
            <p:nvSpPr>
              <p:cNvPr id="701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5180040" y="3378240"/>
              <a:ext cx="472680" cy="300960"/>
              <a:chOff x="5180040" y="3378240"/>
              <a:chExt cx="472680" cy="300960"/>
            </a:xfrm>
          </p:grpSpPr>
          <p:sp>
            <p:nvSpPr>
              <p:cNvPr id="716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445080" y="5229000"/>
              <a:ext cx="10796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utigerNext LT Regular"/>
                </a:rPr>
                <a:t>AS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05440" y="40766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4360" y="2001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69800" y="4091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981080" y="2349360"/>
            <a:ext cx="7270920" cy="4259520"/>
            <a:chOff x="1981080" y="2349360"/>
            <a:chExt cx="7270920" cy="4259520"/>
          </a:xfrm>
        </p:grpSpPr>
        <p:sp>
          <p:nvSpPr>
            <p:cNvPr id="735" name=""/>
            <p:cNvSpPr/>
            <p:nvPr/>
          </p:nvSpPr>
          <p:spPr>
            <a:xfrm>
              <a:off x="4714920" y="5667480"/>
              <a:ext cx="45370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AFBRs exchange IPv4 reachability using BGP-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Tunnels established between AFBRs full-me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IPv4 packets transported in tunnel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981080" y="2349360"/>
              <a:ext cx="3024360" cy="2016360"/>
              <a:chOff x="1981080" y="2349360"/>
              <a:chExt cx="3024360" cy="201636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1981080" y="2349360"/>
                <a:ext cx="1727280" cy="19432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924360" y="2349360"/>
                <a:ext cx="1081080" cy="201636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052720" y="4365720"/>
                <a:ext cx="280836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SPFv3 MT/MI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"/>
          <p:cNvSpPr/>
          <p:nvPr/>
        </p:nvSpPr>
        <p:spPr>
          <a:xfrm>
            <a:off x="7908120" y="4292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411360" y="4930920"/>
            <a:ext cx="1625400" cy="990360"/>
            <a:chOff x="3411360" y="4930920"/>
            <a:chExt cx="1625400" cy="990360"/>
          </a:xfrm>
        </p:grpSpPr>
        <p:sp>
          <p:nvSpPr>
            <p:cNvPr id="744" name=""/>
            <p:cNvSpPr/>
            <p:nvPr/>
          </p:nvSpPr>
          <p:spPr>
            <a:xfrm>
              <a:off x="3411360" y="493092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93760" y="523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826920" y="1882800"/>
            <a:ext cx="1625400" cy="990360"/>
            <a:chOff x="826920" y="1882800"/>
            <a:chExt cx="1625400" cy="990360"/>
          </a:xfrm>
        </p:grpSpPr>
        <p:sp>
          <p:nvSpPr>
            <p:cNvPr id="747" name=""/>
            <p:cNvSpPr/>
            <p:nvPr/>
          </p:nvSpPr>
          <p:spPr>
            <a:xfrm>
              <a:off x="826920" y="18828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09320" y="2187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065320" y="2187720"/>
            <a:ext cx="4038480" cy="25905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48000" y="3068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65720" y="4100400"/>
            <a:ext cx="1397160" cy="10591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72160" y="454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875200" y="1654200"/>
            <a:ext cx="1625400" cy="990360"/>
            <a:chOff x="5875200" y="1654200"/>
            <a:chExt cx="1625400" cy="990360"/>
          </a:xfrm>
        </p:grpSpPr>
        <p:sp>
          <p:nvSpPr>
            <p:cNvPr id="754" name=""/>
            <p:cNvSpPr/>
            <p:nvPr/>
          </p:nvSpPr>
          <p:spPr>
            <a:xfrm>
              <a:off x="5875200" y="16542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7600" y="1958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630760" y="2340000"/>
            <a:ext cx="472680" cy="301320"/>
            <a:chOff x="5630760" y="2340000"/>
            <a:chExt cx="472680" cy="301320"/>
          </a:xfrm>
        </p:grpSpPr>
        <p:sp>
          <p:nvSpPr>
            <p:cNvPr id="757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141640" y="2492280"/>
            <a:ext cx="472680" cy="301320"/>
            <a:chOff x="2141640" y="2492280"/>
            <a:chExt cx="472680" cy="301320"/>
          </a:xfrm>
        </p:grpSpPr>
        <p:sp>
          <p:nvSpPr>
            <p:cNvPr id="772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970440" y="4702320"/>
            <a:ext cx="472680" cy="300960"/>
            <a:chOff x="3970440" y="4702320"/>
            <a:chExt cx="472680" cy="300960"/>
          </a:xfrm>
        </p:grpSpPr>
        <p:sp>
          <p:nvSpPr>
            <p:cNvPr id="787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411360" y="1052640"/>
            <a:ext cx="1397160" cy="1058760"/>
            <a:chOff x="3411360" y="1052640"/>
            <a:chExt cx="1397160" cy="1058760"/>
          </a:xfrm>
        </p:grpSpPr>
        <p:sp>
          <p:nvSpPr>
            <p:cNvPr id="802" name=""/>
            <p:cNvSpPr/>
            <p:nvPr/>
          </p:nvSpPr>
          <p:spPr>
            <a:xfrm>
              <a:off x="3411360" y="105264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7800" y="1501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049400" y="4321080"/>
            <a:ext cx="1396800" cy="1058760"/>
            <a:chOff x="1049400" y="4321080"/>
            <a:chExt cx="1396800" cy="1058760"/>
          </a:xfrm>
        </p:grpSpPr>
        <p:sp>
          <p:nvSpPr>
            <p:cNvPr id="805" name=""/>
            <p:cNvSpPr/>
            <p:nvPr/>
          </p:nvSpPr>
          <p:spPr>
            <a:xfrm>
              <a:off x="1049400" y="432108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55480" y="477036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049480" y="4152960"/>
            <a:ext cx="472680" cy="301320"/>
            <a:chOff x="2049480" y="4152960"/>
            <a:chExt cx="472680" cy="301320"/>
          </a:xfrm>
        </p:grpSpPr>
        <p:sp>
          <p:nvSpPr>
            <p:cNvPr id="808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173560" y="4172040"/>
            <a:ext cx="472680" cy="301320"/>
            <a:chOff x="5173560" y="4172040"/>
            <a:chExt cx="472680" cy="301320"/>
          </a:xfrm>
        </p:grpSpPr>
        <p:sp>
          <p:nvSpPr>
            <p:cNvPr id="823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970440" y="2035080"/>
            <a:ext cx="472680" cy="301320"/>
            <a:chOff x="3970440" y="2035080"/>
            <a:chExt cx="472680" cy="301320"/>
          </a:xfrm>
        </p:grpSpPr>
        <p:sp>
          <p:nvSpPr>
            <p:cNvPr id="838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676680"/>
            <a:ext cx="431640" cy="288720"/>
            <a:chOff x="2771640" y="3676680"/>
            <a:chExt cx="431640" cy="288720"/>
          </a:xfrm>
        </p:grpSpPr>
        <p:sp>
          <p:nvSpPr>
            <p:cNvPr id="853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490920" y="2670120"/>
            <a:ext cx="431280" cy="289080"/>
            <a:chOff x="3490920" y="2670120"/>
            <a:chExt cx="431280" cy="289080"/>
          </a:xfrm>
        </p:grpSpPr>
        <p:sp>
          <p:nvSpPr>
            <p:cNvPr id="868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00720" y="2670120"/>
            <a:ext cx="431280" cy="289080"/>
            <a:chOff x="4500720" y="2670120"/>
            <a:chExt cx="431280" cy="289080"/>
          </a:xfrm>
        </p:grpSpPr>
        <p:sp>
          <p:nvSpPr>
            <p:cNvPr id="883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932360" y="3606840"/>
            <a:ext cx="431280" cy="288720"/>
            <a:chOff x="4932360" y="3606840"/>
            <a:chExt cx="431280" cy="288720"/>
          </a:xfrm>
        </p:grpSpPr>
        <p:sp>
          <p:nvSpPr>
            <p:cNvPr id="898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356000" y="3822840"/>
            <a:ext cx="431640" cy="288720"/>
            <a:chOff x="4356000" y="3822840"/>
            <a:chExt cx="431640" cy="288720"/>
          </a:xfrm>
        </p:grpSpPr>
        <p:sp>
          <p:nvSpPr>
            <p:cNvPr id="913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706920" y="3389400"/>
            <a:ext cx="431280" cy="288720"/>
            <a:chOff x="3706920" y="3389400"/>
            <a:chExt cx="431280" cy="288720"/>
          </a:xfrm>
        </p:grpSpPr>
        <p:sp>
          <p:nvSpPr>
            <p:cNvPr id="928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64000" y="4325760"/>
            <a:ext cx="472680" cy="301320"/>
            <a:chOff x="3564000" y="4325760"/>
            <a:chExt cx="472680" cy="301320"/>
          </a:xfrm>
        </p:grpSpPr>
        <p:sp>
          <p:nvSpPr>
            <p:cNvPr id="943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340000" y="3246480"/>
            <a:ext cx="472680" cy="301320"/>
            <a:chOff x="2340000" y="3246480"/>
            <a:chExt cx="472680" cy="301320"/>
          </a:xfrm>
        </p:grpSpPr>
        <p:sp>
          <p:nvSpPr>
            <p:cNvPr id="958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801880" y="2741760"/>
            <a:ext cx="472680" cy="300960"/>
            <a:chOff x="2801880" y="2741760"/>
            <a:chExt cx="472680" cy="300960"/>
          </a:xfrm>
        </p:grpSpPr>
        <p:sp>
          <p:nvSpPr>
            <p:cNvPr id="973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178600" y="2741760"/>
            <a:ext cx="472680" cy="300960"/>
            <a:chOff x="5178600" y="2741760"/>
            <a:chExt cx="472680" cy="300960"/>
          </a:xfrm>
        </p:grpSpPr>
        <p:sp>
          <p:nvSpPr>
            <p:cNvPr id="988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538960" y="3305160"/>
            <a:ext cx="472680" cy="301320"/>
            <a:chOff x="5538960" y="3305160"/>
            <a:chExt cx="472680" cy="301320"/>
          </a:xfrm>
        </p:grpSpPr>
        <p:sp>
          <p:nvSpPr>
            <p:cNvPr id="1003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804000" y="515628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64000" y="400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282920" y="192888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28720" y="401796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482920" y="2276640"/>
            <a:ext cx="2880720" cy="2087280"/>
            <a:chOff x="2482920" y="2276640"/>
            <a:chExt cx="2880720" cy="2087280"/>
          </a:xfrm>
        </p:grpSpPr>
        <p:sp>
          <p:nvSpPr>
            <p:cNvPr id="1022" name=""/>
            <p:cNvSpPr/>
            <p:nvPr/>
          </p:nvSpPr>
          <p:spPr>
            <a:xfrm flipH="1" flipV="1">
              <a:off x="3779640" y="2923920"/>
              <a:ext cx="142560" cy="431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482920" y="2276640"/>
              <a:ext cx="2880720" cy="2087280"/>
              <a:chOff x="2482920" y="2276640"/>
              <a:chExt cx="2880720" cy="208728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3132000" y="3499920"/>
                <a:ext cx="647280" cy="289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66920" y="3573360"/>
                <a:ext cx="431280" cy="287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714560" y="3789000"/>
                <a:ext cx="288720" cy="142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4356000" y="2276640"/>
                <a:ext cx="215280" cy="50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3850560" y="2276640"/>
                <a:ext cx="215640" cy="431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922560" y="2852640"/>
                <a:ext cx="64872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7640" y="2924280"/>
                <a:ext cx="360000" cy="720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2482920" y="3860280"/>
                <a:ext cx="431640" cy="287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5290920" y="3789000"/>
                <a:ext cx="72720" cy="358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714560" y="4076640"/>
                <a:ext cx="504360" cy="216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482920" y="4005360"/>
                <a:ext cx="1873080" cy="358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3078000" y="2867040"/>
                <a:ext cx="431280" cy="792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"/>
          <p:cNvSpPr/>
          <p:nvPr/>
        </p:nvSpPr>
        <p:spPr>
          <a:xfrm>
            <a:off x="4788000" y="5587920"/>
            <a:ext cx="4356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FXLBRs advertise IPv4-embedded IPv6 addresses into the partial IPv6 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 separate routing table for routing IPv4-embedded IPv6 pack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cenarios where OSPFv3 approach useful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02920" y="620280"/>
            <a:ext cx="6913800" cy="1150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nning BGP not feasible sometim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nnel based forwarding not feasi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08000" y="1557360"/>
            <a:ext cx="8496360" cy="5298480"/>
            <a:chOff x="108000" y="1557360"/>
            <a:chExt cx="8496360" cy="5298480"/>
          </a:xfrm>
        </p:grpSpPr>
        <p:sp>
          <p:nvSpPr>
            <p:cNvPr id="1041" name=""/>
            <p:cNvSpPr/>
            <p:nvPr/>
          </p:nvSpPr>
          <p:spPr>
            <a:xfrm>
              <a:off x="5292720" y="4870440"/>
              <a:ext cx="1440000" cy="10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80160" y="52642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24000" y="2351160"/>
              <a:ext cx="4197600" cy="28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45080" y="3430440"/>
              <a:ext cx="1584360" cy="1224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7080" y="3862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857160" y="1701720"/>
              <a:ext cx="763560" cy="522360"/>
              <a:chOff x="857160" y="1701720"/>
              <a:chExt cx="763560" cy="5223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94940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"/>
              <p:cNvSpPr/>
              <p:nvPr/>
            </p:nvSpPr>
            <p:spPr>
              <a:xfrm>
                <a:off x="901800" y="170172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3203640" y="371808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4500720" y="2854440"/>
              <a:ext cx="472680" cy="301320"/>
              <a:chOff x="4500720" y="2854440"/>
              <a:chExt cx="472680" cy="301320"/>
            </a:xfrm>
          </p:grpSpPr>
          <p:sp>
            <p:nvSpPr>
              <p:cNvPr id="1051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6084720" y="1917720"/>
              <a:ext cx="1727280" cy="129528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6720" y="2349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421080" y="2782800"/>
              <a:ext cx="472680" cy="301320"/>
              <a:chOff x="3421080" y="2782800"/>
              <a:chExt cx="472680" cy="301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60720" y="3359160"/>
              <a:ext cx="472680" cy="301320"/>
              <a:chOff x="3060720" y="3359160"/>
              <a:chExt cx="472680" cy="301320"/>
            </a:xfrm>
          </p:grpSpPr>
          <p:sp>
            <p:nvSpPr>
              <p:cNvPr id="1083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027320" y="4581360"/>
              <a:ext cx="473040" cy="301320"/>
              <a:chOff x="4027320" y="4581360"/>
              <a:chExt cx="473040" cy="301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1073160" y="2403360"/>
              <a:ext cx="763560" cy="522360"/>
              <a:chOff x="1073160" y="2403360"/>
              <a:chExt cx="763560" cy="522360"/>
            </a:xfrm>
          </p:grpSpPr>
          <p:pic>
            <p:nvPicPr>
              <p:cNvPr id="1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73160" y="26510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>
                <a:off x="1117800" y="24033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684360" y="2836800"/>
              <a:ext cx="763560" cy="522360"/>
              <a:chOff x="684360" y="2836800"/>
              <a:chExt cx="763560" cy="52236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3084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729000" y="2836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900000" y="3340080"/>
              <a:ext cx="763560" cy="522360"/>
              <a:chOff x="900000" y="3340080"/>
              <a:chExt cx="763560" cy="52236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00" y="358776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"/>
              <p:cNvSpPr/>
              <p:nvPr/>
            </p:nvSpPr>
            <p:spPr>
              <a:xfrm>
                <a:off x="944640" y="334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1649520" y="5284800"/>
              <a:ext cx="763560" cy="522360"/>
              <a:chOff x="1649520" y="5284800"/>
              <a:chExt cx="763560" cy="522360"/>
            </a:xfrm>
          </p:grpSpPr>
          <p:pic>
            <p:nvPicPr>
              <p:cNvPr id="11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520" y="5532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>
                <a:off x="1694160" y="5284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1405080" y="4654440"/>
              <a:ext cx="763560" cy="522360"/>
              <a:chOff x="1405080" y="4654440"/>
              <a:chExt cx="763560" cy="52236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05080" y="490212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1449720" y="4654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1260360" y="4151160"/>
              <a:ext cx="763560" cy="522360"/>
              <a:chOff x="1260360" y="4151160"/>
              <a:chExt cx="763560" cy="52236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360" y="43988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9" name=""/>
              <p:cNvSpPr/>
              <p:nvPr/>
            </p:nvSpPr>
            <p:spPr>
              <a:xfrm>
                <a:off x="1305000" y="4151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5724360" y="2567160"/>
              <a:ext cx="719280" cy="547200"/>
              <a:chOff x="5724360" y="2567160"/>
              <a:chExt cx="719280" cy="5472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5768640" y="2825640"/>
                <a:ext cx="431640" cy="288720"/>
                <a:chOff x="5768640" y="2825640"/>
                <a:chExt cx="431640" cy="288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5724360" y="256716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5221440" y="4510080"/>
              <a:ext cx="718920" cy="547200"/>
              <a:chOff x="5221440" y="4510080"/>
              <a:chExt cx="718920" cy="5472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265360" y="4768560"/>
                <a:ext cx="431280" cy="288720"/>
                <a:chOff x="5265360" y="4768560"/>
                <a:chExt cx="431280" cy="2887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5221440" y="451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1332000" y="2062080"/>
              <a:ext cx="129708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49440" y="2709720"/>
              <a:ext cx="1008000" cy="7308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1189080" y="2854080"/>
              <a:ext cx="1368360" cy="3603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05080" y="3718080"/>
              <a:ext cx="50292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692360" y="3862080"/>
              <a:ext cx="21564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908000" y="4798800"/>
              <a:ext cx="505080" cy="215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052720" y="4941720"/>
              <a:ext cx="360360" cy="6494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2270160" y="4424400"/>
              <a:ext cx="719280" cy="516960"/>
              <a:chOff x="2270160" y="4424400"/>
              <a:chExt cx="719280" cy="51696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2327400" y="4640040"/>
                <a:ext cx="472680" cy="301320"/>
                <a:chOff x="2327400" y="4640040"/>
                <a:chExt cx="472680" cy="3013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2270160" y="442440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1765440" y="3359160"/>
              <a:ext cx="718920" cy="516960"/>
              <a:chOff x="1765440" y="3359160"/>
              <a:chExt cx="718920" cy="51696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1822320" y="3574800"/>
                <a:ext cx="472320" cy="301320"/>
                <a:chOff x="1822320" y="3574800"/>
                <a:chExt cx="472320" cy="30132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1765440" y="3359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3348000" y="4581360"/>
              <a:ext cx="472680" cy="301320"/>
              <a:chOff x="3348000" y="4581360"/>
              <a:chExt cx="472680" cy="301320"/>
            </a:xfrm>
          </p:grpSpPr>
          <p:sp>
            <p:nvSpPr>
              <p:cNvPr id="1206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5180040" y="3286080"/>
              <a:ext cx="472680" cy="301320"/>
              <a:chOff x="5180040" y="3286080"/>
              <a:chExt cx="472680" cy="301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221440" y="2565360"/>
              <a:ext cx="472680" cy="301320"/>
              <a:chOff x="5221440" y="2565360"/>
              <a:chExt cx="472680" cy="301320"/>
            </a:xfrm>
          </p:grpSpPr>
          <p:sp>
            <p:nvSpPr>
              <p:cNvPr id="1236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556000" y="3848040"/>
              <a:ext cx="472680" cy="301320"/>
              <a:chOff x="2556000" y="3848040"/>
              <a:chExt cx="472680" cy="301320"/>
            </a:xfrm>
          </p:grpSpPr>
          <p:sp>
            <p:nvSpPr>
              <p:cNvPr id="1251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486160" y="2422440"/>
              <a:ext cx="718920" cy="516960"/>
              <a:chOff x="2486160" y="2422440"/>
              <a:chExt cx="718920" cy="5169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2543040" y="2638080"/>
                <a:ext cx="472320" cy="301320"/>
                <a:chOff x="2543040" y="2638080"/>
                <a:chExt cx="472320" cy="30132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2486160" y="2422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3924360" y="3430440"/>
              <a:ext cx="472680" cy="301320"/>
              <a:chOff x="3924360" y="3430440"/>
              <a:chExt cx="472680" cy="301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086520" y="3502080"/>
              <a:ext cx="718920" cy="547200"/>
              <a:chOff x="6086520" y="3502080"/>
              <a:chExt cx="718920" cy="54720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6130440" y="3760560"/>
                <a:ext cx="431280" cy="288720"/>
                <a:chOff x="6130440" y="3760560"/>
                <a:chExt cx="431280" cy="288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>
                <a:off x="6086520" y="3502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4500720" y="4151160"/>
              <a:ext cx="472680" cy="301320"/>
              <a:chOff x="4500720" y="4151160"/>
              <a:chExt cx="472680" cy="301320"/>
            </a:xfrm>
          </p:grpSpPr>
          <p:sp>
            <p:nvSpPr>
              <p:cNvPr id="1315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349800" y="3992400"/>
              <a:ext cx="472680" cy="301320"/>
              <a:chOff x="3349800" y="3992400"/>
              <a:chExt cx="472680" cy="301320"/>
            </a:xfrm>
          </p:grpSpPr>
          <p:sp>
            <p:nvSpPr>
              <p:cNvPr id="1330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251320" y="3776760"/>
              <a:ext cx="472680" cy="301320"/>
              <a:chOff x="5251320" y="3776760"/>
              <a:chExt cx="472680" cy="301320"/>
            </a:xfrm>
          </p:grpSpPr>
          <p:sp>
            <p:nvSpPr>
              <p:cNvPr id="1345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2844720" y="5302080"/>
              <a:ext cx="1800360" cy="1008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21080" y="5662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3924360" y="5145120"/>
              <a:ext cx="472680" cy="301320"/>
              <a:chOff x="3924360" y="5145120"/>
              <a:chExt cx="472680" cy="301320"/>
            </a:xfrm>
          </p:grpSpPr>
          <p:sp>
            <p:nvSpPr>
              <p:cNvPr id="1362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3995640" y="1557360"/>
              <a:ext cx="1584360" cy="863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645080" y="2278080"/>
              <a:ext cx="472680" cy="301320"/>
              <a:chOff x="4645080" y="2278080"/>
              <a:chExt cx="472680" cy="301320"/>
            </a:xfrm>
          </p:grpSpPr>
          <p:sp>
            <p:nvSpPr>
              <p:cNvPr id="1378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4341960" y="1846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9280" y="184464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9280" y="263700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5640" y="2060640"/>
              <a:ext cx="14436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55640" y="2781360"/>
              <a:ext cx="431640" cy="712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684360" y="3715920"/>
              <a:ext cx="287280" cy="730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42920" y="4508640"/>
              <a:ext cx="289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258920" y="5084640"/>
              <a:ext cx="28872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547640" y="5660640"/>
              <a:ext cx="216000" cy="144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6360" y="4365720"/>
              <a:ext cx="61092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20720" y="494172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081080" y="573408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0920" y="3573360"/>
              <a:ext cx="61092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8000" y="5589720"/>
              <a:ext cx="806400" cy="580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ual-St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00360" y="1982880"/>
              <a:ext cx="1476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DS-L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87280" y="6289560"/>
              <a:ext cx="74170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Next LT Regular"/>
                </a:rPr>
                <a:t>One use case: draft-boucadair-softwire-dslite-v6only-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101080" y="630864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echanisms for separate routing tabl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78920" y="1269720"/>
            <a:ext cx="8929800" cy="4822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instance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FrutigerNext LT Regular"/>
                <a:hlinkClick r:id="rId1"/>
              </a:rPr>
              <a:t>RFC5838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stantiate a separate instance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topology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tools.ietf.org/html/draft-ietf-ospf-mt-ospfv3-03.tx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igure interfaces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1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Advertising IPv4-Embedded IPv6 Rout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es would be advertised by AFXLBR into IPv6 network as AS External LSA per OSPFv3(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RFC53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ingle OSPFv3 AS External LSA carries one IPv4-embedded IPv6 address or prefix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etric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default, it is type-1 metric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also be set to type-2 metric (by provisioning at AFXLBR)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forwarding address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AFXLBR performs IPv4 routes look-up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4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Dean Cheng</dc:creator>
  <dc:description/>
  <dc:language>en-US</dc:language>
  <cp:lastModifiedBy>Dean Cheng</cp:lastModifiedBy>
  <dcterms:modified xsi:type="dcterms:W3CDTF">2011-07-21T17:49:08Z</dcterms:modified>
  <cp:revision>847</cp:revision>
  <dc:subject>MT-MI OSPFv3 for IPv4-Embedded IPv6</dc:subject>
  <dc:title>MT-MI OSPFv3 for IPv4-Embedded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sflag">
    <vt:lpwstr>1311262418</vt:lpwstr>
  </property>
</Properties>
</file>