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C53A-B0D5-4412-B14F-54E6757FA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78CE-08BF-475B-A3FD-2D182A72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9E83-4693-4907-B927-4BBC07BAC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99B6-6F6D-40EF-8DE9-F76C1F8E9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BFE0-0477-449A-9938-1A3703F32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C187-8CA9-46BA-B47C-2B9B2272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4970-CA79-446C-A384-65341D884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9FBD-2AF3-4360-B760-72DCAE28C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3E56-C4CE-4928-8F96-F29063D4A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0B28-4F95-478A-93F3-D5A42FEE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DE2B-82DF-4C3A-96FC-1E90895E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55F-2AA1-4873-9A70-8339EB67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B15-CE6F-4859-B1D2-7F65270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EB3-C13C-4391-BA63-9A176B01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775-A8C4-49A9-B2E7-6F427D05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57EA-BD49-481C-8551-7A2439EA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7D1F-A6E2-475C-BC6C-0FB0640F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1804-830B-42F0-BEEC-72BBF41C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B3B3-B97B-4593-B777-A3701999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5E61-428D-4209-B6DC-1C25CE9F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87E3-BAE9-41B9-8823-7E28C482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DD61-A3B5-4B37-BC3F-30C21EEA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881-E0AC-4C79-8AAD-DE8632C9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49CC-0304-4211-BDF1-CFD1F71C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1253-ADCC-4BF8-BCF6-E2AEF3AF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8CF2-10AC-4B54-9610-0F987E8C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F797-B913-4A05-9C2F-8B4D95C7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D204-D9D0-4DA1-94B4-E39DD6F2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3B1-3E69-4BF8-8039-AC96D458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434-F325-4969-8027-EE3CBC81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4A1-E291-47D9-BF2E-5B3F744D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867-75EA-44ED-AFBC-CE9CF201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978-3245-4FCC-89D2-9E3BF843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CFC-B082-4C2E-9673-C3382E3D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5FF-F932-4DD3-A8D3-18A2C14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B13A-2B89-4770-B514-5886FBC18C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04F2-6D90-4435-A16D-B7BB87DF7E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SPF WG Status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ETF 81, Quebec City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hay Roy, Cis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Traffic Engineering (TE) Express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giacalone-ospf-te-express-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network performance metrics using TE LSAs (Link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80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tential WG Documents (2/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FCs Since Pragu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 IETF Last C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3 Authentication Tr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auth-trailer-ospfv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Draf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2 Multi-Instanc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multi-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multi-instance support on single interface support to OSPFv2 (always in OSPFv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2/v3 Transport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transport-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Transport Instance to advertise “non-routing”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s essential routing information from non-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ulti-hop neighbors (Sparse Topolo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WG Document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1447920"/>
            <a:ext cx="8305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3137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retana-ospf-rfc3137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OSPFv3 stub router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for IPv4-embedded IPv6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ipv4-embedded-ipv6-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al draft to document use of multiple address families in support of IPv4&lt;-&gt;IPv6 trans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ransit-only Networks in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prefix-h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 transit-only networks for faster network convergence and minimize remote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WG Documents (2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088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Extension for OSPFv2 when using Manual Key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security-extension-manual-ke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draft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ietf-karp-ospf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3V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l3vpn-ospfv3-pece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v3 equivalent of RFC 45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Last Call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malis-ccamp-rfc5787bis-03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up of RFC 5787 (OSPFv2 extensions for ASON routing – Experimental) to bring to standards tra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G document with early IANA allocation reques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 – Multiple OTN and WSON draf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(2/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oadcast/P2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nsheth-ospf-hybrid-bcast-and-p2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esented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red solution for Fix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OSPF-MDR in Single-Hop Broadcas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ogier-ospf-manet-single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 recommendations for Single-Hop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he OSPF-MANET Interface in Single-Hop Broadcas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retana-ospf-manet-single-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recommendation for Single-Hop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80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tential WG Documents (1/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5:18:54Z</dcterms:created>
  <dc:creator>Vishwas Manral</dc:creator>
  <dc:description/>
  <cp:keywords>Crypto</cp:keywords>
  <dc:language>en-US</dc:language>
  <cp:lastModifiedBy>Abhay Roy</cp:lastModifiedBy>
  <dcterms:modified xsi:type="dcterms:W3CDTF">2011-07-28T15:48:48Z</dcterms:modified>
  <cp:revision>167</cp:revision>
  <dc:subject>Crypto Auth for ISIS</dc:subject>
  <dc:title>IS-IS WG</dc:title>
</cp:coreProperties>
</file>