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EC20-C1C2-47AC-AD05-155B95E0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59F9-6057-40F3-A1FC-BEACEB9FA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49E-F4B5-43C7-B047-6E9C24D9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65CD-4D91-4B08-970F-51A3303F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DFF3-D58C-4956-88E5-59C6846E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BC4-A5E9-488D-B397-B5DD5D2A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16A7-5B74-4B38-96B6-9329891C2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DD4-5869-44EB-8856-8EA7911B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9C78-5DEC-49A2-B10E-B041FC6F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5EB1-134E-4B75-B978-4BAE62166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B03B-9DB1-4C3B-8CCD-97A12896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01C-EEDF-4EC2-A98F-CFF93935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9B5-6431-4640-8B02-8876E001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B2A-D9BD-4748-917C-9690DD53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F62-83C0-4E8E-A599-3D8D4E84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24FA-BCFA-4F39-9289-FF631437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44DF-9F27-43F3-BAA3-1D4994CB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1BF3-CCBF-41F9-A7C5-A2735308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CB2E-AECE-4273-83D0-FCCB72F6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B283-5252-42ED-8AF5-A533E53D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7AF7-233E-4EE9-9C01-3CB4085E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392E-076D-41E6-8FE5-434D078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97D-4EBD-48C7-8030-0AC7F933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858-8AD3-4530-80B4-9B3006A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553F-347A-4B2B-830F-02E14ED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01BB-F4BA-404F-BCD7-22B30C95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46D1-E163-4033-93FE-F0CB8B8A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0467-902D-4D34-85EC-8E2A715A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8EA-5AB6-4F26-9FEA-220F700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6CE-AFF7-4D5B-A0D3-8A2EE64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1CF-05F8-471C-AB61-8E1934F5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C08-141F-4C5F-9B98-ACDD51DD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CE8-EC98-4FAC-9CC4-843211B1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F6A-464B-4AA5-A4A6-ABFCCEC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5A8-C846-441D-A2B4-8597BDE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CCBD-2334-4B4F-8DFB-9A8EBE6720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991F-9E74-471A-9F01-6610713B91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SPF WG Status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ETF 81, Quebec City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hay Roy, Cis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Traffic Engineering (TE) Express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giacalone-ospf-te-express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network performance metrics using TE LSAs (Link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tential WG Documents (2/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s Since Pragu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 IETF Last C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3 Authentication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auth-trailer-ospfv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Draf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2 Multi-Instanc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multi-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multi-instance support on single interface support to OSPFv2 (always in OSPFv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2/v3 Transport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transport-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Transport Instance to advertise “non-routing”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s essential routing information from non-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ulti-hop neighbors (Sparse Topolo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WG Document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1447920"/>
            <a:ext cx="8305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3137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retana-ospf-rfc3137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OSPFv3 stub router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for IPv4-embedded IPv6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ipv4-embedded-ipv6-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draft to document use of multiple address families in support of IPv4&lt;-&gt;IPv6 trans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ransit-only Networks in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prefix-h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 transit-only networks for faster network convergence and minimize remote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WG Documents (2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Extension for OSPFv2 when using Manual Key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security-extension-manual-ke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draft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ietf-karp-ospf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3V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l3vpn-ospfv3-pece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v3 equivalent of RFC 45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Last Call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alis-ccamp-rfc5787bis-03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up of RFC 5787 (OSPFv2 extensions for ASON routing – Experimental) to bring to standards tra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G document with early IANA allocation reques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 – Multiple OTN and WSON draf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2/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oadcast/P2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nsheth-ospf-hybrid-bcast-and-p2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esented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red solution for Fix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OSPF-MDR in Single-Hop Broadcas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ogier-ospf-manet-single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 recommendations for Single-Hop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he OSPF-MANET Interface in Single-Hop Broadcas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retana-ospf-manet-single-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recommendation for Single-Hop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tential WG Documents (1/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5:18:54Z</dcterms:created>
  <dc:creator>Vishwas Manral</dc:creator>
  <dc:description/>
  <cp:keywords>Crypto</cp:keywords>
  <dc:language>en-US</dc:language>
  <cp:lastModifiedBy>Abhay Roy</cp:lastModifiedBy>
  <dcterms:modified xsi:type="dcterms:W3CDTF">2011-07-28T15:48:48Z</dcterms:modified>
  <cp:revision>167</cp:revision>
  <dc:subject>Crypto Auth for ISIS</dc:subject>
  <dc:title>IS-IS WG</dc:title>
</cp:coreProperties>
</file>