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BE9-5C2C-48CF-9D56-E6BE7136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2CB-2854-47B5-B5DD-46D0051D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ACA-FC49-4133-A9CF-53C399DF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0F2-21A6-4FDF-B4BB-2D36ACD5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F9D2-FFB2-4D87-AA3F-81D18662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1194-3D2A-4188-8A72-716F8DD7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7CC6-6626-4290-BA42-57F30EB5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6A6-8D49-4667-A0FF-44C43F5D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87CA-49CE-43C1-9140-6F29C24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3892-7DE3-415B-A123-CF5577E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E90-3E10-4A3D-BFA3-DE187AB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905-42D3-4295-AA1C-D3F3EF83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29F-4975-413C-88B0-5D97EEC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73BB-7673-4433-94BF-6598F7A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AB79-BF50-4B22-B5F2-C9BA5449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37D4-D330-4E24-A7BD-76EB05CD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EF5A-E702-4574-9998-622A2AD8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D5F-4A83-425D-BD7C-B7CEF8F9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8E0-934B-4B24-9620-A525E36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DA6-9049-45A7-9FFB-DBB110E7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01D-44DE-4716-93DD-DA3A2F67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890-7BB1-4BD2-88F5-35322F2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AA1-1444-442E-9B24-057AABB9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61C-C88D-4582-AED7-F7017E2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07CB-0767-4E87-85F2-DC9C3813EB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71CE-EABE-43EE-AF3D-E5A47A7EF80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623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n extension to RELOAD to support Direct Response Routing (&amp; Relay Peer Routing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4953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g Z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ngfeng Ji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i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nfei Z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914400" y="2971800"/>
            <a:ext cx="762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zong-p2psip-drr-00 (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zong-p2psip-rpr-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agreed in last IETF meeting (IETF 80th) that two drafts are preferred to address Direct Response Routing (DRR) and Relay Peer Routing (RPR) separ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ilestones for P2PSIP Direct Response and P2PSIP Relay Response were then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ividual drafts were submitted to meet these two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ong-p2psip-drr-00 for P2PSIP Direc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ong-p2psip-rpr-00 for P2PSIP Relay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drafts are just separation of previous draft-jiang-p2psip-relay-05, no additional technical content are further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xt St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adoption of draft-zong-p2psip-drr-00 as WG document for P2PSIP Direct Respo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adoption of draft-zong-p2psip-rpr-00 as WG document for P2PSIP Relay Respo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7-25T17:22:3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11034976</vt:lpwstr>
  </property>
</Properties>
</file>