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075-C0AB-4C10-ABE7-BF10911B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061-6C78-4A2B-BD23-97AB80A3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0EA-503F-4805-87E7-F8CE9123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335-8BDF-416C-A055-5657B585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00BE-57F1-4DA4-96CD-2F22B9DC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0F69-036F-413C-A650-A15CCC77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7FF2-CBC0-4050-8EC6-C1FE862E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B96D-AFFB-4D05-9A8E-F876C84F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A7EC-AB8D-4CA7-A479-4B86037C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6F1B-D85C-44AF-A91C-78189AB7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8B19-29EF-4D34-BA05-22C382EB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786-8F5F-423C-AA18-2C8008F7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1D16-182C-46FB-99F0-94C2F14D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F68C-1D84-495A-85BC-D363B049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BA06-A8C1-4C45-BE8B-5BA0F18A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4D55-0A39-4669-85BC-F30B32C0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EBB5-991A-44C6-9FDA-E34F1254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8AA-C37C-4614-BE57-DC3F0148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9C6-6444-4998-B572-C9ADB0CD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664-1589-4AEC-814D-EDF49C07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514-5890-4AC0-B732-62B13D91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9C6-622C-42EF-BDB2-1C993B97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DD8-2E17-457F-B690-6375D50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DB1-D40B-4AE3-902A-FF2387BA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39A3-4671-4752-83C4-7A0DD195BD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7E16-7FD2-4443-B33A-4B6B44C5C9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623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n extension to RELOAD to support Direct Response Routing (&amp; Relay Peer Routing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49532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g Z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ngfeng Ji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i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nfei Z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914400" y="2971800"/>
            <a:ext cx="762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draft-zong-p2psip-drr-00 (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draft-zong-p2psip-rpr-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agreed in last IETF meeting (IETF 80th) that two drafts are preferred to address Direct Response Routing (DRR) and Relay Peer Routing (RPR) separ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ilestones for P2PSIP Direct Response and P2PSIP Relay Response were then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ividual drafts were submitted to meet these two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ong-p2psip-drr-00 for P2PSIP Direc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ong-p2psip-rpr-00 for P2PSIP Relay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drafts are just separation of previous draft-jiang-p2psip-relay-05, no additional technical content are further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xt St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adoption of draft-zong-p2psip-drr-00 as WG document for P2PSIP Direct Respo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adoption of draft-zong-p2psip-rpr-00 as WG document for P2PSIP Relay Respo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7-25T17:22:3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11034976</vt:lpwstr>
  </property>
</Properties>
</file>