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4A43-7F20-4EA9-B84E-C78BD1D9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E73D-F163-45AD-972A-E0745BD7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DAB9-192A-4F4A-87F1-2E9A8456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2112-4C42-4DC1-B015-FB24905F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F7B4-6080-425C-AC31-72A5EE87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874D-DF76-4A5C-95EB-5D3650A6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30D4-6A6A-4007-820A-339F3DAA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DA65-AB15-48B8-93A4-F255B314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A4E8-5C7B-4A38-B49B-56D41CC7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D741-020D-41A9-9584-C745D658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0010-3996-4EB0-A8F2-DCF19F72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0914-BF34-4866-9511-3FB17E88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28D2-B480-4B4C-8D8C-D21916E25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132760" cy="31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SNMP Usage for RELOAD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raft-peng-p2psip-snmp-0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ETF #8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560" y="4076280"/>
            <a:ext cx="69850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Yonglin PENG,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Wei WANG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, Zhenwu Hao, Yu ME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{peng.yonglin,wang.wei108,hao.zhenwu,meng.yu}@zte.com.c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ft-peng-p2psip-snmp-00: Presented at IETF #79, initial description of SNMP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ft-peng-p2psip-network-management-scenarios-02: Presented at IETF #80, gives the management scenarios description in P2P 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edback from opsawg (Randy Presuhn and David Harringt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nges on draft-peng-p2psip-snmp-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urity considerations on SNMP association set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minor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Findreq instead of Appattach in Management Node finding O-N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operations to SNMPv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MP security iss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distribution and security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ed key based (SNMPv3 U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KI based (Use RELOAD certific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TLS based (SNMP over DTLS, RFC 595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 1 is widely supported by network managers, can use RELOAD certifications for key distribu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MP shared key distrib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1741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NMP MIB mod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NMP EngineID assoc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PROXY-MIB and MIDCOM-MI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problems of using SNMP for configu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 detailed issue on SNMPv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 more comments from SNMP and P2PSIP W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this draft become a WG draf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2627280" y="2852640"/>
            <a:ext cx="35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Calibri"/>
              </a:rPr>
              <a:t>Thanks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3276720" y="134136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alibri"/>
              </a:rPr>
              <a:t>Q&amp;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07:07:16Z</dcterms:created>
  <dc:creator>ZTE2</dc:creator>
  <dc:description/>
  <dc:language>en-US</dc:language>
  <cp:lastModifiedBy>Editor</cp:lastModifiedBy>
  <dcterms:modified xsi:type="dcterms:W3CDTF">2011-07-21T09:07:37Z</dcterms:modified>
  <cp:revision>38</cp:revision>
  <dc:subject/>
  <dc:title>An SNMP Usage for RELOAD draft-peng-p2psip-snmp-00 IETF #79</dc:title>
</cp:coreProperties>
</file>