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F15-D477-4A37-873C-B23B48FD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F5C-C208-407F-8FED-0301738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166-F005-44FE-B315-F55998C4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139-77DD-419A-AF1A-89FBE230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CF5-C0E0-4CAC-A016-6E1D5C0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D17-C6B8-4097-A610-EEA482C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633-E2F9-4536-9E49-042074C2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5CA-68FB-4136-A88D-2667FF18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0B5-E950-4B77-8335-5A663A0F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6AF-8E79-46B7-A3AA-0AC54896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411-EB43-434C-8FA5-E2B2CBD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CF5-6872-4363-9CFD-537292D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5F7-E552-4988-A926-9350F06AA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3276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SNMP Usage for RELOAD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aft-peng-p2psip-snmp-0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ETF #8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6985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nglin PENG,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ei WAN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Zhenwu Hao, Yu ME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{peng.yonglin,wang.wei108,hao.zhenwu,meng.yu}@zte.com.c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peng-p2psip-snmp-00: Presented at IETF #79, initial description of SNMP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peng-p2psip-network-management-scenarios-02: Presented at IETF #80, gives the management scenarios description in P2P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 from opsawg (Randy Presuhn and David Harringt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s on draft-peng-p2psip-snmp-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considerations on SNMP association se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minor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Findreq instead of Appattach in Management Node finding O-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operations to SNMPv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MP security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distribution and securit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key based (SNMPv3 U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KI based (Use RELOAD certifi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TLS based (SNMP over DTLS, RFC 595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 1 is widely supported by network managers, can use RELOAD certifications for key distrib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MP shared key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74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MP MIB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MP EngineID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PROXY-MIB and MIDCOM-MI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problems of using SNMP for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detailed issue on SNMPv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more comments from SNMP and P2PSIP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this draft become a WG draf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2627280" y="2852640"/>
            <a:ext cx="35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76720" y="134136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7:07:16Z</dcterms:created>
  <dc:creator>ZTE2</dc:creator>
  <dc:description/>
  <dc:language>en-US</dc:language>
  <cp:lastModifiedBy>Editor</cp:lastModifiedBy>
  <dcterms:modified xsi:type="dcterms:W3CDTF">2011-07-21T09:07:37Z</dcterms:modified>
  <cp:revision>38</cp:revision>
  <dc:subject/>
  <dc:title>An SNMP Usage for RELOAD draft-peng-p2psip-snmp-00 IETF #79</dc:title>
</cp:coreProperties>
</file>