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F1EB9-1C27-47F3-8D32-E051D3D0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BDF959-30C0-426D-9B1E-DA7C7D50D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C55DA-E4E3-4EF2-9738-055DCA2B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65A919-55E8-4298-A1A3-600367D1D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E2A-5E02-482D-9E7B-7A20BBDD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C6F-3D18-4FB6-B289-3BD60CA3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6D6-0FB9-4501-BB42-E72A482C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950-B4C0-46D0-87CE-245CE195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A1C-9D7E-43D6-8FC2-8E9BFA1D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65B-5524-447C-964C-876F2805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723-EF64-46F1-8F25-D56BD972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A60-6A4F-4EDD-9BA4-0AD441E2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C52-C211-47FC-9EF5-FB6A8206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337-C939-4091-B7B6-71443220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F80-F207-4A46-8827-830F2EC2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09F-0FD6-42F0-9978-848371C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1807A7-0E57-4F6B-9974-B284C8B56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s to RELOAD for Client Promotion and Peer De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3212640"/>
            <a:ext cx="64008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81@Queb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peng-p2psip-promotion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P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li D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ng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g 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218960"/>
            <a:ext cx="861048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o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form protocol for both clients and pe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ctive client promotion i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owned Clients (U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v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majority of overlay population and the under-exploited vast resource p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d with more restrictive resource limits, considerable capability heterogeneity, and diverse interes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promote UNs to pe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rder to reduce service operator's CAP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38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nly in a cautions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mprudent peer behavior causes undesirable implications in P2P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71600"/>
            <a:ext cx="70437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Problem Statement -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447920"/>
            <a:ext cx="80517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assive promotion instead of active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assive demotion as well as active de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Security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xplicit authorization for promoted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imely revocation for misbehaving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395280"/>
            <a:ext cx="87850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Promotion instead of Active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2760" y="1371240"/>
            <a:ext cx="805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regulations are needed for UE-oriented client promoti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UE may be incapable of serv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UE may be malfunctioning in serv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moderate network size may be preferred to remain efficient overlay ro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join-update method allows for active promo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moter (e.g. an overloading peer) rather than the UE in question triggers the passive promo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moted UE is selected and certified by the 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R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t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Jo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client promotion proce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标题 1"/>
          <p:cNvSpPr/>
          <p:nvPr/>
        </p:nvSpPr>
        <p:spPr>
          <a:xfrm>
            <a:off x="324000" y="395280"/>
            <a:ext cx="8424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Demotion as well as Active De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内容占位符 8"/>
          <p:cNvSpPr/>
          <p:nvPr/>
        </p:nvSpPr>
        <p:spPr>
          <a:xfrm>
            <a:off x="324000" y="1143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tive demotion decision from the UE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ser ceases being a peer if he/she perceives a considerable decrease in user exper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ssive demotion decision from the overlay side to get rid of unnecessary UE-promoted peer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se 1: Overlay decides to shrink its peer group to maintain a tolerable routing del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se 2: Admin decides to exclude the peer(s) for unsatisfactory service provis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active demo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ngraceful/graceful demotion 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passive demo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se1: graceful demotion procedur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se2: pushed authorization revo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Re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ensions t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Le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ethod to enable graceful demo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shed authorization revo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标题 1"/>
          <p:cNvSpPr/>
          <p:nvPr/>
        </p:nvSpPr>
        <p:spPr>
          <a:xfrm>
            <a:off x="609480" y="395280"/>
            <a:ext cx="7877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 Authorization &amp; Timely Rev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内容占位符 8"/>
          <p:cNvSpPr/>
          <p:nvPr/>
        </p:nvSpPr>
        <p:spPr>
          <a:xfrm>
            <a:off x="558720" y="1241280"/>
            <a:ext cx="80517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licit authorization to distinguish a UE’s potential to serve as a peer as well as a 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mely revocation to limit the impact of a misbehaving p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ualified UE acquires a separate peer certificate to attest its capabilities and willingness to serve as a p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UE-promoted peer’s certificate is revoked if it fails to deliver expected performance while remaining its client certificate i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Re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parated client and peer author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tive certificate revo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9048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5:22:07Z</dcterms:created>
  <dc:creator>MC SYSTEM</dc:creator>
  <dc:description/>
  <dc:language>en-US</dc:language>
  <cp:lastModifiedBy>denglingli</cp:lastModifiedBy>
  <dcterms:modified xsi:type="dcterms:W3CDTF">2011-07-20T08:00:44Z</dcterms:modified>
  <cp:revision>186</cp:revision>
  <dc:subject/>
  <dc:title>幻灯片 1</dc:title>
</cp:coreProperties>
</file>