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897203-431E-403D-9438-6BF103D7F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06C333-ECF9-4BB8-81D2-83DD0F9A8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515012-C1C5-4B45-A91E-196ADC81C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9E4AB9-5A42-45A4-8525-DD07E42FA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218-184A-4781-B46D-E2A38C25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681-86C3-498D-BEB2-1F8CA17F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B32-FD64-45A3-B68F-67210C6E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BAB-1F5B-40CE-96C6-71529718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A90-883C-42FB-8405-43EA77E4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A73-B2E6-4F6F-B3BE-852CCBDE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11C-B299-47F6-BA7D-376D15BA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24A-10E8-4F5D-97DB-CA7CA1CC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645-5A92-4C0D-8B98-0D87AC03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25E-4D1D-488B-B193-7C6C6DC2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387-08CD-4EA4-ADCE-ACD4A625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B97-2B77-4FB3-9B67-90310F8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1BB7A3-4007-48D1-9A17-949C7E633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s to RELOAD for Client Promotion and Peer De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76360" y="3212640"/>
            <a:ext cx="64008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81@Queb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peng-p2psip-promotion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P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gli D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ng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g 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218960"/>
            <a:ext cx="861048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o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iform protocol for both clients and pe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ctive client promotion is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owned Clients (U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ve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majority of overlay population and the under-exploited vast resource p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d with more restrictive resource limits, considerable capability heterogeneity, and diverse interes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o promote UNs to pe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376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order to reduce service operator's CAPE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nly in a cautions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376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mprudent peer behavior causes undesirable implications in P2P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71600"/>
            <a:ext cx="704376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Problem Statement -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447920"/>
            <a:ext cx="805176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Functiona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assive promotion instead of active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assive demotion as well as active de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Security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xplicit authorization for promoted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imely revocation for misbehaving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395280"/>
            <a:ext cx="87850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Promotion instead of Active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2760" y="1371240"/>
            <a:ext cx="805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regulations are needed for UE-oriented client promotion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UE may be incapable of serving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UE may be malfunctioning in serving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moderate network size may be preferred to remain efficient overlay ro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join-update method allows for active promo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moter (e.g. an overloading peer) rather than the UE in question triggers the passive promo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moted UE is selected and certified by the 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R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t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Jo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client promotion proced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标题 1"/>
          <p:cNvSpPr/>
          <p:nvPr/>
        </p:nvSpPr>
        <p:spPr>
          <a:xfrm>
            <a:off x="324000" y="395280"/>
            <a:ext cx="8424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Demotion as well as Active De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内容占位符 8"/>
          <p:cNvSpPr/>
          <p:nvPr/>
        </p:nvSpPr>
        <p:spPr>
          <a:xfrm>
            <a:off x="324000" y="1143000"/>
            <a:ext cx="849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tive demotion decision from the UE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ser ceases being a peer if he/she perceives a considerable decrease in user exper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ssive demotion decision from the overlay side to get rid of unnecessary UE-promoted peer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se 1: Overlay decides to shrink its peer group to maintain a tolerable routing del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se 2: Admin decides to exclude the peer(s) for unsatisfactory service provis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active demotion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ngraceful/graceful demotion proced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passive demotion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se1: graceful demotion procedur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se2: pushed authorization revo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Re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tensions t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Le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method to enable graceful demo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ushed authorization revo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标题 1"/>
          <p:cNvSpPr/>
          <p:nvPr/>
        </p:nvSpPr>
        <p:spPr>
          <a:xfrm>
            <a:off x="609480" y="395280"/>
            <a:ext cx="78771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 Authorization &amp; Timely Rev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内容占位符 8"/>
          <p:cNvSpPr/>
          <p:nvPr/>
        </p:nvSpPr>
        <p:spPr>
          <a:xfrm>
            <a:off x="558720" y="1241280"/>
            <a:ext cx="80517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licit authorization to distinguish a UE’s potential to serve as a peer as well as a 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mely revocation to limit the impact of a misbehaving pe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ualified UE acquires a separate peer certificate to attest its capabilities and willingness to serve as a pe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UE-promoted peer’s certificate is revoked if it fails to deliver expected performance while remaining its client certificate i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Re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parated client and peer author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tive certificate revo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9048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5:22:07Z</dcterms:created>
  <dc:creator>MC SYSTEM</dc:creator>
  <dc:description/>
  <dc:language>en-US</dc:language>
  <cp:lastModifiedBy>denglingli</cp:lastModifiedBy>
  <dcterms:modified xsi:type="dcterms:W3CDTF">2011-07-20T08:00:44Z</dcterms:modified>
  <cp:revision>186</cp:revision>
  <dc:subject/>
  <dc:title>幻灯片 1</dc:title>
</cp:coreProperties>
</file>