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C378B-36A0-4831-ABE0-E56ABBD2B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D3B4-642C-4A6A-8182-6335F4C27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A392-2FC5-4D39-863A-E326EB81B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327B-918A-4F47-8CAE-48656A827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41BD-7FD2-42D2-ADB6-2ABE4D60D1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9FA80-DC70-48AA-B3EA-1F716AB19E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62184-535F-46E8-8439-818D97443A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9A43D-95E3-40F6-8707-C7D13B40E7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009F-9CBB-4C20-A16A-B5196E08BF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2D86-981B-464B-9326-287B959B07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91AB-C55B-4A45-962D-C665477D73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BF10-0ED9-4A25-AB5E-D5521FF6A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88B1-CED5-4ABD-A265-371C6AE6DE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D47E-CBEB-4AA6-887C-F2E87713C3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707F2-D066-4E38-812B-D218662225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3FA9C-1104-4EDD-846D-D57F754143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21A1-7686-4EBC-A4D8-393BE97E4E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19AF-3F8D-404E-B8A0-3C9A6EEC5C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511-62C6-40C7-93C4-305989E353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BD9-591F-436F-BB7B-1AB6B3096D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25C4-C1A1-4381-A91F-15E02F3A98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45A-6393-4876-AA27-88009AF301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6989-5F7B-40C9-8548-4217ABE583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5B5-CEF5-4FB6-8820-A07E70C01A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391-3143-4BB4-8C98-DBB0EEDE45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3C4-21F6-43B7-A18F-DBA1A9F08A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0CA-1E17-4039-AB4C-C121A41D5A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619-EBE5-4622-B3A8-EEA2806C3F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962-9942-4252-877C-A309E513F6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891-E8CA-4BFA-8AD4-69A2C8AC9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854D-4CF7-491B-A6EC-B23BB7517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9373-8524-4F4F-8775-2E343457A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4064-C789-478A-A142-EB1135CC2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BEF7-2FFD-4E44-AE5A-3A4448A83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04FA-5365-4DD7-935F-BC2AB215D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875C-2644-4120-BE26-6CC3C9A29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2" name="Group 11"/>
          <p:cNvGrpSpPr/>
          <p:nvPr/>
        </p:nvGrpSpPr>
        <p:grpSpPr>
          <a:xfrm>
            <a:off x="8156520" y="6300720"/>
            <a:ext cx="1468440" cy="366840"/>
            <a:chOff x="8156520" y="6300720"/>
            <a:chExt cx="1468440" cy="366840"/>
          </a:xfrm>
        </p:grpSpPr>
        <p:pic>
          <p:nvPicPr>
            <p:cNvPr id="3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Rectangle 9"/>
            <p:cNvSpPr/>
            <p:nvPr/>
          </p:nvSpPr>
          <p:spPr>
            <a:xfrm>
              <a:off x="8156520" y="630072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D438-5454-4934-B31F-8B0D9222A10E}" type="slidenum"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FA54-2E7E-48BB-A8C3-088FB487FB8B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1"/>
          <p:cNvGrpSpPr/>
          <p:nvPr/>
        </p:nvGrpSpPr>
        <p:grpSpPr>
          <a:xfrm>
            <a:off x="8156520" y="6300720"/>
            <a:ext cx="1468440" cy="366840"/>
            <a:chOff x="8156520" y="6300720"/>
            <a:chExt cx="1468440" cy="366840"/>
          </a:xfrm>
        </p:grpSpPr>
        <p:pic>
          <p:nvPicPr>
            <p:cNvPr id="82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9"/>
            <p:cNvSpPr/>
            <p:nvPr/>
          </p:nvSpPr>
          <p:spPr>
            <a:xfrm>
              <a:off x="8156520" y="630072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</p:grpSp>
      <p:sp>
        <p:nvSpPr>
          <p:cNvPr id="84" name="Rectangle 7"/>
          <p:cNvSpPr/>
          <p:nvPr/>
        </p:nvSpPr>
        <p:spPr>
          <a:xfrm>
            <a:off x="8265960" y="6273720"/>
            <a:ext cx="1455840" cy="4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987000" y="6518160"/>
            <a:ext cx="196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  <a:ea typeface="MS PGothic"/>
              </a:rPr>
              <a:t>PAWS @ IETF81 - Quebec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2ACB-982A-41C5-AA26-574FD9FBAD20}" type="slidenum"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"/>
          <p:cNvSpPr/>
          <p:nvPr/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FC6B-89CC-4732-B4C3-5A1C864620EA}" type="slidenum">
              <a:rPr b="0" lang="en-GB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5400" y="644040"/>
            <a:ext cx="9720360" cy="310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PAWS: Problem statement</a:t>
            </a:r>
            <a:br>
              <a:rPr sz="6000"/>
            </a:br>
            <a:endParaRPr b="1" lang="en-US" sz="6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96920" y="4549320"/>
            <a:ext cx="778032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okia Large"/>
              </a:rPr>
              <a:t>Basavaraj Patil, Scott Probasco, Gabor Bajko and, Brian Rosen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2726640" y="3608280"/>
            <a:ext cx="45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Nokia Sans Wide"/>
              </a:rPr>
              <a:t>I-D: draft-patil-paws-problem-stmt-02.txt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5760" y="115560"/>
            <a:ext cx="683244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Overview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65280" y="974880"/>
            <a:ext cx="9067680" cy="52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White space (WS): In a spectrum band that is licensed to primary users, the part of spectrum that is unused by the primary user at specific </a:t>
            </a:r>
            <a:r>
              <a:rPr b="1" lang="en-US" sz="2000" spc="-1" strike="noStrike">
                <a:solidFill>
                  <a:srgbClr val="ff0000"/>
                </a:solidFill>
                <a:latin typeface="Nokia Sans Wide"/>
              </a:rPr>
              <a:t>locations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and sometimes at specific </a:t>
            </a:r>
            <a:r>
              <a:rPr b="1" lang="en-US" sz="2000" spc="-1" strike="noStrike">
                <a:solidFill>
                  <a:srgbClr val="ff0000"/>
                </a:solidFill>
                <a:latin typeface="Nokia Sans Wide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Example: Television Channels – not every channel is used in every town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oncept of a primary user of the spectrum (licensed); However not all of the spectrum may be used all the time or at any location(s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Opens up the possbility of the spectrum being used by secondary users as long as there is no impact to the primary user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D433-7A7F-4772-8D12-B4EC87751836}" type="slidenum">
              <a:rPr b="0" lang="ja-JP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0960" y="-360"/>
            <a:ext cx="63756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White Space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F6A2-3E63-4987-8915-F319B9E6153C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134" name="Group 95"/>
          <p:cNvGrpSpPr/>
          <p:nvPr/>
        </p:nvGrpSpPr>
        <p:grpSpPr>
          <a:xfrm>
            <a:off x="955800" y="2262960"/>
            <a:ext cx="7884720" cy="2768040"/>
            <a:chOff x="955800" y="2262960"/>
            <a:chExt cx="7884720" cy="2768040"/>
          </a:xfrm>
        </p:grpSpPr>
        <p:grpSp>
          <p:nvGrpSpPr>
            <p:cNvPr id="135" name="Group 84"/>
            <p:cNvGrpSpPr/>
            <p:nvPr/>
          </p:nvGrpSpPr>
          <p:grpSpPr>
            <a:xfrm>
              <a:off x="955800" y="2262960"/>
              <a:ext cx="7884720" cy="2508480"/>
              <a:chOff x="955800" y="2262960"/>
              <a:chExt cx="7884720" cy="2508480"/>
            </a:xfrm>
          </p:grpSpPr>
          <p:grpSp>
            <p:nvGrpSpPr>
              <p:cNvPr id="136" name="Group 18"/>
              <p:cNvGrpSpPr/>
              <p:nvPr/>
            </p:nvGrpSpPr>
            <p:grpSpPr>
              <a:xfrm>
                <a:off x="955800" y="2262960"/>
                <a:ext cx="7884720" cy="2378160"/>
                <a:chOff x="955800" y="2262960"/>
                <a:chExt cx="7884720" cy="2378160"/>
              </a:xfrm>
            </p:grpSpPr>
            <p:cxnSp>
              <p:nvCxnSpPr>
                <p:cNvPr id="137" name="Straight Arrow Connector 15"/>
                <p:cNvCxnSpPr/>
                <p:nvPr/>
              </p:nvCxnSpPr>
              <p:spPr>
                <a:xfrm>
                  <a:off x="956160" y="4639320"/>
                  <a:ext cx="7884720" cy="2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38" name="Straight Arrow Connector 17"/>
                <p:cNvCxnSpPr/>
                <p:nvPr/>
              </p:nvCxnSpPr>
              <p:spPr>
                <a:xfrm flipV="1">
                  <a:off x="955800" y="2262960"/>
                  <a:ext cx="2160" cy="2378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139" name="Straight Connector 22"/>
              <p:cNvSpPr/>
              <p:nvPr/>
            </p:nvSpPr>
            <p:spPr>
              <a:xfrm flipV="1">
                <a:off x="1100520" y="451332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0" name="Straight Connector 23"/>
              <p:cNvSpPr/>
              <p:nvPr/>
            </p:nvSpPr>
            <p:spPr>
              <a:xfrm flipV="1">
                <a:off x="1252800" y="451332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1" name="Straight Connector 38"/>
              <p:cNvSpPr/>
              <p:nvPr/>
            </p:nvSpPr>
            <p:spPr>
              <a:xfrm flipV="1">
                <a:off x="1405080" y="451332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2" name="Straight Connector 39"/>
              <p:cNvSpPr/>
              <p:nvPr/>
            </p:nvSpPr>
            <p:spPr>
              <a:xfrm flipV="1">
                <a:off x="1557720" y="451332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3" name="Straight Connector 40"/>
              <p:cNvSpPr/>
              <p:nvPr/>
            </p:nvSpPr>
            <p:spPr>
              <a:xfrm flipV="1">
                <a:off x="1710000" y="451332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4" name="Straight Connector 41"/>
              <p:cNvSpPr/>
              <p:nvPr/>
            </p:nvSpPr>
            <p:spPr>
              <a:xfrm flipV="1">
                <a:off x="1862280" y="451332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5" name="Straight Connector 42"/>
              <p:cNvSpPr/>
              <p:nvPr/>
            </p:nvSpPr>
            <p:spPr>
              <a:xfrm flipV="1">
                <a:off x="201492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6" name="Straight Connector 43"/>
              <p:cNvSpPr/>
              <p:nvPr/>
            </p:nvSpPr>
            <p:spPr>
              <a:xfrm flipV="1">
                <a:off x="216720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7" name="Straight Connector 44"/>
              <p:cNvSpPr/>
              <p:nvPr/>
            </p:nvSpPr>
            <p:spPr>
              <a:xfrm flipV="1">
                <a:off x="231948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8" name="Straight Connector 45"/>
              <p:cNvSpPr/>
              <p:nvPr/>
            </p:nvSpPr>
            <p:spPr>
              <a:xfrm flipV="1">
                <a:off x="247212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49" name="Straight Connector 46"/>
              <p:cNvSpPr/>
              <p:nvPr/>
            </p:nvSpPr>
            <p:spPr>
              <a:xfrm flipV="1">
                <a:off x="262440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0" name="Straight Connector 47"/>
              <p:cNvSpPr/>
              <p:nvPr/>
            </p:nvSpPr>
            <p:spPr>
              <a:xfrm flipV="1">
                <a:off x="277668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1" name="Straight Connector 48"/>
              <p:cNvSpPr/>
              <p:nvPr/>
            </p:nvSpPr>
            <p:spPr>
              <a:xfrm flipV="1">
                <a:off x="292932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2" name="Straight Connector 49"/>
              <p:cNvSpPr/>
              <p:nvPr/>
            </p:nvSpPr>
            <p:spPr>
              <a:xfrm flipV="1">
                <a:off x="308160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3" name="Straight Connector 50"/>
              <p:cNvSpPr/>
              <p:nvPr/>
            </p:nvSpPr>
            <p:spPr>
              <a:xfrm flipV="1">
                <a:off x="323388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4" name="Straight Connector 51"/>
              <p:cNvSpPr/>
              <p:nvPr/>
            </p:nvSpPr>
            <p:spPr>
              <a:xfrm flipV="1">
                <a:off x="338652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5" name="Straight Connector 52"/>
              <p:cNvSpPr/>
              <p:nvPr/>
            </p:nvSpPr>
            <p:spPr>
              <a:xfrm flipV="1">
                <a:off x="353880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6" name="Straight Connector 53"/>
              <p:cNvSpPr/>
              <p:nvPr/>
            </p:nvSpPr>
            <p:spPr>
              <a:xfrm flipV="1">
                <a:off x="3691080" y="45154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7" name="Straight Connector 54"/>
              <p:cNvSpPr/>
              <p:nvPr/>
            </p:nvSpPr>
            <p:spPr>
              <a:xfrm flipV="1">
                <a:off x="3843720" y="451800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8" name="Straight Connector 55"/>
              <p:cNvSpPr/>
              <p:nvPr/>
            </p:nvSpPr>
            <p:spPr>
              <a:xfrm flipV="1">
                <a:off x="3996000" y="451800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59" name="Straight Connector 56"/>
              <p:cNvSpPr/>
              <p:nvPr/>
            </p:nvSpPr>
            <p:spPr>
              <a:xfrm flipV="1">
                <a:off x="4148280" y="451800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0" name="Straight Connector 57"/>
              <p:cNvSpPr/>
              <p:nvPr/>
            </p:nvSpPr>
            <p:spPr>
              <a:xfrm flipV="1">
                <a:off x="4300560" y="451800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1" name="Straight Connector 58"/>
              <p:cNvSpPr/>
              <p:nvPr/>
            </p:nvSpPr>
            <p:spPr>
              <a:xfrm flipV="1">
                <a:off x="4453200" y="451800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2" name="Straight Connector 59"/>
              <p:cNvSpPr/>
              <p:nvPr/>
            </p:nvSpPr>
            <p:spPr>
              <a:xfrm flipV="1">
                <a:off x="4605480" y="451800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3" name="Straight Connector 60"/>
              <p:cNvSpPr/>
              <p:nvPr/>
            </p:nvSpPr>
            <p:spPr>
              <a:xfrm flipV="1">
                <a:off x="4750200" y="451476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4" name="Straight Connector 61"/>
              <p:cNvSpPr/>
              <p:nvPr/>
            </p:nvSpPr>
            <p:spPr>
              <a:xfrm flipV="1">
                <a:off x="4902480" y="451476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5" name="Straight Connector 62"/>
              <p:cNvSpPr/>
              <p:nvPr/>
            </p:nvSpPr>
            <p:spPr>
              <a:xfrm flipV="1">
                <a:off x="5054760" y="451476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6" name="Straight Connector 63"/>
              <p:cNvSpPr/>
              <p:nvPr/>
            </p:nvSpPr>
            <p:spPr>
              <a:xfrm flipV="1">
                <a:off x="5207400" y="451476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7" name="Straight Connector 64"/>
              <p:cNvSpPr/>
              <p:nvPr/>
            </p:nvSpPr>
            <p:spPr>
              <a:xfrm flipV="1">
                <a:off x="5359680" y="451476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8" name="Straight Connector 65"/>
              <p:cNvSpPr/>
              <p:nvPr/>
            </p:nvSpPr>
            <p:spPr>
              <a:xfrm flipV="1">
                <a:off x="5511960" y="451476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69" name="Straight Connector 66"/>
              <p:cNvSpPr/>
              <p:nvPr/>
            </p:nvSpPr>
            <p:spPr>
              <a:xfrm flipV="1">
                <a:off x="566424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0" name="Straight Connector 67"/>
              <p:cNvSpPr/>
              <p:nvPr/>
            </p:nvSpPr>
            <p:spPr>
              <a:xfrm flipV="1">
                <a:off x="581688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1" name="Straight Connector 68"/>
              <p:cNvSpPr/>
              <p:nvPr/>
            </p:nvSpPr>
            <p:spPr>
              <a:xfrm flipV="1">
                <a:off x="596916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2" name="Straight Connector 69"/>
              <p:cNvSpPr/>
              <p:nvPr/>
            </p:nvSpPr>
            <p:spPr>
              <a:xfrm flipV="1">
                <a:off x="612144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3" name="Straight Connector 70"/>
              <p:cNvSpPr/>
              <p:nvPr/>
            </p:nvSpPr>
            <p:spPr>
              <a:xfrm flipV="1">
                <a:off x="627408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4" name="Straight Connector 71"/>
              <p:cNvSpPr/>
              <p:nvPr/>
            </p:nvSpPr>
            <p:spPr>
              <a:xfrm flipV="1">
                <a:off x="642636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5" name="Straight Connector 72"/>
              <p:cNvSpPr/>
              <p:nvPr/>
            </p:nvSpPr>
            <p:spPr>
              <a:xfrm flipV="1">
                <a:off x="657864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6" name="Straight Connector 73"/>
              <p:cNvSpPr/>
              <p:nvPr/>
            </p:nvSpPr>
            <p:spPr>
              <a:xfrm flipV="1">
                <a:off x="673128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7" name="Straight Connector 74"/>
              <p:cNvSpPr/>
              <p:nvPr/>
            </p:nvSpPr>
            <p:spPr>
              <a:xfrm flipV="1">
                <a:off x="688356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8" name="Straight Connector 75"/>
              <p:cNvSpPr/>
              <p:nvPr/>
            </p:nvSpPr>
            <p:spPr>
              <a:xfrm flipV="1">
                <a:off x="703584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79" name="Straight Connector 76"/>
              <p:cNvSpPr/>
              <p:nvPr/>
            </p:nvSpPr>
            <p:spPr>
              <a:xfrm flipV="1">
                <a:off x="718848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80" name="Straight Connector 77"/>
              <p:cNvSpPr/>
              <p:nvPr/>
            </p:nvSpPr>
            <p:spPr>
              <a:xfrm flipV="1">
                <a:off x="7340760" y="451728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81" name="Straight Connector 78"/>
              <p:cNvSpPr/>
              <p:nvPr/>
            </p:nvSpPr>
            <p:spPr>
              <a:xfrm flipV="1">
                <a:off x="7493040" y="451944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82" name="Straight Connector 79"/>
              <p:cNvSpPr/>
              <p:nvPr/>
            </p:nvSpPr>
            <p:spPr>
              <a:xfrm flipV="1">
                <a:off x="7645680" y="451944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83" name="Straight Connector 80"/>
              <p:cNvSpPr/>
              <p:nvPr/>
            </p:nvSpPr>
            <p:spPr>
              <a:xfrm flipV="1">
                <a:off x="7797960" y="451944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84" name="Straight Connector 81"/>
              <p:cNvSpPr/>
              <p:nvPr/>
            </p:nvSpPr>
            <p:spPr>
              <a:xfrm flipV="1">
                <a:off x="7950240" y="451944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85" name="Straight Connector 82"/>
              <p:cNvSpPr/>
              <p:nvPr/>
            </p:nvSpPr>
            <p:spPr>
              <a:xfrm flipV="1">
                <a:off x="8102880" y="451944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  <p:sp>
            <p:nvSpPr>
              <p:cNvPr id="186" name="Straight Connector 83"/>
              <p:cNvSpPr/>
              <p:nvPr/>
            </p:nvSpPr>
            <p:spPr>
              <a:xfrm flipV="1">
                <a:off x="8255160" y="451944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Nokia Sans Wide"/>
                </a:endParaRPr>
              </a:p>
            </p:txBody>
          </p:sp>
        </p:grpSp>
        <p:sp>
          <p:nvSpPr>
            <p:cNvPr id="187" name="TextBox 85"/>
            <p:cNvSpPr/>
            <p:nvPr/>
          </p:nvSpPr>
          <p:spPr>
            <a:xfrm>
              <a:off x="1596600" y="4773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Nokia Sans Wide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  <p:sp>
          <p:nvSpPr>
            <p:cNvPr id="188" name="TextBox 86"/>
            <p:cNvSpPr/>
            <p:nvPr/>
          </p:nvSpPr>
          <p:spPr>
            <a:xfrm>
              <a:off x="2315160" y="47829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Nokia Sans Wid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  <p:sp>
          <p:nvSpPr>
            <p:cNvPr id="189" name="TextBox 87"/>
            <p:cNvSpPr/>
            <p:nvPr/>
          </p:nvSpPr>
          <p:spPr>
            <a:xfrm>
              <a:off x="3071520" y="478152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Nokia Sans Wide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  <p:sp>
          <p:nvSpPr>
            <p:cNvPr id="190" name="TextBox 88"/>
            <p:cNvSpPr/>
            <p:nvPr/>
          </p:nvSpPr>
          <p:spPr>
            <a:xfrm>
              <a:off x="3828240" y="47829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Nokia Sans Wide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  <p:sp>
          <p:nvSpPr>
            <p:cNvPr id="191" name="TextBox 89"/>
            <p:cNvSpPr/>
            <p:nvPr/>
          </p:nvSpPr>
          <p:spPr>
            <a:xfrm>
              <a:off x="4583880" y="478152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Nokia Sans Wide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  <p:sp>
          <p:nvSpPr>
            <p:cNvPr id="192" name="TextBox 90"/>
            <p:cNvSpPr/>
            <p:nvPr/>
          </p:nvSpPr>
          <p:spPr>
            <a:xfrm>
              <a:off x="5339520" y="47800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Nokia Sans Wide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  <p:sp>
          <p:nvSpPr>
            <p:cNvPr id="193" name="TextBox 91"/>
            <p:cNvSpPr/>
            <p:nvPr/>
          </p:nvSpPr>
          <p:spPr>
            <a:xfrm>
              <a:off x="6095880" y="478152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Nokia Sans Wide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  <p:sp>
          <p:nvSpPr>
            <p:cNvPr id="194" name="TextBox 92"/>
            <p:cNvSpPr/>
            <p:nvPr/>
          </p:nvSpPr>
          <p:spPr>
            <a:xfrm>
              <a:off x="6869880" y="47847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Nokia Sans Wide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  <p:sp>
          <p:nvSpPr>
            <p:cNvPr id="195" name="TextBox 93"/>
            <p:cNvSpPr/>
            <p:nvPr/>
          </p:nvSpPr>
          <p:spPr>
            <a:xfrm>
              <a:off x="7625520" y="47829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Nokia Sans Wide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Nokia Sans Wide"/>
              </a:endParaRPr>
            </a:p>
          </p:txBody>
        </p:sp>
      </p:grpSp>
      <p:sp>
        <p:nvSpPr>
          <p:cNvPr id="196" name="Straight Connector 97"/>
          <p:cNvSpPr/>
          <p:nvPr/>
        </p:nvSpPr>
        <p:spPr>
          <a:xfrm flipV="1">
            <a:off x="1252440" y="3630600"/>
            <a:ext cx="0" cy="10080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7" name="Straight Connector 98"/>
          <p:cNvSpPr/>
          <p:nvPr/>
        </p:nvSpPr>
        <p:spPr>
          <a:xfrm flipV="1">
            <a:off x="1568520" y="3198600"/>
            <a:ext cx="0" cy="14396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8" name="Straight Connector 99"/>
          <p:cNvSpPr/>
          <p:nvPr/>
        </p:nvSpPr>
        <p:spPr>
          <a:xfrm flipV="1">
            <a:off x="1720800" y="3377880"/>
            <a:ext cx="0" cy="126036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9" name="Straight Connector 100"/>
          <p:cNvSpPr/>
          <p:nvPr/>
        </p:nvSpPr>
        <p:spPr>
          <a:xfrm flipV="1">
            <a:off x="2181240" y="2982600"/>
            <a:ext cx="0" cy="16556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0" name="Straight Connector 101"/>
          <p:cNvSpPr/>
          <p:nvPr/>
        </p:nvSpPr>
        <p:spPr>
          <a:xfrm flipV="1">
            <a:off x="2612880" y="3198600"/>
            <a:ext cx="0" cy="14396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1" name="Straight Connector 102"/>
          <p:cNvSpPr/>
          <p:nvPr/>
        </p:nvSpPr>
        <p:spPr>
          <a:xfrm flipV="1">
            <a:off x="2936880" y="3846600"/>
            <a:ext cx="0" cy="7920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2" name="Straight Connector 103"/>
          <p:cNvSpPr/>
          <p:nvPr/>
        </p:nvSpPr>
        <p:spPr>
          <a:xfrm flipV="1">
            <a:off x="4160880" y="3846600"/>
            <a:ext cx="0" cy="7920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3" name="Straight Connector 104"/>
          <p:cNvSpPr/>
          <p:nvPr/>
        </p:nvSpPr>
        <p:spPr>
          <a:xfrm flipV="1">
            <a:off x="4447440" y="4025880"/>
            <a:ext cx="4680" cy="61272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4" name="Straight Connector 105"/>
          <p:cNvSpPr/>
          <p:nvPr/>
        </p:nvSpPr>
        <p:spPr>
          <a:xfrm flipV="1">
            <a:off x="5060880" y="3630600"/>
            <a:ext cx="0" cy="10080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5" name="Straight Connector 106"/>
          <p:cNvSpPr/>
          <p:nvPr/>
        </p:nvSpPr>
        <p:spPr>
          <a:xfrm flipV="1">
            <a:off x="5969160" y="3378240"/>
            <a:ext cx="0" cy="126216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6" name="Straight Connector 107"/>
          <p:cNvSpPr/>
          <p:nvPr/>
        </p:nvSpPr>
        <p:spPr>
          <a:xfrm flipV="1">
            <a:off x="6861240" y="3522600"/>
            <a:ext cx="0" cy="11160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7" name="TextBox 118"/>
          <p:cNvSpPr/>
          <p:nvPr/>
        </p:nvSpPr>
        <p:spPr>
          <a:xfrm>
            <a:off x="3910320" y="50036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V Channel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pic>
        <p:nvPicPr>
          <p:cNvPr id="208" name="TextBox 119" descr=""/>
          <p:cNvPicPr/>
          <p:nvPr/>
        </p:nvPicPr>
        <p:blipFill>
          <a:blip r:embed="rId1"/>
          <a:stretch/>
        </p:blipFill>
        <p:spPr>
          <a:xfrm>
            <a:off x="347760" y="2036880"/>
            <a:ext cx="511200" cy="2846160"/>
          </a:xfrm>
          <a:prstGeom prst="rect">
            <a:avLst/>
          </a:prstGeom>
          <a:ln w="0">
            <a:noFill/>
          </a:ln>
        </p:spPr>
      </p:pic>
      <p:sp>
        <p:nvSpPr>
          <p:cNvPr id="209" name="Rectangular Callout 1"/>
          <p:cNvSpPr/>
          <p:nvPr/>
        </p:nvSpPr>
        <p:spPr>
          <a:xfrm>
            <a:off x="3975840" y="2609640"/>
            <a:ext cx="1484640" cy="363600"/>
          </a:xfrm>
          <a:prstGeom prst="wedgeRectCallout">
            <a:avLst>
              <a:gd name="adj1" fmla="val -83986"/>
              <a:gd name="adj2" fmla="val 34910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hite spac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0" name="Down Arrow 3"/>
          <p:cNvSpPr/>
          <p:nvPr/>
        </p:nvSpPr>
        <p:spPr>
          <a:xfrm>
            <a:off x="5205240" y="2987640"/>
            <a:ext cx="236880" cy="86364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1" name="Rounded Rectangular Callout 4"/>
          <p:cNvSpPr/>
          <p:nvPr/>
        </p:nvSpPr>
        <p:spPr>
          <a:xfrm>
            <a:off x="6867720" y="2428920"/>
            <a:ext cx="2774880" cy="780840"/>
          </a:xfrm>
          <a:prstGeom prst="wedgeRoundRectCallout">
            <a:avLst>
              <a:gd name="adj1" fmla="val -51074"/>
              <a:gd name="adj2" fmla="val 15064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Occupied TV Channel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algn="ctr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(at given location)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Problem statemen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SzPct val="45000"/>
              <a:buFont typeface="Wingdings"/>
              <a:buChar char="l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Nokia Sans Wide"/>
              </a:rPr>
              <a:t>Devices can utilize spectrum on a secondary basis if they can either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SzPct val="45000"/>
              <a:buFont typeface="Wingdings"/>
              <a:buChar char="l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Nokia Sans Wide"/>
              </a:rPr>
              <a:t>Sense that no one else is using it at a given time/locatio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SzPct val="45000"/>
              <a:buFont typeface="Wingdings"/>
              <a:buChar char="l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Nokia Sans Wide"/>
              </a:rPr>
              <a:t>Verifiy with a central entity (eg. Database) if spectrum is available for us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SzPct val="45000"/>
              <a:buFont typeface="Wingdings"/>
              <a:buChar char="l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Nokia Sans Wide"/>
              </a:rPr>
              <a:t>Sensing is a difficult task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SzPct val="45000"/>
              <a:buFont typeface="Wingdings"/>
              <a:buChar char="l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Nokia Sans Wide"/>
              </a:rPr>
              <a:t>Querying a database is much more simple and hence preferre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SzPct val="45000"/>
              <a:buFont typeface="Wingdings"/>
              <a:buChar char="l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SzPct val="45000"/>
              <a:buFont typeface="Wingdings"/>
              <a:buChar char="l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Nokia Sans Wide"/>
              </a:rPr>
              <a:t>In a nutshell: the problem being addressed is the ability to use spectrum by secondary users/devices at a given time/location without causing interference or problems to the primary user through a process of verifying spectrum availability by communicating  with a centralized database(s) which store the most relevant and current information about spectrum availability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DAAB-B2F9-4258-8EFC-CA256ED517B7}" type="slidenum">
              <a:rPr b="0" lang="ja-JP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Problems related to querying a database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Device needs to discover the relevant database to quer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query protocol that is understood by multiple databases and devices needs to exis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data model used in the query needs to accomodate specific aspects of the spectrum, region and regul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device needs to be aware of the location where it seeks to find available spectrum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7776-92C6-4412-8E7B-5A133448435D}" type="slidenum">
              <a:rPr b="0" lang="ja-JP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Other issues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pectrum availability (bands) can vary across regions and countri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regulations governing the use of such spectrum also depends on regional and national regulatory bodies. The query protocol needs to take this info conside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devices which intend to use the spectrum can vary in terms of their capabilities such as antenna height, power as well as whether they are fixed or mobil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573A-69D6-442C-B075-0355FFAB7479}" type="slidenum">
              <a:rPr b="0" lang="ja-JP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Next steps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commendation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Problem statement associated with PAWS should be progressed towards publication as an Informational RFC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lternatively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Problem statement can be included within the context of the requirements and use-cases I-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pinions?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If we have consensus for (1), request adoption as WG documen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1756-3C1C-438A-A7FD-6E95DD00D537}" type="slidenum">
              <a:rPr b="0" lang="ja-JP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3:47:17Z</dcterms:created>
  <dc:creator/>
  <dc:description/>
  <dc:language>en-US</dc:language>
  <cp:lastModifiedBy/>
  <dcterms:modified xsi:type="dcterms:W3CDTF">2011-07-26T03:47:0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itusGUID">
    <vt:lpwstr>91326f60-31d0-4608-9d50-852e68707614</vt:lpwstr>
  </property>
  <property fmtid="{D5CDD505-2E9C-101B-9397-08002B2CF9AE}" pid="3" name="Trial LicenseClassification">
    <vt:lpwstr>Personal</vt:lpwstr>
  </property>
</Properties>
</file>