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523B-F1DB-441B-B18A-576740B76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46F97-D939-49C4-9D75-3FA049560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3A101-D82C-47ED-ABFB-24893F148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526B2-01E4-4F95-BD76-22E0376DAA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55C34-1CB9-485B-853F-7E1CF3B4E7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C5871-5873-4306-9D36-2131652BFC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B815C-6064-4C0A-B363-99E88E46C1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4E9CB-ECAE-4BEA-9DBB-F1E1CD127B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C895C-E278-42D4-B2F3-EEF9F8BBFF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83960" y="-360"/>
            <a:ext cx="953748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25B40-78EE-43AA-B003-A912D13812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A7429-A4B2-4387-BEF2-C92A5272DB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DF03A-A2F9-4426-ADEA-25D3BDAD58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915F9-AC6C-461B-A9E1-1C2D9A5DA0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BE8CD-35AC-4CAF-84ED-C7E751DC7F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DA72A-5F58-4CA6-A0CF-06CA03E43E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1DD02-7EAE-43FF-8392-7D1535EC21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71502-B6AD-42AC-9FAD-6A2FB89FDC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A367-FA2C-45A7-A065-06FD0642E6A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45A2-2CE2-4385-BAEE-DB032E96DA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D85E-7A90-4E73-ABF7-676086E99D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5307-5E20-4C61-917F-BED9AF666B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97CB-1CE3-4136-9381-4C574A6078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42C6D-51AB-4624-B14E-A2327ED5A5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83960" y="-360"/>
            <a:ext cx="953748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391E-5EF2-4146-B0A5-3FF1358E79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D13F-A3D7-4174-B2D8-554A8E9393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0AAC-9AC4-405D-8764-E3554EE2F9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8F31-964A-499D-9F3C-AF18B277AA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C07D-6771-478E-BB1C-0E7AA59F27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5B0D-43BA-49A7-BC34-E549F9232C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E29E-0934-45B6-ABBC-9858DC416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F405-531D-4752-9807-AFCA8015A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BC31-4EF2-4F76-8A63-AB25B592F2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3960" y="-360"/>
            <a:ext cx="953748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92234-4918-4625-BEF4-B1164F60F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D1F7-E423-44CB-98CE-FCED8EED4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9E82-61CE-413B-B492-B7AA3714C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EC654-1E43-4376-892E-3F8637B3E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2" name="Group 11"/>
          <p:cNvGrpSpPr/>
          <p:nvPr/>
        </p:nvGrpSpPr>
        <p:grpSpPr>
          <a:xfrm>
            <a:off x="8156520" y="6300720"/>
            <a:ext cx="1468440" cy="366840"/>
            <a:chOff x="8156520" y="6300720"/>
            <a:chExt cx="1468440" cy="366840"/>
          </a:xfrm>
        </p:grpSpPr>
        <p:pic>
          <p:nvPicPr>
            <p:cNvPr id="3" name="Picture 8" descr="Logotype_RGB_33mm300dpi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Rectangle 9"/>
            <p:cNvSpPr/>
            <p:nvPr/>
          </p:nvSpPr>
          <p:spPr>
            <a:xfrm>
              <a:off x="8156520" y="6300720"/>
              <a:ext cx="182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okia Sans Wide"/>
              </a:endParaRPr>
            </a:p>
          </p:txBody>
        </p:sp>
      </p:grp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04D5-D0A4-4CF6-AC24-A6890F4677C3}" type="slidenum"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1532-E4A6-4856-BDDB-89A5DB6EC9BC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1"/>
          <p:cNvGrpSpPr/>
          <p:nvPr/>
        </p:nvGrpSpPr>
        <p:grpSpPr>
          <a:xfrm>
            <a:off x="8156520" y="6300720"/>
            <a:ext cx="1468440" cy="366840"/>
            <a:chOff x="8156520" y="6300720"/>
            <a:chExt cx="1468440" cy="366840"/>
          </a:xfrm>
        </p:grpSpPr>
        <p:pic>
          <p:nvPicPr>
            <p:cNvPr id="82" name="Picture 8" descr="Logotype_RGB_33mm300dpi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9"/>
            <p:cNvSpPr/>
            <p:nvPr/>
          </p:nvSpPr>
          <p:spPr>
            <a:xfrm>
              <a:off x="8156520" y="6300720"/>
              <a:ext cx="182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okia Sans Wide"/>
              </a:endParaRPr>
            </a:p>
          </p:txBody>
        </p:sp>
      </p:grpSp>
      <p:sp>
        <p:nvSpPr>
          <p:cNvPr id="84" name="Rectangle 7"/>
          <p:cNvSpPr/>
          <p:nvPr/>
        </p:nvSpPr>
        <p:spPr>
          <a:xfrm>
            <a:off x="8265960" y="6273720"/>
            <a:ext cx="1455840" cy="44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3987000" y="6518160"/>
            <a:ext cx="196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  <a:ea typeface="MS PGothic"/>
              </a:rPr>
              <a:t>PAWS @ IETF81 - Quebec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3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DE5A-6890-4B95-BE6B-6A66BED00FA2}" type="slidenum"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"/>
          <p:cNvSpPr/>
          <p:nvPr/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359C-9335-4F32-BCF2-7F3931DC05FF}" type="slidenum">
              <a:rPr b="0" lang="en-GB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5400" y="644040"/>
            <a:ext cx="9720360" cy="310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PAWS: Problem statement</a:t>
            </a:r>
            <a:br>
              <a:rPr sz="6000"/>
            </a:br>
            <a:endParaRPr b="1" lang="en-US" sz="6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96920" y="4549320"/>
            <a:ext cx="778032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Nokia Large"/>
              </a:rPr>
              <a:t>Basavaraj Patil, Scott Probasco, Gabor Bajko and, Brian Rosen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2726640" y="3608280"/>
            <a:ext cx="45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Nokia Sans Wide"/>
              </a:rPr>
              <a:t>I-D: draft-patil-paws-problem-stmt-02.txt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45760" y="115560"/>
            <a:ext cx="683244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Overview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65280" y="974880"/>
            <a:ext cx="9067680" cy="522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White space (WS): In a spectrum band that is licensed to primary users, the part of spectrum that is unused by the primary user at specific </a:t>
            </a:r>
            <a:r>
              <a:rPr b="1" lang="en-US" sz="2000" spc="-1" strike="noStrike">
                <a:solidFill>
                  <a:srgbClr val="ff0000"/>
                </a:solidFill>
                <a:latin typeface="Nokia Sans Wide"/>
              </a:rPr>
              <a:t>locations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and sometimes at specific </a:t>
            </a:r>
            <a:r>
              <a:rPr b="1" lang="en-US" sz="2000" spc="-1" strike="noStrike">
                <a:solidFill>
                  <a:srgbClr val="ff0000"/>
                </a:solidFill>
                <a:latin typeface="Nokia Sans Wide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00"/>
              </a:spcBef>
              <a:spcAft>
                <a:spcPts val="300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Example: Television Channels – not every channel is used in every town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oncept of a primary user of the spectrum (licensed); However not all of the spectrum may be used all the time or at any location(s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Opens up the possbility of the spectrum being used by secondary users as long as there is no impact to the primary user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B60F-1999-4792-B841-D5F030FE32B6}" type="slidenum">
              <a:rPr b="0" lang="ja-JP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0960" y="-360"/>
            <a:ext cx="637560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White Space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4BFE-8B4F-4079-98F1-3403027B27B6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134" name="Group 95"/>
          <p:cNvGrpSpPr/>
          <p:nvPr/>
        </p:nvGrpSpPr>
        <p:grpSpPr>
          <a:xfrm>
            <a:off x="955800" y="2262960"/>
            <a:ext cx="7884720" cy="2768040"/>
            <a:chOff x="955800" y="2262960"/>
            <a:chExt cx="7884720" cy="2768040"/>
          </a:xfrm>
        </p:grpSpPr>
        <p:grpSp>
          <p:nvGrpSpPr>
            <p:cNvPr id="135" name="Group 84"/>
            <p:cNvGrpSpPr/>
            <p:nvPr/>
          </p:nvGrpSpPr>
          <p:grpSpPr>
            <a:xfrm>
              <a:off x="955800" y="2262960"/>
              <a:ext cx="7884720" cy="2508480"/>
              <a:chOff x="955800" y="2262960"/>
              <a:chExt cx="7884720" cy="2508480"/>
            </a:xfrm>
          </p:grpSpPr>
          <p:grpSp>
            <p:nvGrpSpPr>
              <p:cNvPr id="136" name="Group 18"/>
              <p:cNvGrpSpPr/>
              <p:nvPr/>
            </p:nvGrpSpPr>
            <p:grpSpPr>
              <a:xfrm>
                <a:off x="955800" y="2262960"/>
                <a:ext cx="7884720" cy="2378160"/>
                <a:chOff x="955800" y="2262960"/>
                <a:chExt cx="7884720" cy="2378160"/>
              </a:xfrm>
            </p:grpSpPr>
            <p:cxnSp>
              <p:nvCxnSpPr>
                <p:cNvPr id="137" name="Straight Arrow Connector 15"/>
                <p:cNvCxnSpPr/>
                <p:nvPr/>
              </p:nvCxnSpPr>
              <p:spPr>
                <a:xfrm>
                  <a:off x="956160" y="4639320"/>
                  <a:ext cx="7884720" cy="2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138" name="Straight Arrow Connector 17"/>
                <p:cNvCxnSpPr/>
                <p:nvPr/>
              </p:nvCxnSpPr>
              <p:spPr>
                <a:xfrm flipV="1">
                  <a:off x="955800" y="2262960"/>
                  <a:ext cx="2160" cy="2378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139" name="Straight Connector 22"/>
              <p:cNvSpPr/>
              <p:nvPr/>
            </p:nvSpPr>
            <p:spPr>
              <a:xfrm flipV="1">
                <a:off x="1100520" y="451332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40" name="Straight Connector 23"/>
              <p:cNvSpPr/>
              <p:nvPr/>
            </p:nvSpPr>
            <p:spPr>
              <a:xfrm flipV="1">
                <a:off x="1252800" y="451332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41" name="Straight Connector 38"/>
              <p:cNvSpPr/>
              <p:nvPr/>
            </p:nvSpPr>
            <p:spPr>
              <a:xfrm flipV="1">
                <a:off x="1405080" y="451332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42" name="Straight Connector 39"/>
              <p:cNvSpPr/>
              <p:nvPr/>
            </p:nvSpPr>
            <p:spPr>
              <a:xfrm flipV="1">
                <a:off x="1557720" y="451332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43" name="Straight Connector 40"/>
              <p:cNvSpPr/>
              <p:nvPr/>
            </p:nvSpPr>
            <p:spPr>
              <a:xfrm flipV="1">
                <a:off x="1710000" y="451332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44" name="Straight Connector 41"/>
              <p:cNvSpPr/>
              <p:nvPr/>
            </p:nvSpPr>
            <p:spPr>
              <a:xfrm flipV="1">
                <a:off x="1862280" y="451332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45" name="Straight Connector 42"/>
              <p:cNvSpPr/>
              <p:nvPr/>
            </p:nvSpPr>
            <p:spPr>
              <a:xfrm flipV="1">
                <a:off x="2014920" y="45154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46" name="Straight Connector 43"/>
              <p:cNvSpPr/>
              <p:nvPr/>
            </p:nvSpPr>
            <p:spPr>
              <a:xfrm flipV="1">
                <a:off x="2167200" y="45154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47" name="Straight Connector 44"/>
              <p:cNvSpPr/>
              <p:nvPr/>
            </p:nvSpPr>
            <p:spPr>
              <a:xfrm flipV="1">
                <a:off x="2319480" y="45154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48" name="Straight Connector 45"/>
              <p:cNvSpPr/>
              <p:nvPr/>
            </p:nvSpPr>
            <p:spPr>
              <a:xfrm flipV="1">
                <a:off x="2472120" y="45154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49" name="Straight Connector 46"/>
              <p:cNvSpPr/>
              <p:nvPr/>
            </p:nvSpPr>
            <p:spPr>
              <a:xfrm flipV="1">
                <a:off x="2624400" y="45154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50" name="Straight Connector 47"/>
              <p:cNvSpPr/>
              <p:nvPr/>
            </p:nvSpPr>
            <p:spPr>
              <a:xfrm flipV="1">
                <a:off x="2776680" y="45154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51" name="Straight Connector 48"/>
              <p:cNvSpPr/>
              <p:nvPr/>
            </p:nvSpPr>
            <p:spPr>
              <a:xfrm flipV="1">
                <a:off x="2929320" y="45154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52" name="Straight Connector 49"/>
              <p:cNvSpPr/>
              <p:nvPr/>
            </p:nvSpPr>
            <p:spPr>
              <a:xfrm flipV="1">
                <a:off x="3081600" y="45154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53" name="Straight Connector 50"/>
              <p:cNvSpPr/>
              <p:nvPr/>
            </p:nvSpPr>
            <p:spPr>
              <a:xfrm flipV="1">
                <a:off x="3233880" y="45154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54" name="Straight Connector 51"/>
              <p:cNvSpPr/>
              <p:nvPr/>
            </p:nvSpPr>
            <p:spPr>
              <a:xfrm flipV="1">
                <a:off x="3386520" y="45154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55" name="Straight Connector 52"/>
              <p:cNvSpPr/>
              <p:nvPr/>
            </p:nvSpPr>
            <p:spPr>
              <a:xfrm flipV="1">
                <a:off x="3538800" y="45154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56" name="Straight Connector 53"/>
              <p:cNvSpPr/>
              <p:nvPr/>
            </p:nvSpPr>
            <p:spPr>
              <a:xfrm flipV="1">
                <a:off x="3691080" y="45154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57" name="Straight Connector 54"/>
              <p:cNvSpPr/>
              <p:nvPr/>
            </p:nvSpPr>
            <p:spPr>
              <a:xfrm flipV="1">
                <a:off x="3843720" y="451800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58" name="Straight Connector 55"/>
              <p:cNvSpPr/>
              <p:nvPr/>
            </p:nvSpPr>
            <p:spPr>
              <a:xfrm flipV="1">
                <a:off x="3996000" y="451800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59" name="Straight Connector 56"/>
              <p:cNvSpPr/>
              <p:nvPr/>
            </p:nvSpPr>
            <p:spPr>
              <a:xfrm flipV="1">
                <a:off x="4148280" y="451800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60" name="Straight Connector 57"/>
              <p:cNvSpPr/>
              <p:nvPr/>
            </p:nvSpPr>
            <p:spPr>
              <a:xfrm flipV="1">
                <a:off x="4300560" y="451800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61" name="Straight Connector 58"/>
              <p:cNvSpPr/>
              <p:nvPr/>
            </p:nvSpPr>
            <p:spPr>
              <a:xfrm flipV="1">
                <a:off x="4453200" y="451800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62" name="Straight Connector 59"/>
              <p:cNvSpPr/>
              <p:nvPr/>
            </p:nvSpPr>
            <p:spPr>
              <a:xfrm flipV="1">
                <a:off x="4605480" y="451800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63" name="Straight Connector 60"/>
              <p:cNvSpPr/>
              <p:nvPr/>
            </p:nvSpPr>
            <p:spPr>
              <a:xfrm flipV="1">
                <a:off x="4750200" y="451476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64" name="Straight Connector 61"/>
              <p:cNvSpPr/>
              <p:nvPr/>
            </p:nvSpPr>
            <p:spPr>
              <a:xfrm flipV="1">
                <a:off x="4902480" y="451476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65" name="Straight Connector 62"/>
              <p:cNvSpPr/>
              <p:nvPr/>
            </p:nvSpPr>
            <p:spPr>
              <a:xfrm flipV="1">
                <a:off x="5054760" y="451476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66" name="Straight Connector 63"/>
              <p:cNvSpPr/>
              <p:nvPr/>
            </p:nvSpPr>
            <p:spPr>
              <a:xfrm flipV="1">
                <a:off x="5207400" y="451476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67" name="Straight Connector 64"/>
              <p:cNvSpPr/>
              <p:nvPr/>
            </p:nvSpPr>
            <p:spPr>
              <a:xfrm flipV="1">
                <a:off x="5359680" y="451476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68" name="Straight Connector 65"/>
              <p:cNvSpPr/>
              <p:nvPr/>
            </p:nvSpPr>
            <p:spPr>
              <a:xfrm flipV="1">
                <a:off x="5511960" y="451476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69" name="Straight Connector 66"/>
              <p:cNvSpPr/>
              <p:nvPr/>
            </p:nvSpPr>
            <p:spPr>
              <a:xfrm flipV="1">
                <a:off x="5664240" y="45172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70" name="Straight Connector 67"/>
              <p:cNvSpPr/>
              <p:nvPr/>
            </p:nvSpPr>
            <p:spPr>
              <a:xfrm flipV="1">
                <a:off x="5816880" y="45172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71" name="Straight Connector 68"/>
              <p:cNvSpPr/>
              <p:nvPr/>
            </p:nvSpPr>
            <p:spPr>
              <a:xfrm flipV="1">
                <a:off x="5969160" y="45172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72" name="Straight Connector 69"/>
              <p:cNvSpPr/>
              <p:nvPr/>
            </p:nvSpPr>
            <p:spPr>
              <a:xfrm flipV="1">
                <a:off x="6121440" y="45172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73" name="Straight Connector 70"/>
              <p:cNvSpPr/>
              <p:nvPr/>
            </p:nvSpPr>
            <p:spPr>
              <a:xfrm flipV="1">
                <a:off x="6274080" y="45172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74" name="Straight Connector 71"/>
              <p:cNvSpPr/>
              <p:nvPr/>
            </p:nvSpPr>
            <p:spPr>
              <a:xfrm flipV="1">
                <a:off x="6426360" y="45172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75" name="Straight Connector 72"/>
              <p:cNvSpPr/>
              <p:nvPr/>
            </p:nvSpPr>
            <p:spPr>
              <a:xfrm flipV="1">
                <a:off x="6578640" y="45172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76" name="Straight Connector 73"/>
              <p:cNvSpPr/>
              <p:nvPr/>
            </p:nvSpPr>
            <p:spPr>
              <a:xfrm flipV="1">
                <a:off x="6731280" y="45172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77" name="Straight Connector 74"/>
              <p:cNvSpPr/>
              <p:nvPr/>
            </p:nvSpPr>
            <p:spPr>
              <a:xfrm flipV="1">
                <a:off x="6883560" y="45172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78" name="Straight Connector 75"/>
              <p:cNvSpPr/>
              <p:nvPr/>
            </p:nvSpPr>
            <p:spPr>
              <a:xfrm flipV="1">
                <a:off x="7035840" y="45172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79" name="Straight Connector 76"/>
              <p:cNvSpPr/>
              <p:nvPr/>
            </p:nvSpPr>
            <p:spPr>
              <a:xfrm flipV="1">
                <a:off x="7188480" y="45172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80" name="Straight Connector 77"/>
              <p:cNvSpPr/>
              <p:nvPr/>
            </p:nvSpPr>
            <p:spPr>
              <a:xfrm flipV="1">
                <a:off x="7340760" y="45172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81" name="Straight Connector 78"/>
              <p:cNvSpPr/>
              <p:nvPr/>
            </p:nvSpPr>
            <p:spPr>
              <a:xfrm flipV="1">
                <a:off x="7493040" y="451944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82" name="Straight Connector 79"/>
              <p:cNvSpPr/>
              <p:nvPr/>
            </p:nvSpPr>
            <p:spPr>
              <a:xfrm flipV="1">
                <a:off x="7645680" y="451944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83" name="Straight Connector 80"/>
              <p:cNvSpPr/>
              <p:nvPr/>
            </p:nvSpPr>
            <p:spPr>
              <a:xfrm flipV="1">
                <a:off x="7797960" y="451944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84" name="Straight Connector 81"/>
              <p:cNvSpPr/>
              <p:nvPr/>
            </p:nvSpPr>
            <p:spPr>
              <a:xfrm flipV="1">
                <a:off x="7950240" y="451944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85" name="Straight Connector 82"/>
              <p:cNvSpPr/>
              <p:nvPr/>
            </p:nvSpPr>
            <p:spPr>
              <a:xfrm flipV="1">
                <a:off x="8102880" y="451944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86" name="Straight Connector 83"/>
              <p:cNvSpPr/>
              <p:nvPr/>
            </p:nvSpPr>
            <p:spPr>
              <a:xfrm flipV="1">
                <a:off x="8255160" y="451944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</p:grpSp>
        <p:sp>
          <p:nvSpPr>
            <p:cNvPr id="187" name="TextBox 85"/>
            <p:cNvSpPr/>
            <p:nvPr/>
          </p:nvSpPr>
          <p:spPr>
            <a:xfrm>
              <a:off x="1596600" y="47736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Nokia Sans Wide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Nokia Sans Wide"/>
              </a:endParaRPr>
            </a:p>
          </p:txBody>
        </p:sp>
        <p:sp>
          <p:nvSpPr>
            <p:cNvPr id="188" name="TextBox 86"/>
            <p:cNvSpPr/>
            <p:nvPr/>
          </p:nvSpPr>
          <p:spPr>
            <a:xfrm>
              <a:off x="2315160" y="47829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Nokia Sans Wid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Nokia Sans Wide"/>
              </a:endParaRPr>
            </a:p>
          </p:txBody>
        </p:sp>
        <p:sp>
          <p:nvSpPr>
            <p:cNvPr id="189" name="TextBox 87"/>
            <p:cNvSpPr/>
            <p:nvPr/>
          </p:nvSpPr>
          <p:spPr>
            <a:xfrm>
              <a:off x="3071520" y="478152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Nokia Sans Wide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Nokia Sans Wide"/>
              </a:endParaRPr>
            </a:p>
          </p:txBody>
        </p:sp>
        <p:sp>
          <p:nvSpPr>
            <p:cNvPr id="190" name="TextBox 88"/>
            <p:cNvSpPr/>
            <p:nvPr/>
          </p:nvSpPr>
          <p:spPr>
            <a:xfrm>
              <a:off x="3828240" y="47829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Nokia Sans Wide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Nokia Sans Wide"/>
              </a:endParaRPr>
            </a:p>
          </p:txBody>
        </p:sp>
        <p:sp>
          <p:nvSpPr>
            <p:cNvPr id="191" name="TextBox 89"/>
            <p:cNvSpPr/>
            <p:nvPr/>
          </p:nvSpPr>
          <p:spPr>
            <a:xfrm>
              <a:off x="4583880" y="478152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Nokia Sans Wide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Nokia Sans Wide"/>
              </a:endParaRPr>
            </a:p>
          </p:txBody>
        </p:sp>
        <p:sp>
          <p:nvSpPr>
            <p:cNvPr id="192" name="TextBox 90"/>
            <p:cNvSpPr/>
            <p:nvPr/>
          </p:nvSpPr>
          <p:spPr>
            <a:xfrm>
              <a:off x="5339520" y="478008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Nokia Sans Wide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Nokia Sans Wide"/>
              </a:endParaRPr>
            </a:p>
          </p:txBody>
        </p:sp>
        <p:sp>
          <p:nvSpPr>
            <p:cNvPr id="193" name="TextBox 91"/>
            <p:cNvSpPr/>
            <p:nvPr/>
          </p:nvSpPr>
          <p:spPr>
            <a:xfrm>
              <a:off x="6095880" y="478152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Nokia Sans Wide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Nokia Sans Wide"/>
              </a:endParaRPr>
            </a:p>
          </p:txBody>
        </p:sp>
        <p:sp>
          <p:nvSpPr>
            <p:cNvPr id="194" name="TextBox 92"/>
            <p:cNvSpPr/>
            <p:nvPr/>
          </p:nvSpPr>
          <p:spPr>
            <a:xfrm>
              <a:off x="6869880" y="47847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Nokia Sans Wide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Nokia Sans Wide"/>
              </a:endParaRPr>
            </a:p>
          </p:txBody>
        </p:sp>
        <p:sp>
          <p:nvSpPr>
            <p:cNvPr id="195" name="TextBox 93"/>
            <p:cNvSpPr/>
            <p:nvPr/>
          </p:nvSpPr>
          <p:spPr>
            <a:xfrm>
              <a:off x="7625520" y="47829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Nokia Sans Wide"/>
                </a:rPr>
                <a:t>45</a:t>
              </a:r>
              <a:endParaRPr b="0" lang="en-US" sz="1000" spc="-1" strike="noStrike">
                <a:solidFill>
                  <a:srgbClr val="000000"/>
                </a:solidFill>
                <a:latin typeface="Nokia Sans Wide"/>
              </a:endParaRPr>
            </a:p>
          </p:txBody>
        </p:sp>
      </p:grpSp>
      <p:sp>
        <p:nvSpPr>
          <p:cNvPr id="196" name="Straight Connector 97"/>
          <p:cNvSpPr/>
          <p:nvPr/>
        </p:nvSpPr>
        <p:spPr>
          <a:xfrm flipV="1">
            <a:off x="1252440" y="3630600"/>
            <a:ext cx="0" cy="10080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7" name="Straight Connector 98"/>
          <p:cNvSpPr/>
          <p:nvPr/>
        </p:nvSpPr>
        <p:spPr>
          <a:xfrm flipV="1">
            <a:off x="1568520" y="3198600"/>
            <a:ext cx="0" cy="143964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8" name="Straight Connector 99"/>
          <p:cNvSpPr/>
          <p:nvPr/>
        </p:nvSpPr>
        <p:spPr>
          <a:xfrm flipV="1">
            <a:off x="1720800" y="3377880"/>
            <a:ext cx="0" cy="126036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9" name="Straight Connector 100"/>
          <p:cNvSpPr/>
          <p:nvPr/>
        </p:nvSpPr>
        <p:spPr>
          <a:xfrm flipV="1">
            <a:off x="2181240" y="2982600"/>
            <a:ext cx="0" cy="165564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00" name="Straight Connector 101"/>
          <p:cNvSpPr/>
          <p:nvPr/>
        </p:nvSpPr>
        <p:spPr>
          <a:xfrm flipV="1">
            <a:off x="2612880" y="3198600"/>
            <a:ext cx="0" cy="143964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01" name="Straight Connector 102"/>
          <p:cNvSpPr/>
          <p:nvPr/>
        </p:nvSpPr>
        <p:spPr>
          <a:xfrm flipV="1">
            <a:off x="2936880" y="3846600"/>
            <a:ext cx="0" cy="7920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02" name="Straight Connector 103"/>
          <p:cNvSpPr/>
          <p:nvPr/>
        </p:nvSpPr>
        <p:spPr>
          <a:xfrm flipV="1">
            <a:off x="4160880" y="3846600"/>
            <a:ext cx="0" cy="7920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03" name="Straight Connector 104"/>
          <p:cNvSpPr/>
          <p:nvPr/>
        </p:nvSpPr>
        <p:spPr>
          <a:xfrm flipV="1">
            <a:off x="4447440" y="4025880"/>
            <a:ext cx="4680" cy="61272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04" name="Straight Connector 105"/>
          <p:cNvSpPr/>
          <p:nvPr/>
        </p:nvSpPr>
        <p:spPr>
          <a:xfrm flipV="1">
            <a:off x="5060880" y="3630600"/>
            <a:ext cx="0" cy="10080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05" name="Straight Connector 106"/>
          <p:cNvSpPr/>
          <p:nvPr/>
        </p:nvSpPr>
        <p:spPr>
          <a:xfrm flipV="1">
            <a:off x="5969160" y="3378240"/>
            <a:ext cx="0" cy="126216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06" name="Straight Connector 107"/>
          <p:cNvSpPr/>
          <p:nvPr/>
        </p:nvSpPr>
        <p:spPr>
          <a:xfrm flipV="1">
            <a:off x="6861240" y="3522600"/>
            <a:ext cx="0" cy="11160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07" name="TextBox 118"/>
          <p:cNvSpPr/>
          <p:nvPr/>
        </p:nvSpPr>
        <p:spPr>
          <a:xfrm>
            <a:off x="3910320" y="500364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TV Channel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pic>
        <p:nvPicPr>
          <p:cNvPr id="208" name="TextBox 119" descr=""/>
          <p:cNvPicPr/>
          <p:nvPr/>
        </p:nvPicPr>
        <p:blipFill>
          <a:blip r:embed="rId1"/>
          <a:stretch/>
        </p:blipFill>
        <p:spPr>
          <a:xfrm>
            <a:off x="347760" y="2036880"/>
            <a:ext cx="511200" cy="2846160"/>
          </a:xfrm>
          <a:prstGeom prst="rect">
            <a:avLst/>
          </a:prstGeom>
          <a:ln w="0">
            <a:noFill/>
          </a:ln>
        </p:spPr>
      </p:pic>
      <p:sp>
        <p:nvSpPr>
          <p:cNvPr id="209" name="Rectangular Callout 1"/>
          <p:cNvSpPr/>
          <p:nvPr/>
        </p:nvSpPr>
        <p:spPr>
          <a:xfrm>
            <a:off x="3975840" y="2609640"/>
            <a:ext cx="1484640" cy="363600"/>
          </a:xfrm>
          <a:prstGeom prst="wedgeRectCallout">
            <a:avLst>
              <a:gd name="adj1" fmla="val -83986"/>
              <a:gd name="adj2" fmla="val 34910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hite spac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0" name="Down Arrow 3"/>
          <p:cNvSpPr/>
          <p:nvPr/>
        </p:nvSpPr>
        <p:spPr>
          <a:xfrm>
            <a:off x="5205240" y="2987640"/>
            <a:ext cx="236880" cy="86364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1" name="Rounded Rectangular Callout 4"/>
          <p:cNvSpPr/>
          <p:nvPr/>
        </p:nvSpPr>
        <p:spPr>
          <a:xfrm>
            <a:off x="6867720" y="2428920"/>
            <a:ext cx="2774880" cy="780840"/>
          </a:xfrm>
          <a:prstGeom prst="wedgeRoundRectCallout">
            <a:avLst>
              <a:gd name="adj1" fmla="val -51074"/>
              <a:gd name="adj2" fmla="val 15064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Occupied TV Channel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algn="ctr"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(at given location)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Problem statemen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SzPct val="45000"/>
              <a:buFont typeface="Wingdings"/>
              <a:buChar char="l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Nokia Sans Wide"/>
              </a:rPr>
              <a:t>Devices can utilize spectrum on a secondary basis if they can either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SzPct val="45000"/>
              <a:buFont typeface="Wingdings"/>
              <a:buChar char="l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Nokia Sans Wide"/>
              </a:rPr>
              <a:t>Sense that no one else is using it at a given time/locatio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SzPct val="45000"/>
              <a:buFont typeface="Wingdings"/>
              <a:buChar char="l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Nokia Sans Wide"/>
              </a:rPr>
              <a:t>Verifiy with a central entity (eg. Database) if spectrum is available for us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SzPct val="45000"/>
              <a:buFont typeface="Wingdings"/>
              <a:buChar char="l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Nokia Sans Wide"/>
              </a:rPr>
              <a:t>Sensing is a difficult task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SzPct val="45000"/>
              <a:buFont typeface="Wingdings"/>
              <a:buChar char="l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Nokia Sans Wide"/>
              </a:rPr>
              <a:t>Querying a database is much more simple and hence preferred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SzPct val="45000"/>
              <a:buFont typeface="Wingdings"/>
              <a:buChar char="l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SzPct val="45000"/>
              <a:buFont typeface="Wingdings"/>
              <a:buChar char="l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Nokia Sans Wide"/>
              </a:rPr>
              <a:t>In a nutshell: the problem being addressed is the ability to use spectrum by secondary users/devices at a given time/location without causing interference or problems to the primary user through a process of verifying spectrum availability by communicating  with a centralized database(s) which store the most relevant and current information about spectrum availability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00A2-8F08-4209-BB0A-268C682408BE}" type="slidenum">
              <a:rPr b="0" lang="ja-JP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Problems related to querying a database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 Device needs to discover the relevant database to query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 query protocol that is understood by multiple databases and devices needs to exis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e data model used in the query needs to accomodate specific aspects of the spectrum, region and regula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e device needs to be aware of the location where it seeks to find available spectrum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79B3-24F6-44B2-AFFF-FF024074EC8A}" type="slidenum">
              <a:rPr b="0" lang="ja-JP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Other issues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pectrum availability (bands) can vary across regions and countrie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e regulations governing the use of such spectrum also depends on regional and national regulatory bodies. The query protocol needs to take this info considera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e devices which intend to use the spectrum can vary in terms of their capabilities such as antenna height, power as well as whether they are fixed or mobil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7FAF-5A72-424D-8714-72D7D8BEFC4D}" type="slidenum">
              <a:rPr b="0" lang="ja-JP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Next steps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Recommendation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e Problem statement associated with PAWS should be progressed towards publication as an Informational RFC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lternatively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e Problem statement can be included within the context of the requirements and use-cases I-D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Opinions?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If we have consensus for (1), request adoption as WG documen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200F-0888-4AE5-9F10-5BDEFF38E2FF}" type="slidenum">
              <a:rPr b="0" lang="ja-JP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3:47:17Z</dcterms:created>
  <dc:creator/>
  <dc:description/>
  <dc:language>en-US</dc:language>
  <cp:lastModifiedBy/>
  <dcterms:modified xsi:type="dcterms:W3CDTF">2011-07-26T03:47:0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itusGUID">
    <vt:lpwstr>91326f60-31d0-4608-9d50-852e68707614</vt:lpwstr>
  </property>
  <property fmtid="{D5CDD505-2E9C-101B-9397-08002B2CF9AE}" pid="3" name="Trial LicenseClassification">
    <vt:lpwstr>Personal</vt:lpwstr>
  </property>
</Properties>
</file>