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EEE-B91B-4EC9-ABF1-FEF80623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0577-A6F3-4A12-89F8-5861357B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AC05-8F10-4BF1-B969-FFD16CEA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B6D3-D8A9-46A7-85EA-D52ACC38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814-4762-4659-A9BC-FD6C7841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55F-0489-4285-BF54-E009C2CE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9A03-6A83-4E6B-9AB6-0CCBAA95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49D-D1D5-4683-AF18-A11DE30E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1CD9-6991-4165-AE60-811CA139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3E25-BC2D-45DD-B43B-A4DEFF77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8F7-BBA4-4A03-AFA9-724D2CFC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08F-2250-48A0-BA49-82581FC7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th Mar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th IETF @ Pra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3D78-DA4F-4D52-97C6-2886F98F9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hruvd@huawei.com" TargetMode="External"/><Relationship Id="rId2" Type="http://schemas.openxmlformats.org/officeDocument/2006/relationships/hyperlink" Target="mailto:udayasreepalle@huawei.com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Encoding of Data Structure (DS) in the Path Computation Element Communication Protocol (PCEP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23960" y="32004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dhody-pce-pcep-ds-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723960" y="434340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hruv Dhody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dhruvd@huawei.com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Udayasree Palle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ndara"/>
                <a:hlinkClick r:id="rId2"/>
              </a:rPr>
              <a:t>udayasreepalle@huawei.com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Backup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304920" y="121932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Path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"/>
          <p:cNvGrpSpPr/>
          <p:nvPr/>
        </p:nvGrpSpPr>
        <p:grpSpPr>
          <a:xfrm>
            <a:off x="1704960" y="2057400"/>
            <a:ext cx="5734080" cy="3467160"/>
            <a:chOff x="1704960" y="2057400"/>
            <a:chExt cx="5734080" cy="3467160"/>
          </a:xfrm>
        </p:grpSpPr>
        <p:sp>
          <p:nvSpPr>
            <p:cNvPr id="75" name="AutoShape 7"/>
            <p:cNvSpPr/>
            <p:nvPr/>
          </p:nvSpPr>
          <p:spPr>
            <a:xfrm>
              <a:off x="1704960" y="2057400"/>
              <a:ext cx="5734080" cy="34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6"/>
            <p:cNvSpPr/>
            <p:nvPr/>
          </p:nvSpPr>
          <p:spPr>
            <a:xfrm>
              <a:off x="2837880" y="2453760"/>
              <a:ext cx="400680" cy="2772720"/>
            </a:xfrm>
            <a:custGeom>
              <a:avLst/>
              <a:gdLst>
                <a:gd name="textAreaLeft" fmla="*/ 255960 w 400680"/>
                <a:gd name="textAreaRight" fmla="*/ 401040 w 400680"/>
                <a:gd name="textAreaTop" fmla="*/ 72000 h 2772720"/>
                <a:gd name="textAreaBottom" fmla="*/ 2700720 h 27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282"/>
                  </a:lnTo>
                  <a:cubicBezTo>
                    <a:pt x="10800" y="10182"/>
                    <a:pt x="5400" y="11082"/>
                    <a:pt x="0" y="11082"/>
                  </a:cubicBezTo>
                  <a:cubicBezTo>
                    <a:pt x="5400" y="11082"/>
                    <a:pt x="10800" y="11982"/>
                    <a:pt x="10800" y="1288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5"/>
            <p:cNvSpPr/>
            <p:nvPr/>
          </p:nvSpPr>
          <p:spPr>
            <a:xfrm>
              <a:off x="1838160" y="3741480"/>
              <a:ext cx="933120" cy="39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Palatino Linotype"/>
                  <a:ea typeface="Times New Roman"/>
                </a:rPr>
                <a:t>PathList(i) =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4"/>
            <p:cNvSpPr/>
            <p:nvPr/>
          </p:nvSpPr>
          <p:spPr>
            <a:xfrm>
              <a:off x="3171960" y="2552040"/>
              <a:ext cx="3333600" cy="69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Palatino Linotype"/>
                  <a:ea typeface="Times New Roman"/>
                </a:rPr>
                <a:t>For i=n: all possible paths meeting the constraints between BN-en(k,n) to destin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3"/>
            <p:cNvSpPr/>
            <p:nvPr/>
          </p:nvSpPr>
          <p:spPr>
            <a:xfrm>
              <a:off x="3171960" y="3246480"/>
              <a:ext cx="3331080" cy="10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Palatino Linotype"/>
                  <a:ea typeface="Times New Roman"/>
                </a:rPr>
                <a:t>For 1&lt;i&lt;n: [all possible paths meeting the constraints between BN-en(k,i) to BN-ex(l,i)] + PathList(i+1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"/>
            <p:cNvSpPr/>
            <p:nvPr/>
          </p:nvSpPr>
          <p:spPr>
            <a:xfrm>
              <a:off x="3171960" y="4236840"/>
              <a:ext cx="3331080" cy="69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Palatino Linotype"/>
                  <a:ea typeface="Times New Roman"/>
                </a:rPr>
                <a:t>For i=1: [all possible paths meeting the constraints between Source to BN-ex(l,1)] + PathList(2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3"/>
          <p:cNvSpPr/>
          <p:nvPr/>
        </p:nvSpPr>
        <p:spPr>
          <a:xfrm>
            <a:off x="299880" y="39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57200" y="1219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Backward-Recursive PCE-Based Computation (BRPC) defines VSPT [Virtual Shortest Path Tree] as a default de-facto data structure for PCRep message in inter-domain scen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43434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Need for multiple Data Structure based different scenarios like P2MP, Protection, HPCE, OF,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CEP is limited with just one Data Struc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Extend PCEP to allow multiple data stru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446120" y="2286000"/>
            <a:ext cx="62517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Motivation for this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[PCE-P2MP-PROCEDURES] describes the need for an extended VSPT for computation of the best core-tre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[RFC 6007] describes the need for disjoint VSPT in case of Synchronized Dependent Path Computation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VSPT does not fit into hierarchical PCE paradigm described in [PCE-HIERARCHY-FWK]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VSPT does not work well with constraints like HOP-LIMI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Since PCEP allow multiple Objective Function (OF); it is natural to extend PCEP to support multiple Data Structure based on path computation scenar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PCEP Ext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andara"/>
              </a:rPr>
              <a:t>DS-List TLV: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 Support advertisement of supported Data Structure (DS) in Open Message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andara"/>
              </a:rPr>
              <a:t>DS Object: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 In Request Message, it indicates the desired/required data structure to be applied by PCE. In Reply Message, it indicates the data structure that was used by the PCE during path computation and in the reply messag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andara"/>
              </a:rPr>
              <a:t>New Flag in RP: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 Indicating PCE to supply DS in reply message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andara"/>
              </a:rPr>
              <a:t>Message Format: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 &lt;DS&gt; object is carried in PCReq / PCRep. It can be used in conjunction with SVEC as well as individual request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Evaluate the need within the WG and extend PCEP according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IANA and security considerations needs analys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Questions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&amp;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Backup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6997680" cy="30034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304920" y="1447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Inter Dom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draft-zhao-pce-pcep-inter-domain-p2mp-proced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Backup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304920" y="121932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Use of the Synchronization VECtor (SVEC) Lis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Synchronized Dependent Path Comput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RFC 6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90560" y="2514600"/>
            <a:ext cx="7562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12:48Z</dcterms:created>
  <dc:creator>d70584</dc:creator>
  <dc:description/>
  <dc:language>en-US</dc:language>
  <cp:lastModifiedBy>d70584</cp:lastModifiedBy>
  <dcterms:modified xsi:type="dcterms:W3CDTF">2011-06-29T05:42:02Z</dcterms:modified>
  <cp:revision>54</cp:revision>
  <dc:subject/>
  <dc:title>PCEP-P2MP-MI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ck0g2zpWzkveqBF9zA7UAaNi2cxjNX7qmEHJNTOqYG8a+lcsQ5YENbLdS/oDDxoBMXIOQqsu
BT06Qo5u4uYU891XMZ+iQlxzphckc0AQaMB7Z++Iuv0r9/k1QsRn8UTmMGY7oI/pwDVS7F7b
d6LwQ5Fbjt0kjx0PHKoefRjWYXa8ex0u9M/xzKtseGKf76VBNEku6xV14AD50kSuqo2xrgmm
oMxkKeWEfT7mvNEIZsN7j</vt:lpwstr>
  </property>
  <property fmtid="{D5CDD505-2E9C-101B-9397-08002B2CF9AE}" pid="3" name="_ms_pID_7253431">
    <vt:lpwstr>wPV+FQ/BeFZnZXy0sawjMl2xlwR+qe05VDZlGvHOvS/1tI92Vot
RyF7tVHvlDAoxXODqn4BR+NY3QuoPWBNtMZDoEQiIecyOAaZCxrZkLwB9WqvMufDdFTYOEfk
5m8HAWcqMBnu0ObpjY3Bzg4k</vt:lpwstr>
  </property>
  <property fmtid="{D5CDD505-2E9C-101B-9397-08002B2CF9AE}" pid="4" name="sflag">
    <vt:lpwstr>1309325663</vt:lpwstr>
  </property>
</Properties>
</file>