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FEF-4FFC-4DD5-8E59-6889A6D8E1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E7EB-FF01-4A52-827B-694DB4AA96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ACB2-2FAB-4E91-8E37-F83298031D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1A59-1E32-4EC1-824B-9A28A06BB9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578A-000A-4415-82B6-4BED1075A2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CE67-876D-469B-96B4-08789FCF2D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7354-4889-4A42-ACDC-CA16D8EF5B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8CF-D5C2-4856-ADA3-C3871CAE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B17-0535-40C4-A889-F21A1E3E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71A-B370-4B73-84F5-8126953B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6B8-05BB-48E0-8C3E-15134D15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7F5-C5D3-435A-8465-02AAD3F7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83B-4903-4175-9420-818C534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DC8-6F81-49E2-BC4B-E23CB02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64F-FD4B-4401-B44C-7060F49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F60-76A7-4D09-B758-C7562D73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C24-76CD-4041-B160-9861B07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D79-2947-4F2D-AED4-BCAFB71E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586-E276-4888-B7C3-89B22EC8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365F-8624-40B9-8EDE-3042CDE621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CEP extensions for GMP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PCE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G, IETF </a:t>
            </a:r>
            <a:r>
              <a:rPr b="0" lang="de-DE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81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aft-ietf-pce-gmpls-pcep-extensions-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22860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33720" y="41148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yril Mar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kia Siemen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Oscar González de 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lefonica Investigacio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awei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from 02.t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nsistent RBN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which requirement the objects 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extensions “lighter” to implement : do not require support for all th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cess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 flag : can be ignored, MUST be mirrored if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-BANDWIDTH, LOAD-BALANCING , LABEL SETs  : support completely optional, PCC must use the P (Processing bit) if it requires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cessing Ru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PA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, if used MUST be mirr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rocessing Rul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-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58766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rocessing Rule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POIN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T : can be rejected with Error (3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point-type : none is mandator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error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LV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points : not supported error mapp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 source/destinatio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: Specific erro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宋体"/>
              </a:rPr>
              <a:t>Nex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WG see missing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yone started implementing those ext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ar feedback on 3 early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sfg47</cp:lastModifiedBy>
  <dcterms:modified xsi:type="dcterms:W3CDTF">2011-07-21T23:07:51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