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AE92-2FE1-4518-9A09-831A0E155F1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60FF-2822-4109-8131-5D5F0C7304B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FE69-E942-446F-8474-C248E5348F4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93B0-E80E-4E29-9B3A-E003E91C836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9D07-0CEE-4CA3-AE7A-6874E5D698E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F26A-CC61-4838-8BBC-803E273193F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19DF-C874-4791-A669-D7585132814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5DC7-9B5F-4D31-8B3E-F62ACCE4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BC8-DAFB-449E-896D-B06F4ECF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7578-BD63-4BE6-AC18-21FDB1CD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0B3-1FC2-47F2-A483-C34DD107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A3C-745D-4596-AF32-9C190C61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222C-FE85-48F6-B732-6F921EAB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36DD-FF57-4A62-AA41-A509E31C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A7C-B6C1-4991-AA01-4B7AA04A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F992-BDBB-4517-94E9-62D323CD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F90C-2551-49AF-A899-33ACDDFE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7CE3-F16B-4E77-BA79-00F40EA6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CD7-2970-41D4-BCEB-EE638ACD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9703-7ACC-4E0B-AAB4-9F10AEBAE9B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CEP extensions for GMP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213336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PCE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WG, IETF </a:t>
            </a:r>
            <a:r>
              <a:rPr b="0" lang="de-DE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81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raft-ietf-pce-gmpls-pcep-extensions-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57200" y="228600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133720" y="411480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Cyril Mar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kia Siemens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Oscar González de 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lefonica Investigacion y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tai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awei Technolog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ces from 02.t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nsistent RBN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which requirement the objects 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extensions “lighter” to implement : do not require support for all th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rocessing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 flag : can be ignored, MUST be mirrored if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-BANDWIDTH, LOAD-BALANCING , LABEL SETs  : support completely optional, PCC must use the P (Processing bit) if it requires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rocessing Ru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SPA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al, if used MUST be mirr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Processing Rule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-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58766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Processing Rules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-POINT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T : can be rejected with Error (3,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point-type : none is mandator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sponding error ret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LVs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points : not supported error mapped to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known source/destination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: Specific error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  <a:ea typeface="宋体"/>
              </a:rPr>
              <a:t>Next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WG see missing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nyone started implementing those exten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far feedback on 3 early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533520" y="3124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msfg47</cp:lastModifiedBy>
  <dcterms:modified xsi:type="dcterms:W3CDTF">2011-07-21T23:07:51Z</dcterms:modified>
  <cp:revision>1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