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DAA-C899-45EC-A455-BB4969C9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778-3F42-498A-A701-FB1042B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5E4-9CB2-4C74-8340-97F52E63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46E-F779-40F7-86C1-5B226611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9E3-6E48-4BE1-BF1C-4BE0FA62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37E-892F-4E80-948D-5FCF28C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A95-05D4-475C-9DE5-F4008A9D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809-7DB5-4365-85EE-ABF56F82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B70-4C4B-47AE-8F70-B8D2CD9B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263-79A9-4522-A14B-F08453E3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C0C-8299-4C54-83AE-A3D9AD1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38E-A9F2-4D91-97F4-B8CA7F45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8EAB-6959-44C9-B092-843CD489B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udayasreepalle@huawei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Supporting explicit-path per destination in PCEP - P2MP Path Requ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p2mp-per-destination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914400" y="34290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d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ayasree Palle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udayasreepalle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57200" y="54100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ndara"/>
              </a:rPr>
              <a:t>Note:</a:t>
            </a:r>
            <a:r>
              <a:rPr b="0" i="1" lang="en-US" sz="1400" spc="-1" strike="noStrike">
                <a:solidFill>
                  <a:srgbClr val="000000"/>
                </a:solidFill>
                <a:latin typeface="Candara"/>
              </a:rPr>
              <a:t> Explicit Path here refers to the configured list of network elements that MUST be traversed or MUST be excluded in the final path compu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P is extended to support P2MP path computations in intra- &amp; inter- domain scenari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th Request message is defined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562720" cy="3246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6629400" y="2438280"/>
            <a:ext cx="2057400" cy="106704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&lt;IRO&gt; is attached to all leaves and thus to only the common pa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14"/>
          <p:cNvCxnSpPr>
            <a:stCxn id="50" idx="1"/>
          </p:cNvCxnSpPr>
          <p:nvPr/>
        </p:nvCxnSpPr>
        <p:spPr>
          <a:xfrm flipH="1">
            <a:off x="4494960" y="2971800"/>
            <a:ext cx="213444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2" name="Rectangle 4"/>
          <p:cNvSpPr/>
          <p:nvPr/>
        </p:nvSpPr>
        <p:spPr>
          <a:xfrm>
            <a:off x="45720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tend PCEP to define explicit-path per destination in P2MP con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Motivation for thi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In INTER-DOMAIN case different destinations will have different domain paths within the domain tree, it requires domain-sequence encoded in form of &lt;IRO&gt; to be attached per destination.  It cannot be encoded for all destinat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4981680" cy="2152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Administrator at the source can exert stronger control by providing explicit path (include, exclude, loose etc) per destin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Compatibility: Basic MPLS TE P2MP Tunnel configurations for various operators support the configuration of explicit-path per destin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5909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5053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44197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53341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2485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6248520" y="106668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6248520" y="2133720"/>
            <a:ext cx="304560" cy="30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5"/>
          <p:cNvSpPr/>
          <p:nvPr/>
        </p:nvSpPr>
        <p:spPr>
          <a:xfrm>
            <a:off x="28954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7"/>
          <p:cNvSpPr/>
          <p:nvPr/>
        </p:nvSpPr>
        <p:spPr>
          <a:xfrm>
            <a:off x="38098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>
            <a:off x="47242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1"/>
          <p:cNvSpPr/>
          <p:nvPr/>
        </p:nvSpPr>
        <p:spPr>
          <a:xfrm flipV="1">
            <a:off x="5638680" y="1218960"/>
            <a:ext cx="609840" cy="53316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3"/>
          <p:cNvSpPr/>
          <p:nvPr/>
        </p:nvSpPr>
        <p:spPr>
          <a:xfrm>
            <a:off x="56386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5"/>
          <p:cNvSpPr/>
          <p:nvPr/>
        </p:nvSpPr>
        <p:spPr>
          <a:xfrm>
            <a:off x="5638680" y="1752480"/>
            <a:ext cx="609840" cy="53352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eft Brace 26"/>
          <p:cNvSpPr/>
          <p:nvPr/>
        </p:nvSpPr>
        <p:spPr>
          <a:xfrm rot="16200000">
            <a:off x="3848040" y="1104840"/>
            <a:ext cx="533520" cy="24386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2438640"/>
              <a:gd name="textAreaBottom" fmla="*/ 242496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274320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omm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8"/>
          <p:cNvSpPr/>
          <p:nvPr/>
        </p:nvSpPr>
        <p:spPr>
          <a:xfrm>
            <a:off x="25909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9"/>
          <p:cNvSpPr/>
          <p:nvPr/>
        </p:nvSpPr>
        <p:spPr>
          <a:xfrm>
            <a:off x="35053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0"/>
          <p:cNvSpPr/>
          <p:nvPr/>
        </p:nvSpPr>
        <p:spPr>
          <a:xfrm>
            <a:off x="44197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3341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2"/>
          <p:cNvSpPr/>
          <p:nvPr/>
        </p:nvSpPr>
        <p:spPr>
          <a:xfrm>
            <a:off x="62485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3"/>
          <p:cNvSpPr/>
          <p:nvPr/>
        </p:nvSpPr>
        <p:spPr>
          <a:xfrm>
            <a:off x="6248520" y="312408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4"/>
          <p:cNvSpPr/>
          <p:nvPr/>
        </p:nvSpPr>
        <p:spPr>
          <a:xfrm>
            <a:off x="6248520" y="4191120"/>
            <a:ext cx="304560" cy="30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5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6"/>
          <p:cNvSpPr/>
          <p:nvPr/>
        </p:nvSpPr>
        <p:spPr>
          <a:xfrm>
            <a:off x="38098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37"/>
          <p:cNvSpPr/>
          <p:nvPr/>
        </p:nvSpPr>
        <p:spPr>
          <a:xfrm>
            <a:off x="47242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38"/>
          <p:cNvSpPr/>
          <p:nvPr/>
        </p:nvSpPr>
        <p:spPr>
          <a:xfrm flipV="1">
            <a:off x="5638680" y="3276360"/>
            <a:ext cx="609840" cy="53316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39"/>
          <p:cNvSpPr/>
          <p:nvPr/>
        </p:nvSpPr>
        <p:spPr>
          <a:xfrm>
            <a:off x="56386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40"/>
          <p:cNvSpPr/>
          <p:nvPr/>
        </p:nvSpPr>
        <p:spPr>
          <a:xfrm>
            <a:off x="5638680" y="3809880"/>
            <a:ext cx="609840" cy="53352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eft Brace 41"/>
          <p:cNvSpPr/>
          <p:nvPr/>
        </p:nvSpPr>
        <p:spPr>
          <a:xfrm rot="16200000">
            <a:off x="2971440" y="4038480"/>
            <a:ext cx="533520" cy="685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685800"/>
              <a:gd name="textAreaBottom" fmla="*/ 67212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0"/>
                  <a:pt x="10800" y="1400"/>
                </a:cubicBezTo>
                <a:lnTo>
                  <a:pt x="10800" y="9400"/>
                </a:lnTo>
                <a:cubicBezTo>
                  <a:pt x="10800" y="10100"/>
                  <a:pt x="5400" y="10800"/>
                  <a:pt x="0" y="10800"/>
                </a:cubicBezTo>
                <a:cubicBezTo>
                  <a:pt x="5400" y="10800"/>
                  <a:pt x="10800" y="11500"/>
                  <a:pt x="10800" y="12200"/>
                </a:cubicBezTo>
                <a:lnTo>
                  <a:pt x="10800" y="20200"/>
                </a:lnTo>
                <a:cubicBezTo>
                  <a:pt x="10800" y="20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2"/>
          <p:cNvSpPr/>
          <p:nvPr/>
        </p:nvSpPr>
        <p:spPr>
          <a:xfrm>
            <a:off x="2666880" y="4724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omm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3"/>
          <p:cNvSpPr/>
          <p:nvPr/>
        </p:nvSpPr>
        <p:spPr>
          <a:xfrm>
            <a:off x="5334120" y="312408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44"/>
          <p:cNvSpPr/>
          <p:nvPr/>
        </p:nvSpPr>
        <p:spPr>
          <a:xfrm flipV="1">
            <a:off x="4724280" y="3276360"/>
            <a:ext cx="609840" cy="53316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46"/>
          <p:cNvSpPr/>
          <p:nvPr/>
        </p:nvSpPr>
        <p:spPr>
          <a:xfrm>
            <a:off x="3809880" y="3809880"/>
            <a:ext cx="609840" cy="53352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57200" y="5334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upporting configuration of &lt;IRO&gt; / &lt;XRO&gt; only for the common path is a disadvantage for the administrator in specifying network element and computation of final P2MP tre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8"/>
          <p:cNvSpPr/>
          <p:nvPr/>
        </p:nvSpPr>
        <p:spPr>
          <a:xfrm>
            <a:off x="1752480" y="114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xplici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9"/>
          <p:cNvSpPr/>
          <p:nvPr/>
        </p:nvSpPr>
        <p:spPr>
          <a:xfrm>
            <a:off x="1295280" y="3105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xplicit Path cannot be appli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0"/>
          <p:cNvSpPr/>
          <p:nvPr/>
        </p:nvSpPr>
        <p:spPr>
          <a:xfrm>
            <a:off x="6781680" y="310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dd 2 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89456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ath Request Messag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loud Callout 4"/>
          <p:cNvSpPr/>
          <p:nvPr/>
        </p:nvSpPr>
        <p:spPr>
          <a:xfrm>
            <a:off x="5943600" y="1143000"/>
            <a:ext cx="2209680" cy="1981080"/>
          </a:xfrm>
          <a:prstGeom prst="cloudCallout">
            <a:avLst>
              <a:gd name="adj1" fmla="val -103226"/>
              <a:gd name="adj2" fmla="val -5055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Attach &lt;IRO-List&gt; / &lt;XRO-List&gt; to END-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 Callout 5"/>
          <p:cNvSpPr/>
          <p:nvPr/>
        </p:nvSpPr>
        <p:spPr>
          <a:xfrm>
            <a:off x="5943600" y="3809880"/>
            <a:ext cx="2590920" cy="2819520"/>
          </a:xfrm>
          <a:prstGeom prst="cloudCallout">
            <a:avLst>
              <a:gd name="adj1" fmla="val -151189"/>
              <a:gd name="adj2" fmla="val 25111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&lt;IRO&gt; / &lt;XRO&gt; matches to  destination in END_POINTS in ordered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Ordering Destinations in END-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7200" y="1295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The rule of the thumb is first &lt;IRO&gt; in &lt;IRO-list&gt; belongs to first destination in END-POINTS, the first &lt;XRO&gt; in &lt;XRO-List&gt; belongs to first destinations in END-POINTS etc.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Thus the order of the destinations in the END-POINTS is importa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ometimes there may-be a need to split the destinations into multiple END-POINTS while encoding path-request messag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valuate the need within the WG and extend PCEP according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IANA and security considerations needs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06-29T05:46:30Z</dcterms:modified>
  <cp:revision>55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gca2owU+h39yoMVghZ9zfNjitRjmOIxRZ17/V5DMTFWEmdjrFOGu+l/4zOenaHqfYX303P1L
kyT3K9TqM4F8Yn62NIgxCfnyICyqojkQ0i7+TpFWI3KykLO3CA3mzcKkyC81MgsGcdH10T+S
DinxOMK7JrH3IfCmur5x7cYdYq1yNcMeE/GKKdx01V1Fwph2KsUKmfMbqar8ZkBIIIv7fBtv
W/d4rZF382JIiBrKoHRaT</vt:lpwstr>
  </property>
  <property fmtid="{D5CDD505-2E9C-101B-9397-08002B2CF9AE}" pid="3" name="_ms_pID_7253431">
    <vt:lpwstr>DcA4cq3c7BNnIRe12nmZP3iABDPvWs9FUYyZQwjjoY/GsjlYtwd
JtJkoC0+SGP5xiFvosB+pynDJYKFpsQ7ZYHzftc5qhpB2sNIwRKpn1n897g0+9LajIoOBTNS
UjlpTNk3eXr72PC6ClDEbHEiZvrGMHip7d6iYvu/0DwxtA==</vt:lpwstr>
  </property>
  <property fmtid="{D5CDD505-2E9C-101B-9397-08002B2CF9AE}" pid="4" name="sflag">
    <vt:lpwstr>1309325663</vt:lpwstr>
  </property>
</Properties>
</file>