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3524760" y="632952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alibri"/>
                <a:ea typeface="宋体"/>
              </a:rPr>
              <a:t>81th IETF – Quebec City, 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lee@huawei.com" TargetMode="External"/><Relationship Id="rId2" Type="http://schemas.openxmlformats.org/officeDocument/2006/relationships/hyperlink" Target="mailto:gregb@grotto-networking.com" TargetMode="External"/><Relationship Id="rId3" Type="http://schemas.openxmlformats.org/officeDocument/2006/relationships/hyperlink" Target="mailto:Jonas.Martensson@acreo.se" TargetMode="External"/><Relationship Id="rId4" Type="http://schemas.openxmlformats.org/officeDocument/2006/relationships/hyperlink" Target="mailto:takeda.tomonori@lab.ntt.co.jp" TargetMode="External"/><Relationship Id="rId5" Type="http://schemas.openxmlformats.org/officeDocument/2006/relationships/hyperlink" Target="mailto:tsuri@kddilabs.jp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CEP Requirements and Extens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for the support of Wavelength Switched Optical Networks (WSON)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/>
          <p:nvPr/>
        </p:nvSpPr>
        <p:spPr>
          <a:xfrm>
            <a:off x="1383840" y="2754360"/>
            <a:ext cx="62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raft-ietf-pce-wson-routing-wavelength-05.tx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5053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oung L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ylee@huawei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uaw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reg Bernste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gregb@grotto-networking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rotto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onas Martenss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Jonas.Martensson@acreo.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cre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omonori Taked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takeda.tomonori@lab.ntt.co.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akehiro Tsuritan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tsuri@kddilabs.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KD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dates from the last vers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requirement added to align with the solution draft: In Section 2.1.6. Signal Processing Capability Restri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CReq Message MUST be able to specify restrictions for signal compatibility on the endpoint. The following signal processing capability should be supported at a minimu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ation Type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C Type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mmary &amp; Next Steps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ble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lution draft revision has been published (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Ready for WC L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21:08:18Z</dcterms:created>
  <dc:creator>Dr. Greg M. Bernstein</dc:creator>
  <dc:description/>
  <dc:language>en-US</dc:language>
  <cp:lastModifiedBy>l73682</cp:lastModifiedBy>
  <dcterms:modified xsi:type="dcterms:W3CDTF">2011-07-19T03:26:13Z</dcterms:modified>
  <cp:revision>120</cp:revision>
  <dc:subject/>
  <dc:title>Optical Network Control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045479</vt:lpwstr>
  </property>
</Properties>
</file>