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4669A-EAE7-4F0F-9A5B-DA4156CB9A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D1867-F7EA-4B40-9650-55C2C131F5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BB3C7-EF9F-4D5B-9D1F-0F66951078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0F25A-1ABC-44F0-A483-628FFA80AF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E8998-FBA7-44A7-9329-639490F464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F264E-2151-4785-8CE8-60DBDB3C5D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C6EF8-97E8-4F8D-8BC0-318DEE9586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912F5-9563-489D-A39D-011C8069EA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8BFFC-492A-4E6C-AE0F-A669875335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53AE5-3131-42B5-A096-6B88495C0B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CD33E-55EE-43E6-93E3-BA39AFCC6D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D0177-FA3E-4D4B-B40A-6137830198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51AEC-C7E8-4CA8-8B58-169E5CF41D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7EBBF-A5E5-42D0-A9A9-AF8E80CD65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A0DE8-B03D-48A8-B818-15206D444E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038CF-2665-46F7-848B-CC2276D5CE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9D4-5CBE-4440-A5D5-EA76D91A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520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68C-93C0-421D-A44B-FB7729BF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348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2723-C9F1-479E-9A48-6080734C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80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72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80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72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3948-6770-4B7F-9C1A-4DC49F70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DCC3-CF8D-4A9A-9639-49D5831E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6425-B565-42BD-A5A1-8D0571F0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244F-B461-41FD-944A-6FD20DA4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3200-39A0-4158-9CD3-32F0C343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945A-5CAA-4513-97EB-FBA6506C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00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317A-2E26-464B-BC61-2EF9D1CB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E6B7-0468-47B2-899D-BB83C93A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5B4C-4D74-428A-B38B-3BDE3DF7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348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894F-B086-47B2-86B7-80D507DF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ECEA-E1DA-4228-BED3-D4ECC2BD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520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1DF6-5C72-44DA-B327-7C54A9E8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348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3DD3-F225-4A45-AF22-ED72F686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72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80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72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3FFB-BE88-4FFD-9887-24C3527D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27C1-5543-4E87-B2FB-D4FDCF67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4D8-9129-4247-885D-3B29B213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E67E-0E5C-4942-84F1-26A916B3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00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0EE-9AFA-48E6-8DC2-FA32005B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101-078F-4A9A-8F7D-83067710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348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BF62-9590-48A6-A6CF-44F0A169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246-5A6E-4EF3-A61B-EAB977C6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1720" y="6243480"/>
            <a:ext cx="1901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26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CBE076-EDDD-4F2E-ACA1-21709411AEC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4000" y="2967480"/>
              <a:ext cx="735840" cy="472320"/>
              <a:chOff x="414000" y="2967480"/>
              <a:chExt cx="735840" cy="47232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1200" y="2967480"/>
                <a:ext cx="36864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5AAFE7-4823-40D2-B6DD-DF864031B7B8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581040"/>
            <a:ext cx="777240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neric Aggregation of Resource Reservation Protocol (RSVP) for IPv4 and IPv6 Reservation over  PCN domai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386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eorgios Karagiannis, Anurag Bharg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879280" y="33577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raft-karagiannis-pcn-tsvwg-rsvp-pcn-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1"/>
          <p:cNvSpPr/>
          <p:nvPr/>
        </p:nvSpPr>
        <p:spPr>
          <a:xfrm>
            <a:off x="6858000" y="624852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C046645-BDC8-46B3-9238-91E63DAFF21E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1984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ugmentations to PCN SM and CL edge behavior drafts (2)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for IEA supported by PCN-ingress-node incoming traffic needs reduced then based on a local policy and for same IEA, selects a number of e2e RSVP sessions to b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70000"/>
              <a:buFont typeface="Courier New"/>
              <a:buChar char="o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70000"/>
              <a:buFont typeface="Courier New"/>
              <a:buChar char="o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 reserved bandwidth of e2e RSVP sessions, in order to solve congestion in PCN-dom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7804C-F32A-40A1-8C2E-51E847C2181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981000"/>
            <a:ext cx="76327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Next ste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ask the support of the PCN WG or TSVWG such that this draft becomes either a PCN WG and/or a TSVWG working group dra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2DF1A-818E-4CB7-9BB4-272B60A0D75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979D9-EADF-4C3A-A8F4-281D730668A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8560" y="-16200"/>
            <a:ext cx="2305080" cy="18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xamples of 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operation and new objec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Object 8"/>
          <p:cNvGraphicFramePr/>
          <p:nvPr/>
        </p:nvGraphicFramePr>
        <p:xfrm>
          <a:off x="3924360" y="12600"/>
          <a:ext cx="4694040" cy="669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2600"/>
                    <a:ext cx="4694040" cy="669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23CB6-CDD7-4D37-85B1-CDDB446394D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16200"/>
            <a:ext cx="2305080" cy="18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xamples of 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operation and new objec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Object 5"/>
          <p:cNvGraphicFramePr/>
          <p:nvPr/>
        </p:nvGraphicFramePr>
        <p:xfrm>
          <a:off x="3780000" y="44280"/>
          <a:ext cx="4829040" cy="664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44280"/>
                    <a:ext cx="4829040" cy="66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C5A2F-157A-4E85-AC14-4A6C738B498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3995640" y="128520"/>
          <a:ext cx="455148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28520"/>
                    <a:ext cx="455148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-16200"/>
            <a:ext cx="2305080" cy="18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xamples of 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operation and new objec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6920" y="-20880"/>
            <a:ext cx="2305080" cy="18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xamples of 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operation and new objec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9BF37-2500-4E8E-91DB-76456AEFDD8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3276720" y="260280"/>
          <a:ext cx="5317920" cy="645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60280"/>
                    <a:ext cx="5317920" cy="645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8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augmentations on Generic aggregated RSV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mentations to PCN SM (Single Marking) and CL (Controlled Load) edge behavior draf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 of operation and new objects (not present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7AAFD-9EC8-4112-BC6D-CC6C817A5AF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153800"/>
            <a:ext cx="77929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Motivation (1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CN (Congestion and Pre-Congestion Notification) architecture (RFC 555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Object 2"/>
          <p:cNvGraphicFramePr/>
          <p:nvPr/>
        </p:nvGraphicFramePr>
        <p:xfrm>
          <a:off x="1763640" y="2924280"/>
          <a:ext cx="5819760" cy="37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924280"/>
                    <a:ext cx="581976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Slide Number Placeholder 3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A5633-E5F1-407E-9D09-383EFB3719A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1153800"/>
            <a:ext cx="77929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Motivation (2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74872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PCN charter items are fulfilled, exce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343080">
              <a:lnSpc>
                <a:spcPct val="90000"/>
              </a:lnSpc>
              <a:spcBef>
                <a:spcPts val="700"/>
              </a:spcBef>
              <a:buClr>
                <a:srgbClr val="2d2db9"/>
              </a:buClr>
              <a:buSzPct val="70000"/>
              <a:buFont typeface="Courier New"/>
              <a:buChar char="o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mit Encoding and Transport of PCN from Domain Egress to Ingress to the IESG for consideration as a Proposed Standard RF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irs of PCN edge nodes use ingress-egress-aggregates (IEA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eed a signaling protocol to transport PCN information from PCN-egress-node to PCN-ingress-node and to maintain ingress-egress-aggregate between each pair of PCN edge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60D47-BFD2-4B07-A36A-F30D2C24E4F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153800"/>
            <a:ext cx="77929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Motivation (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748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ETF QoS signaling protocols to solve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xt Steps in Signaling Protocol (NSIS) subset (RFC 5971, RFC 5974, RFC 597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ggregation of RSVP for IPv4 and IPv6 Reservations (RFC317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eneric Aggregate Resource ReSerVation Protocol (RSVP) Reservations (RFC486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can be used, but for time being selected RFC 4860 du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ssible deployment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pports RFC 3175 and additional features such a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Courier New"/>
              <a:buChar char="o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upport of multiple IEAs from same pair of PCN edge nod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Courier New"/>
              <a:buChar char="o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upport of bandwidth reduction for individual flows (RFC 449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51132-883A-41BB-B42C-5C4C0F8A615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153800"/>
            <a:ext cx="77929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Motivation (4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6A5FE-3E66-4D67-B1CC-E44C3E2290F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1692360" y="2924280"/>
          <a:ext cx="524808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924280"/>
                    <a:ext cx="524808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2"/>
          <p:cNvSpPr/>
          <p:nvPr/>
        </p:nvSpPr>
        <p:spPr>
          <a:xfrm>
            <a:off x="0" y="2017800"/>
            <a:ext cx="8955000" cy="14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ic Aggregation of Resource Reservation Protocol (RSVP) for IPv4 and IPv6 Reservation over PCN domains architec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-13680"/>
            <a:ext cx="861984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in augmentations on Generic aggregated RSVP (1)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our new (2 for CL and 2 for SM) objects specified to include PCN information to be transported from PCN-egress-node (Deaggregator) to PCN-ingress-node (Aggreg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uppor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ies to initiate/maintain for each combination of PCN edge node and each of other PCN edge nodes one RSVP SESSION for generic aggregated reserv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70000"/>
              <a:buFont typeface="Courier New"/>
              <a:buChar char="o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SVP SESSION for generic aggregated reservations can match to one or more than one IEAs (between a pair of PCN edge nod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each IEA, a PCN-egress-node, periodically generates Aggregated Resv messages  and include new PCN 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N-interior-nodes are not using E2E RSVP or Generic Aggregated RSVP messages, but treat them as normal packe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17D50-7E6C-4AF5-8ED2-BC06E53DC53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-13680"/>
            <a:ext cx="861984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in augmentations on Generic aggregated RSVP (2)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2E RSVP session admission in PCN-domai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70000"/>
              <a:buFont typeface="Courier New"/>
              <a:buChar char="o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Aggregator support policies and PCN functionalities to admit or reject incoming e2e RSVP Path message &amp; send a PathErr towards 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2E RSVP flow termination in PCN-domai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70000"/>
              <a:buFont typeface="Courier New"/>
              <a:buChar char="o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Aggregator support policies and PCN functionalities for initia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7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tion of one or more active E2E RSVP session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7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e bandwidth of one or more active individual existing RSVP sessions, in order to solve congestion in PCN-dom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70000"/>
              <a:buFont typeface="Courier New"/>
              <a:buChar char="o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mechanisms for terminating or reducing bandwidth of an e2e RSVP session, as specified in [RFC4495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D7C1B-B230-47DC-AF7D-AC98587F924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1984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ugmentations to PCN SM and CL edge behavior drafts (1)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0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ed that PCN-ingress-node collocated with Decision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one IEAs between same pair of PCN edge nodes should be supported, each of them using a different PHB-I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EA supported by a PCN-ingress-node is in PCN-admission state, then based on local policy, requesting e2e RSVP session should b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70000"/>
              <a:buFont typeface="Courier New"/>
              <a:buChar char="o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j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70000"/>
              <a:buFont typeface="Courier New"/>
              <a:buChar char="o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ed to another IEA that NOT in PCN-admission-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1F9F1-6D41-424B-967B-2C2B24CC3C1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McDonald</dc:creator>
  <dc:description/>
  <dc:language>en-US</dc:language>
  <cp:lastModifiedBy>Gebruiker</cp:lastModifiedBy>
  <dcterms:modified xsi:type="dcterms:W3CDTF">2011-07-25T11:43:15Z</dcterms:modified>
  <cp:revision>102</cp:revision>
  <dc:subject/>
  <dc:title>QoS NSLP Update</dc:title>
</cp:coreProperties>
</file>