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5D7D0-372B-47A1-811A-2D861C8016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E7011-D6EC-462A-B0D2-693D5247D0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528A2-BE76-493E-8613-73EA23CE16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2932B-3DC1-4497-A93A-0FF56F93A5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D81CC-3E27-4077-B2D4-869F0F0A0A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26D35-9106-4F34-9B58-68432E3AE1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D241D-5908-4020-BB65-A6775C1366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D2A6C-6ED3-4FFE-8DFA-8DA2E2E7EE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0DDB8-A4C9-451B-A340-5EC58FE3B4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ED817-517B-43B6-A218-2F7272C1DB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D5AF8-7126-40CD-9FCB-F7A432561A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0DB0B-C31D-4FA2-B837-3FD81F64B2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F3CF2-1E24-434B-BEC0-7545AC8AA5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90F0B-8315-4B03-A4AD-2BF11FDA76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05F85-4975-4336-8CDF-8A697CF491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75F80-013C-40D2-BA95-B22CC5D26C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6E9-D7B3-47B9-BD86-6112A692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A44-745D-449C-AE3E-EA8D7135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18B-C1B8-4D45-87BA-2F098A2D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80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72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B78-FC96-41C8-BF1C-B535AA94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B848-F19B-4A22-A6A5-B335535B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E9A4-40C9-49E1-A5FF-C277BCB5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4F4F-4CFC-45A5-88B8-55A48AEA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3F1D-3335-432C-8ABF-6514E361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8342-779D-4C91-9CCA-DCA3BA44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00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380F-2D99-494B-9EEB-11C5D3E5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A924-216F-4382-9A2D-0F1D9E5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2D2-96B4-426F-82C0-6E23A4CC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E281-261A-4007-9F98-9E07B0FB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BE92-5EFC-48D8-83B8-395D768E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CC59-E15E-4FE8-92D3-2F051F30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F123-E652-4291-B521-4257409F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80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720" y="416520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7AF6-88EC-4848-B969-0471B545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CE2-65D9-45E9-9F64-908407DD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31A-D85A-4EC9-A659-D13D68E9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47B-7994-49E5-ACFF-BA52904D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00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C44-8C45-47BE-8F51-C2E36030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0A7-D98F-4F2E-B863-8CCE089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480" y="416520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081-09F6-498C-B587-6068E63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520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55D-44A9-4F02-A790-B3F015BE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2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7B3579-71F4-43C4-8344-42183B04557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000" y="2967480"/>
              <a:ext cx="735840" cy="472320"/>
              <a:chOff x="414000" y="2967480"/>
              <a:chExt cx="7358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1200" y="2967480"/>
                <a:ext cx="36864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63A20B-6EFB-438A-9768-75E7FB218CC9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58104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neric Aggregation of Resource Reservation Protocol (RSVP) for IPv4 and IPv6 Reservation over  PCN domai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86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orgios Karagiannis, Anurag Bharg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879280" y="33577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raft-karagiannis-pcn-tsvwg-rsvp-pcn-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858000" y="624852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4DDDE0-FA9C-41EA-9B7B-6BE70E16A1AE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1984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ugmentations to PCN SM and CL edge behavior drafts (2)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for IEA supported by PCN-ingress-node incoming traffic needs reduced then based on a local policy and for same IEA, selects a number of e2e RSVP sessions to b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reserved bandwidth of e2e RSVP sessions, in order to solve congestion in PCN-do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061F1-4B98-4C2D-8CC0-FAE83B42290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76327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ask the support of the PCN WG or TSVWG such that this draft becomes either a PCN WG and/or a TSVWG working group dra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A3AE4-0586-4082-8C9E-1F966E609E2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D940F-7D01-49A7-A9F2-5FEBEC63080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560" y="-16200"/>
            <a:ext cx="230508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xamples of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peration and new objec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8"/>
          <p:cNvGraphicFramePr/>
          <p:nvPr/>
        </p:nvGraphicFramePr>
        <p:xfrm>
          <a:off x="3924360" y="12600"/>
          <a:ext cx="4694040" cy="669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2600"/>
                    <a:ext cx="4694040" cy="66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893D1-7C5E-408E-B0AF-E9913831937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16200"/>
            <a:ext cx="230508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xamples of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peration and new objec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3780000" y="44280"/>
          <a:ext cx="4829040" cy="664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4280"/>
                    <a:ext cx="48290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B39A9-404A-4438-BFDF-E3B446473DA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3995640" y="128520"/>
          <a:ext cx="455148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28520"/>
                    <a:ext cx="45514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-16200"/>
            <a:ext cx="230508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xamples of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peration and new objec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6920" y="-20880"/>
            <a:ext cx="230508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xamples of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peration and new objec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F1B90-8470-41F0-87FA-A0B9F35AA0C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3276720" y="260280"/>
          <a:ext cx="5317920" cy="645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60280"/>
                    <a:ext cx="5317920" cy="645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8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augmentations on Generic aggregated RSV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ations to PCN SM (Single Marking) and CL (Controlled Load) edge behavior draf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 of operation and new objects (not present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48EF1-71EF-4AB5-90D6-29CD7B00BAB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otivation (1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CN (Congestion and Pre-Congestion Notification) architecture (RFC 555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1763640" y="2924280"/>
          <a:ext cx="581976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58197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AA469-66A1-4300-BEA8-724638ED7A6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otivation (2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74872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PCN charter items are fulfilled, exce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43080">
              <a:lnSpc>
                <a:spcPct val="90000"/>
              </a:lnSpc>
              <a:spcBef>
                <a:spcPts val="700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 Encoding and Transport of PCN from Domain Egress to Ingress to the IESG for consideration as a Proposed Standard RF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rs of PCN edge nodes use ingress-egress-aggregates (IEA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eed a signaling protocol to transport PCN information from PCN-egress-node to PCN-ingress-node and to maintain ingress-egress-aggregate between each pair of PCN edge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498B1-01A4-4FB0-A792-0F171BF4D22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otivation (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748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ETF QoS signaling protocols to solve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xt Steps in Signaling Protocol (NSIS) subset (RFC 5971, RFC 5974, RFC 597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ggregation of RSVP for IPv4 and IPv6 Reservations (RFC317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neric Aggregate Resource ReSerVation Protocol (RSVP) Reservations (RFC486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can be used, but for time being selected RFC 4860 d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ssible deployment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ports RFC 3175 and additional features such a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Courier New"/>
              <a:buChar char="o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pport of multiple IEAs from same pair of PCN edge nod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Courier New"/>
              <a:buChar char="o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pport of bandwidth reduction for individual flows (RFC 449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522B1-B011-4457-B329-8428E707C19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153800"/>
            <a:ext cx="77929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otivation (4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BC8AE-A02F-4888-B569-20D19D9571F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692360" y="2924280"/>
          <a:ext cx="52480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52480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2"/>
          <p:cNvSpPr/>
          <p:nvPr/>
        </p:nvSpPr>
        <p:spPr>
          <a:xfrm>
            <a:off x="0" y="2017800"/>
            <a:ext cx="895500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ic Aggregation of Resource Reservation Protocol (RSVP) for IPv4 and IPv6 Reservation over PCN domains archite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-13680"/>
            <a:ext cx="86198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in augmentations on Generic aggregated RSVP (1)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ur new (2 for CL and 2 for SM) objects specified to include PCN information to be transported from PCN-egress-node (Deaggregator) to PCN-ingress-node (Aggreg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ppor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ies to initiate/maintain for each combination of PCN edge node and each of other PCN edge nodes one RSVP SESSION for generic aggregated reserv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VP SESSION for generic aggregated reservations can match to one or more than one IEAs (between a pair of PCN edge nod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ach IEA, a PCN-egress-node, periodically generates Aggregated Resv messages  and include new PCN 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N-interior-nodes are not using E2E RSVP or Generic Aggregated RSVP messages, but treat them as normal pack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0609E-6A2A-4A49-92AF-E2DD43E8D17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-13680"/>
            <a:ext cx="86198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in augmentations on Generic aggregated RSVP (2)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2E RSVP session admission in PCN-domai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Aggregator support policies and PCN functionalities to admit or reject incoming e2e RSVP Path message &amp; send a PathErr towards 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2E RSVP flow termination in PCN-domai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Aggregator support policies and PCN functionalities for initia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ion of one or more active E2E RSVP sessio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 bandwidth of one or more active individual existing RSVP sessions, in order to solve congestion in PCN-dom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mechanisms for terminating or reducing bandwidth of an e2e RSVP session, as specified in [RFC4495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4C802-0796-4FC3-9A11-3DB02C48789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1984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ugmentations to PCN SM and CL edge behavior drafts (1)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ed that PCN-ingress-node collocated with Decision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one IEAs between same pair of PCN edge nodes should be supported, each of them using a different PHB-I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EA supported by a PCN-ingress-node is in PCN-admission state, then based on local policy, requesting e2e RSVP session should b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j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SzPct val="70000"/>
              <a:buFont typeface="Courier New"/>
              <a:buChar char="o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ed to another IEA that NOT in PCN-admission-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FA2E6-C392-435D-AD10-334F59500D5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McDonald</dc:creator>
  <dc:description/>
  <dc:language>en-US</dc:language>
  <cp:lastModifiedBy>Gebruiker</cp:lastModifiedBy>
  <dcterms:modified xsi:type="dcterms:W3CDTF">2011-07-25T11:43:15Z</dcterms:modified>
  <cp:revision>102</cp:revision>
  <dc:subject/>
  <dc:title>QoS NSLP Update</dc:title>
</cp:coreProperties>
</file>