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D40-D814-409B-BB49-04900E8C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B8D-5B1A-4603-A9DE-BCC8D796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931-5165-4993-9916-52B7D0C5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35F-CFB6-401D-A121-C73ADAFB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F07-1F36-4723-8788-CE611EA6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8BAC-66B5-4F5E-8BCA-A98B56A8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9A0-E97B-4114-BB04-C521AB86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AD18-C9AF-4F26-BB4F-4BDB0A52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6373-B2F3-4B78-9138-B21403AA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C1F-BA1B-48DC-BCE2-CB20998F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EE06-16DF-4AB9-80EA-47A18E6D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B76-6D7E-40DE-A052-0BF77F3B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32C0-235F-42BC-ABE1-43271D418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estion and Pre-Congestion Notification (pc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s:  Scott Brad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n B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3920" y="76320"/>
            <a:ext cx="90777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submission to the IETF intended by the Contributor for publication as all or part of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TF Internet-Draft or RFC and any statement made within the context of an IETF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considered an "IETF Contribution". Such statements include oral statements in IETF sess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well as written and electronic communications made at any time or place, which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ETF plenary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ESG, or any member thereof on behalf of the IES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IETF mailing list, including the IETF list itself, any working group or design team list,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other list functioning under IETF ausp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IETF working group or portion ther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Birds of a Feather (BOF)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AB or any member thereof on behalf of the I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FC Editor or the Internet-Drafts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IETF Contributions are subject to the rules of RFC 5378 and RFC 3979 (updated by RFC 487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ments made outside of an IETF session, mailing list or other function, that are clearly n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ded to be input to an IETF activity, group or function, are not IETF Contributions 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xt of this not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ease consult RFC 5378 and RFC 3979 for detai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ticipant in any IETF activity is deemed to accept all IETF rules of process, as documen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Best Current Practices RFCs and IESG Stat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ticipant in any IETF activity acknowledges that written, audio and video record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ings may be made and may be available to the publ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Administrivia                                                                                          chairs   5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 sheets, Scribe, Agenda bash, Milestones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Resolving issues with CL and SM Edge Behaviour Drafts                     TBD  25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etf-pcn-cl-edge-behaviour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etf-pcn-sm-edge-behaviour-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Resolving Issues with 3-in-1 Encoding Draft                                       Briscoe  15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ietf-pcn-3-in-1-encoding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Generic Aggregation of RSVP over PCN Domains                     Karagiannis  15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karagiannis-pcn-tsvwg-rsvp-pcn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WG futures                                                                                            chairs &amp; 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N Charter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Done     - Submit Pre-Congestion Notification (PCN) Architecture to the IE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              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for consideration as an Informational RFC (</a:t>
            </a: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RFC 5559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- Submit Encoding and Transport of (Pre-) Congestion Information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a DiffServ Domain to the Egress to the IESG for consid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roposed Standard RFC 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RFC 5670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-  Submit (Pre-) Congestion Detection within a DiffServ Domain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SG for consideration as a Proposed Standard RFC 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RFC 5670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one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    - Submit Baseline Encoding and Transport of Pre-Con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      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Information to the IESG for consideration as a Proposed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               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RFC (</a:t>
            </a: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RFC 5696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one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    - Submit Overview of Pre-Congestion Notification Encoding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              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IESG for consideration as an Informational R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               </a:t>
            </a: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raft-ietf-pcn-encoding-comparison-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er Milestones,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one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    -  Submit Requirements for Signaling of (Pre-) Congest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                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in a DiffServ Domain to the IESG for consideration 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       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Informational R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        </a:t>
            </a: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raft-ietf-pcn-signaling-requirements-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one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    -   Submit Suggested Flow Admission and Termination Bou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        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Mechanisms to the IESG for consideration as an Informational R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        </a:t>
            </a: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raft-ietf-pcn-cl-edge-behaviour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        </a:t>
            </a: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raft-ietf-pcn-sm-edge-behaviour-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Aug 2011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- Submit Encoding 3 PCN-States in the IP Header Using a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        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DSCP to the IESG for consideration as a Proposed Standard R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        </a:t>
            </a: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raft-ietf-pcn-3-in-1-encoding-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Nov 2011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 - Submit RSVP Encoding and Transport of (Pre-) Con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        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Information from the Domain Egress to the Ingress to the IESG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        </a:t>
            </a: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consideration as a Proposed Standard R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a0e"/>
                </a:solidFill>
                <a:latin typeface="Arial"/>
              </a:rPr>
              <a:t>                   </a:t>
            </a:r>
            <a:r>
              <a:rPr b="0" lang="en-US" sz="1800" spc="-1" strike="noStrike">
                <a:solidFill>
                  <a:srgbClr val="ff0c12"/>
                </a:solidFill>
                <a:latin typeface="Arial"/>
              </a:rPr>
              <a:t>draft-karagiannis-pcn-tsvwg-rsvp-pcn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2:01:32Z</dcterms:created>
  <dc:creator>Scott Bradner</dc:creator>
  <dc:description/>
  <dc:language>en-US</dc:language>
  <cp:lastModifiedBy>Scott Bradner</cp:lastModifiedBy>
  <dcterms:modified xsi:type="dcterms:W3CDTF">2011-07-25T16:07:20Z</dcterms:modified>
  <cp:revision>9</cp:revision>
  <dc:subject/>
  <dc:title>Congestion and Pre-Congestion Notification (pcn)</dc:title>
</cp:coreProperties>
</file>