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DE6-EE8B-40E6-92FF-ABEF5076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AE1-BC76-4580-A5F3-0C7188DB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CB7D-31B4-42F6-B900-5726140F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B38-B74C-481E-B8AE-A14C4ED8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131-434C-4604-9443-998376C7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04D-2F9C-4AAA-95D5-7AA7E396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CC7-FCD8-4539-A2DE-57AFAD39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7E2-1228-476A-96AA-670965FB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A26-27D0-4EB7-BF7D-1BB19206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16E-0A8A-4BD1-8D1A-AB8F26A9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37F-A1CB-4409-8ED2-724212D9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670-BAB3-4BF7-BEDB-041128FB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FA09-5DBA-40F1-ACB3-9BE8C87E1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stion and Pre-Congestion Notification (pc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s:  Scott Brad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n B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3920" y="76320"/>
            <a:ext cx="90777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submission to the IETF intended by the Contributor for publication as all or part of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TF Internet-Draft or RFC and any statement made within the context of an IETF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considered an "IETF Contribution". Such statements include oral statements in IETF sess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well as written and electronic communications made at any time or place, which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ETF plenary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ESG, or any member thereof on behalf of the IE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IETF mailing list, including the IETF list itself, any working group or design team list,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other list functioning under IETF ausp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IETF working group or portion ther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Birds of a Feather (BOF)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AB or any member thereof on behalf of the I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FC Editor or the Internet-Drafts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IETF Contributions are subject to the rules of RFC 5378 and RFC 3979 (updated by RFC 487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ments made outside of an IETF session, mailing list or other function, that are clearly n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ded to be input to an IETF activity, group or function, are not IETF Contributions 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xt of this not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ease consult RFC 5378 and RFC 3979 for detai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ticipant in any IETF activity is deemed to accept all IETF rules of process, as documen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Best Current Practices RFCs and IESG Stat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ticipant in any IETF activity acknowledges that written, audio and video record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s may be made and may be available to the publ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Administrivia                                                                                          chairs   5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 sheets, Scribe, Agenda bash, Milestones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esolving issues with CL and SM Edge Behaviour Drafts                     TBD  25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etf-pcn-cl-edge-behaviour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etf-pcn-sm-edge-behaviour-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esolving Issues with 3-in-1 Encoding Draft                                       Briscoe  15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etf-pcn-3-in-1-encoding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Generic Aggregation of RSVP over PCN Domains                     Karagiannis  15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karagiannis-pcn-tsvwg-rsvp-pcn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WG futures                                                                                            chairs &amp; 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N Charter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Done     - Submit Pre-Congestion Notification (PCN) Architecture to the IE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              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for consideration as an Informational RFC (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RFC 5559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- Submit Encoding and Transport of (Pre-) Congestion Information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a DiffServ Domain to the Egress to the IESG for 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roposed Standard RFC 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RFC 5670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-  Submit (Pre-) Congestion Detection within a DiffServ Domain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SG for consideration as a Proposed Standard RFC 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RFC 5670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one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    - Submit Baseline Encoding and Transport of Pre-Con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      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Information to the IESG for consideration as a Proposed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               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RFC (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RFC 5696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one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    - Submit Overview of Pre-Congestion Notification Encoding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              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IESG for consideration as an Informational R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               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raft-ietf-pcn-encoding-comparison-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er Milestones,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one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    -  Submit Requirements for Signaling of (Pre-) Conges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                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in a DiffServ Domain to the IESG for consideration 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Informational R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 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raft-ietf-pcn-signaling-requirements-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one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    -   Submit Suggested Flow Admission and Termination Bou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 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Mechanisms to the IESG for consideration as an Informational R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 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raft-ietf-pcn-cl-edge-behaviour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 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raft-ietf-pcn-sm-edge-behaviour-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Aug 2011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- Submit Encoding 3 PCN-States in the IP Header Using a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        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DSCP to the IESG for consideration as a Proposed Standard R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 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raft-ietf-pcn-3-in-1-encoding-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Nov 2011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- Submit RSVP Encoding and Transport of (Pre-) Con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 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Information from the Domain Egress to the Ingress to the IESG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 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consideration as a Proposed Standard R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  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raft-karagiannis-pcn-tsvwg-rsvp-pcn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2:01:32Z</dcterms:created>
  <dc:creator>Scott Bradner</dc:creator>
  <dc:description/>
  <dc:language>en-US</dc:language>
  <cp:lastModifiedBy>Scott Bradner</cp:lastModifiedBy>
  <dcterms:modified xsi:type="dcterms:W3CDTF">2011-07-25T16:07:20Z</dcterms:modified>
  <cp:revision>9</cp:revision>
  <dc:subject/>
  <dc:title>Congestion and Pre-Congestion Notification (pcn)</dc:title>
</cp:coreProperties>
</file>