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C7DFD4-5732-492C-8E09-609A46E1C1A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F9F851-233B-4607-8AC4-00AB5CA0E888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40F1EA-ACCE-4A54-BE39-DF89E5446050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83E69B-3273-495C-9B60-4892F65AEB2D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F3B0-C384-474A-8929-538A335BF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D8E2-E071-4743-B95C-F45B65CE8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B90D-3F92-470A-993C-F67CE3EF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0A4F-373E-49DB-AAA7-B22D744A7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7FD7-3745-46C9-A425-F84DA3D39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3E23-A624-4D3C-B083-7BC2A13A9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F4AA-E014-4D68-AAE1-B0CC342C4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2944-EBF1-47BB-BD24-E87A3C20D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23C4-04AE-4EA6-8705-D1EC2DAA9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31D2-DCD9-4F26-841F-1F9AA6E2C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4C6F-3D27-4132-99F5-AF71C97E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2C69-39D8-4C68-94E9-11D06F579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2952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79120" y="474840"/>
            <a:ext cx="3692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DB3-C038-4461-827E-29EBE0325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shapes 04 white"/>
          <p:cNvPicPr/>
          <p:nvPr/>
        </p:nvPicPr>
        <p:blipFill>
          <a:blip r:embed="rId2"/>
          <a:srcRect l="0" t="407" r="0" b="0"/>
          <a:stretch/>
        </p:blipFill>
        <p:spPr>
          <a:xfrm>
            <a:off x="0" y="0"/>
            <a:ext cx="9132840" cy="62388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logo white"/>
          <p:cNvPicPr/>
          <p:nvPr/>
        </p:nvPicPr>
        <p:blipFill>
          <a:blip r:embed="rId3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2952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60600" y="2532240"/>
            <a:ext cx="57326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ding 3 PCN-States in the IP header using a single DSCP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60600" y="5445000"/>
            <a:ext cx="31161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b Brisco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by Moncaster, independ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 Menth, Uni Tueb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ETF-81 PCN Jul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81B-B562-4707-BEAA-87F8A1560BFF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811160"/>
            <a:ext cx="78818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ding 3 PCN-States in the IP header using a single DS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ure draft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penden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C6040 (PS) not required but 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nded statu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ec summar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written to obsolete not just update RFC5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set of SM in baseline, but threshold marker cannot set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not also accommodate PS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diate inten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mmarise ML discussions. Another WG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bis written to fix some nits, but can process with WG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5415120"/>
          <a:ext cx="7462800" cy="1109520"/>
        </p:xfrm>
        <a:graphic>
          <a:graphicData uri="http://schemas.openxmlformats.org/drawingml/2006/table">
            <a:tbl>
              <a:tblPr/>
              <a:tblGrid>
                <a:gridCol w="1800000"/>
                <a:gridCol w="1258920"/>
                <a:gridCol w="1189080"/>
                <a:gridCol w="1150920"/>
                <a:gridCol w="1044720"/>
                <a:gridCol w="1019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C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FC 5696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in-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108"/>
          <p:cNvSpPr/>
          <p:nvPr/>
        </p:nvSpPr>
        <p:spPr>
          <a:xfrm>
            <a:off x="5650200" y="189000"/>
            <a:ext cx="3384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33"/>
                </a:solidFill>
                <a:uFillTx/>
                <a:latin typeface="Arial"/>
              </a:rPr>
              <a:t>Glossar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NM = Not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ThM = Threshold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ETM = Excess Traffic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SM = single marking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PSDM = packet-specific dual marking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CD3-0C29-405E-B724-CFE187AFA83C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3-in-1 encoding rewritten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10800"/>
            <a:ext cx="7881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obsolete, not just update, baselin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RFC569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in-1 has become superset of 3-in-1 and single marking in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written not just pasted – clea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ied 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cularly with respect to RFC6040 and pre-RFC6040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ed section on backward compatibility with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ed relevant informative appendices from RFC5696 to 3-i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A. Choice of Suitable DSCPs . . . . . . . . . . . . . .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B. Co-existence of ECN and PCN . . . . . . . . . . . .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C. Example Mapping between Encoding of PCN-Mark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nd in MPLS Shim Headers . . . . . . . . . . . . .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FBD-85D0-4495-ABB5-1BBD913FEAA8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ummary of mailing list discussion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obsolete, not just update, baseline enco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RFC569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in-1 has become superset of 3-in-1 and single marking in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s where only one marking function throughout PC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Excess-traffic-marking: (e.g. single-marking) straight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Threshold-marking: issues with pre-6040 tunnels (next sl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not accommodate P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 many dif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s to continue on experimental track as alternate to 3-i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nnel half in a PCN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lem with RFC5559 text. Fix in 3-in-1? Or erratum to 5559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2BF-1388-494A-B733-36ABCAE8CCA0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Threshold Marked (ThM) and pre-6040 tunnel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2520" y="130464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 codepoint has become solely excess-traffic-marked (E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longer generi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CN-marke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PM, ie ETM or ThM) cod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M now defined, but MUST NOT use unless all tunnel endpoints are RFC6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pre-6040 tunnel egress conflicts with using ThM (reverts to NM on dec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mailing list discussion that led to this decis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want to define cases where pre-6040 tunnel endpoints can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y c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only excess-traffic-marking throughout domain (e.g. single-marking - S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st works with any tu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both marking functions running (e.g. controlled load - 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l tunnel endpoints in PCN domain MUST comply with RFC6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der case: if only threshold marking throughout domain (no example use-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had two possibilities to choose betw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reshold marking sets ThM but only in a pure 6040 PCN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pre-6040 tunnel endpoints present, allow ThM to set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iven no use-case, decided not to allow case #2 (avoids confus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5415120"/>
          <a:ext cx="7462800" cy="1109520"/>
        </p:xfrm>
        <a:graphic>
          <a:graphicData uri="http://schemas.openxmlformats.org/drawingml/2006/table">
            <a:tbl>
              <a:tblPr/>
              <a:tblGrid>
                <a:gridCol w="1800000"/>
                <a:gridCol w="1258920"/>
                <a:gridCol w="1189080"/>
                <a:gridCol w="1150920"/>
                <a:gridCol w="1044720"/>
                <a:gridCol w="1019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C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FC 5696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in-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BA63-65E8-40E4-B8DB-121507DE4D9A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tunnel half in a PCN-domain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2520" y="3033360"/>
            <a:ext cx="75549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case, PCN arch [RFC5559] incorrectly 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unnel egress node clears any PCN-marking on the inner header.  This rule is applied before the "copy on decapsulation" rul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correct: would break e2e ECN by wiping CE on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to fix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3-in-1 appendix on interaction between e2e ECN and P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atum to RFC5559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58920" y="1449360"/>
            <a:ext cx="8532720" cy="1403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93840" y="2384280"/>
            <a:ext cx="8353440" cy="0"/>
          </a:xfrm>
          <a:prstGeom prst="line">
            <a:avLst/>
          </a:prstGeom>
          <a:ln w="57240">
            <a:solidFill>
              <a:srgbClr val="00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1941120" y="2168640"/>
            <a:ext cx="2559240" cy="0"/>
          </a:xfrm>
          <a:prstGeom prst="line">
            <a:avLst/>
          </a:prstGeom>
          <a:ln w="57240">
            <a:solidFill>
              <a:srgbClr val="00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9040" y="2023920"/>
            <a:ext cx="1396800" cy="4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unnel in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522680" y="2023920"/>
            <a:ext cx="1397160" cy="4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unnel e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2467080" y="1841400"/>
            <a:ext cx="1312920" cy="430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PCN in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645240" y="2027160"/>
            <a:ext cx="1312920" cy="430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PCN e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60600" y="2532240"/>
            <a:ext cx="57326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ding 3 PCN-States in the IP header using a single DSCP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60600" y="5445000"/>
            <a:ext cx="31161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6:33:48Z</dcterms:created>
  <dc:creator>Bob Briscoe</dc:creator>
  <dc:description/>
  <dc:language>en-US</dc:language>
  <cp:lastModifiedBy>Scott Bradner</cp:lastModifiedBy>
  <dcterms:modified xsi:type="dcterms:W3CDTF">2011-07-25T18:58:56Z</dcterms:modified>
  <cp:revision>354</cp:revision>
  <dc:subject/>
  <dc:title>Layered Encapsulation of Congestion Notification</dc:title>
</cp:coreProperties>
</file>