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c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2948F03-2ED0-4040-9BC9-90DCFC9E2B68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7F36661-81A0-435B-BCC3-E70A7B7D51BC}" type="slidenum">
              <a:rPr b="0" lang="en-GB" sz="13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5D87D3E-DFDB-4C41-A51B-CFAE39429B56}" type="slidenum">
              <a:rPr b="0" lang="en-GB" sz="13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81A3D1A-B298-4D4B-9D23-88C49BDC2179}" type="slidenum">
              <a:rPr b="0" lang="en-GB" sz="13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4F36A-1C67-4A8F-B93C-933046E115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1810800"/>
            <a:ext cx="75549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082520" y="4022280"/>
            <a:ext cx="75549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71964-1760-4CCE-B1C7-EA3EA9341A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82520" y="1810800"/>
            <a:ext cx="36867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3960" y="1810800"/>
            <a:ext cx="36867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82520" y="4022280"/>
            <a:ext cx="36867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53960" y="4022280"/>
            <a:ext cx="36867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CB6DE-D910-49F3-8033-5FDA63D658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82520" y="1810800"/>
            <a:ext cx="243252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37080" y="1810800"/>
            <a:ext cx="243252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91640" y="1810800"/>
            <a:ext cx="243252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082520" y="4022280"/>
            <a:ext cx="243252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37080" y="4022280"/>
            <a:ext cx="243252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91640" y="4022280"/>
            <a:ext cx="243252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87051-E63C-43DA-8ABC-BF43B1E371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082520" y="1810800"/>
            <a:ext cx="7554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82520" y="1810800"/>
            <a:ext cx="7554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82520" y="1810800"/>
            <a:ext cx="36867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53960" y="1810800"/>
            <a:ext cx="36867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879480" y="715680"/>
            <a:ext cx="7758000" cy="419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2520" y="1810800"/>
            <a:ext cx="36867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53960" y="1810800"/>
            <a:ext cx="36867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082520" y="4022280"/>
            <a:ext cx="36867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082520" y="1810800"/>
            <a:ext cx="7554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8E570-8EBA-4EEC-A95A-E9FF2C50A8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2520" y="1810800"/>
            <a:ext cx="36867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53960" y="1810800"/>
            <a:ext cx="36867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53960" y="4022280"/>
            <a:ext cx="36867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2520" y="1810800"/>
            <a:ext cx="36867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53960" y="1810800"/>
            <a:ext cx="36867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82520" y="4022280"/>
            <a:ext cx="75549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82520" y="1810800"/>
            <a:ext cx="75549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082520" y="4022280"/>
            <a:ext cx="75549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82520" y="1810800"/>
            <a:ext cx="36867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3960" y="1810800"/>
            <a:ext cx="36867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82520" y="4022280"/>
            <a:ext cx="36867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53960" y="4022280"/>
            <a:ext cx="36867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82520" y="1810800"/>
            <a:ext cx="243252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37080" y="1810800"/>
            <a:ext cx="243252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91640" y="1810800"/>
            <a:ext cx="243252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082520" y="4022280"/>
            <a:ext cx="243252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37080" y="4022280"/>
            <a:ext cx="243252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91640" y="4022280"/>
            <a:ext cx="243252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82520" y="1810800"/>
            <a:ext cx="7554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0D9BA-F294-4E84-8C0A-747BB23C99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82520" y="1810800"/>
            <a:ext cx="36867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53960" y="1810800"/>
            <a:ext cx="36867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F7FD8-27E6-4D88-B8BB-78BFAA344D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3E3C8-835A-4E79-AFB9-FD4A3289D5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79480" y="715680"/>
            <a:ext cx="7758000" cy="419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E4FCF-99AF-44BC-A21D-91A3D45579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82520" y="1810800"/>
            <a:ext cx="36867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53960" y="1810800"/>
            <a:ext cx="36867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082520" y="4022280"/>
            <a:ext cx="36867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7DD0E-802C-4F88-B101-EEBD5E083B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1810800"/>
            <a:ext cx="36867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53960" y="1810800"/>
            <a:ext cx="36867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3960" y="4022280"/>
            <a:ext cx="36867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7BDB2-040E-427D-AA20-A071CB8C6B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1810800"/>
            <a:ext cx="36867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53960" y="1810800"/>
            <a:ext cx="36867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82520" y="4022280"/>
            <a:ext cx="75549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0FEC0-D744-4ED6-ADE4-76C89BEE2F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2520" y="1810800"/>
            <a:ext cx="7554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4040" indent="-2840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9520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2480" indent="-2700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38320" indent="-28440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34960" indent="-29520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34960" indent="-295200">
              <a:spcBef>
                <a:spcPts val="1199"/>
              </a:spcBef>
              <a:buClr>
                <a:srgbClr val="0000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34960" indent="-295200">
              <a:spcBef>
                <a:spcPts val="1199"/>
              </a:spcBef>
              <a:buClr>
                <a:srgbClr val="0000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879120" y="474840"/>
            <a:ext cx="369252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DF2E2-57A2-44FF-A745-132A5B1215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shapes 04 white"/>
          <p:cNvPicPr/>
          <p:nvPr/>
        </p:nvPicPr>
        <p:blipFill>
          <a:blip r:embed="rId2"/>
          <a:srcRect l="0" t="407" r="0" b="0"/>
          <a:stretch/>
        </p:blipFill>
        <p:spPr>
          <a:xfrm>
            <a:off x="0" y="0"/>
            <a:ext cx="9132840" cy="623880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5" descr="logo white"/>
          <p:cNvPicPr/>
          <p:nvPr/>
        </p:nvPicPr>
        <p:blipFill>
          <a:blip r:embed="rId3"/>
          <a:stretch/>
        </p:blipFill>
        <p:spPr>
          <a:xfrm>
            <a:off x="7257960" y="5734080"/>
            <a:ext cx="1886040" cy="1123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82520" y="1810800"/>
            <a:ext cx="7554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4040" indent="-2840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9520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2480" indent="-2700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38320" indent="-28440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34960" indent="-29520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34960" indent="-295200">
              <a:spcBef>
                <a:spcPts val="1199"/>
              </a:spcBef>
              <a:buClr>
                <a:srgbClr val="0000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34960" indent="-295200">
              <a:spcBef>
                <a:spcPts val="1199"/>
              </a:spcBef>
              <a:buClr>
                <a:srgbClr val="0000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60600" y="2532240"/>
            <a:ext cx="5732640" cy="9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ncoding 3 PCN-States in the IP header using a single DSCP</a:t>
            </a:r>
            <a:br>
              <a:rPr sz="28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aft-ietf-pcn-3-in-1-encoding-06.txt</a:t>
            </a:r>
            <a:endParaRPr b="0" lang="en-US" sz="2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60600" y="5445000"/>
            <a:ext cx="311616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ob Brisco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, BT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oby Moncaster, independent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ichael Menth, Uni Tuebi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ETF-81 PCN Jul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E1929-9BE6-426C-95E1-A9969A53A91A}" type="slidenum">
              <a:rPr b="0" lang="en-GB" sz="14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66cc"/>
                </a:solidFill>
                <a:latin typeface="Arial"/>
              </a:rPr>
              <a:t>status</a:t>
            </a:r>
            <a:endParaRPr b="0" lang="en-US" sz="28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55640" y="1811160"/>
            <a:ext cx="788184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4040" indent="-2840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coding 3 PCN-States in the IP header using a single DS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2480" indent="-2700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ture draft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raft-ietf-pcn-3-in-1-encoding-06.t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2480" indent="-2700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ependency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FC6040 (PS) not required but prefer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2480" indent="-2700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tended status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tandards tr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2480" indent="-2700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xec summary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written to obsolete not just update RFC56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38320" indent="-2844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perset of SM in baseline, but threshold marker cannot set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38320" indent="-2844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ld not also accommodate PS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2480" indent="-2700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mmediate intent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Summarise ML discussions. Another WGL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38320" indent="-2844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6bis written to fix some nits, but can process with WGL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68360" y="5415120"/>
          <a:ext cx="7462800" cy="1109520"/>
        </p:xfrm>
        <a:graphic>
          <a:graphicData uri="http://schemas.openxmlformats.org/drawingml/2006/table">
            <a:tbl>
              <a:tblPr/>
              <a:tblGrid>
                <a:gridCol w="1800000"/>
                <a:gridCol w="1258920"/>
                <a:gridCol w="1189080"/>
                <a:gridCol w="1150920"/>
                <a:gridCol w="1044720"/>
                <a:gridCol w="1019160"/>
              </a:tblGrid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SCP</a:t>
                      </a:r>
                      <a:endParaRPr b="0" lang="en-US" sz="1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2f2f2"/>
                      </a:solidFill>
                    </a:lnR>
                    <a:lnT>
                      <a:noFill/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</a:t>
                      </a:r>
                      <a:endParaRPr b="0" lang="en-US" sz="1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>
                      <a:noFill/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>
                      <a:noFill/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1</a:t>
                      </a:r>
                      <a:endParaRPr b="0" lang="en-US" sz="1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>
                      <a:noFill/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2d2d8a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line RFC 5696</a:t>
                      </a:r>
                      <a:endParaRPr b="0" lang="en-US" sz="1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SCPn</a:t>
                      </a:r>
                      <a:endParaRPr b="0" lang="en-US" sz="1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-PCN</a:t>
                      </a:r>
                      <a:endParaRPr b="0" lang="en-US" sz="1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M</a:t>
                      </a:r>
                      <a:endParaRPr b="0" lang="en-US" sz="1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</a:t>
                      </a:r>
                      <a:endParaRPr b="0" lang="en-US" sz="1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M</a:t>
                      </a:r>
                      <a:endParaRPr b="0" lang="en-US" sz="1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in-1</a:t>
                      </a:r>
                      <a:endParaRPr b="0" lang="en-US" sz="1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SCPn</a:t>
                      </a:r>
                      <a:endParaRPr b="0" lang="en-US" sz="1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-PCN</a:t>
                      </a:r>
                      <a:endParaRPr b="0" lang="en-US" sz="1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M</a:t>
                      </a:r>
                      <a:endParaRPr b="0" lang="en-US" sz="1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M</a:t>
                      </a:r>
                      <a:endParaRPr b="0" lang="en-US" sz="1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M</a:t>
                      </a:r>
                      <a:endParaRPr b="0" lang="en-US" sz="1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93" name="Text Box 108"/>
          <p:cNvSpPr/>
          <p:nvPr/>
        </p:nvSpPr>
        <p:spPr>
          <a:xfrm>
            <a:off x="5650200" y="189000"/>
            <a:ext cx="33840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0033"/>
                </a:solidFill>
                <a:uFillTx/>
                <a:latin typeface="Arial"/>
              </a:rPr>
              <a:t>Glossary</a:t>
            </a: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33"/>
                </a:solidFill>
                <a:latin typeface="Arial"/>
              </a:rPr>
              <a:t>NM = Not Marked</a:t>
            </a: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33"/>
                </a:solidFill>
                <a:latin typeface="Arial"/>
              </a:rPr>
              <a:t>ThM = Threshold Marked</a:t>
            </a: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33"/>
                </a:solidFill>
                <a:latin typeface="Arial"/>
              </a:rPr>
              <a:t>ETM = Excess Traffic Marked</a:t>
            </a: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33"/>
                </a:solidFill>
                <a:latin typeface="Arial"/>
              </a:rPr>
              <a:t>SM = single marking</a:t>
            </a: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33"/>
                </a:solidFill>
                <a:latin typeface="Arial"/>
              </a:rPr>
              <a:t>PSDM = packet-specific dual marking</a:t>
            </a: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7D599-9884-4A11-B0D5-9A0E1EFDB8E5}" type="slidenum">
              <a:rPr b="0" lang="en-GB" sz="14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66cc"/>
                </a:solidFill>
                <a:latin typeface="Arial"/>
              </a:rPr>
              <a:t>3-in-1 encoding rewritten</a:t>
            </a:r>
            <a:endParaRPr b="0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55640" y="1810800"/>
            <a:ext cx="788184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4040" indent="-284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order to obsolete, not just update, baseline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[RFC5696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95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3-in-1 has become superset of 3-in-1 and single marking in base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95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-written not just pasted – clean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arified applic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95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articularly with respect to RFC6040 and pre-RFC6040 tun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ed section on backward compatibility with base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orted relevant informative appendices from RFC5696 to 3-in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ppendix A. Choice of Suitable DSCPs . . . . . . . . . . . . . . 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ppendix B. Co-existence of ECN and PCN . . . . . . . . . . . .  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ppendix C. Example Mapping between Encoding of PCN-Marks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P and in MPLS Shim Headers . . . . . . . . . . . . . 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BED13-05A2-45C7-8645-2C1687C99BB6}" type="slidenum">
              <a:rPr b="0" lang="en-GB" sz="14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66cc"/>
                </a:solidFill>
                <a:latin typeface="Arial"/>
              </a:rPr>
              <a:t>Summary of mailing list discussions</a:t>
            </a:r>
            <a:endParaRPr b="0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82520" y="1810800"/>
            <a:ext cx="7554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4040" indent="-284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order to obsolete, not just update, baseline encoding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[RFC5696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95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3-in-1 has become superset of 3-in-1 and single marking in base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ses where only one marking function throughout PCN 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95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nly Excess-traffic-marking: (e.g. single-marking) straightforw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95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nly Threshold-marking: issues with pre-6040 tunnels (next sli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uld not accommodate PS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95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oo many differe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95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as to continue on experimental track as alternate to 3-in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unnel half in a PCN-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95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oblem with RFC5559 text. Fix in 3-in-1? Or erratum to 5559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DFF46-DE66-41F8-BAAD-4D5A65D41951}" type="slidenum">
              <a:rPr b="0" lang="en-GB" sz="14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66cc"/>
                </a:solidFill>
                <a:latin typeface="Arial"/>
              </a:rPr>
              <a:t>Threshold Marked (ThM) and pre-6040 tunnels</a:t>
            </a:r>
            <a:endParaRPr b="0" lang="en-US" sz="28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82520" y="1304640"/>
            <a:ext cx="7554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1 codepoint has become solely excess-traffic-marked (ET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42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o longer generic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CN-marked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(PM, ie ETM or ThM) code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42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hM now defined, but MUST NOT use unless all tunnel endpoints are RFC60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42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 pre-6040 tunnel egress conflicts with using ThM (reverts to NM on deca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mmary of mailing list discussion that led to this decisio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e want to define cases where pre-6040 tunnel endpoints can be u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asy cas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42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f only excess-traffic-marking throughout domain (e.g. single-marking - S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ust works with any tunne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42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f both marking functions running (e.g. controlled load - C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ll tunnel endpoints in PCN domain MUST comply with RFC60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arder case: if only threshold marking throughout domain (no example use-cas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42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e had two possibilities to choose betwee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reshold marking sets ThM but only in a pure 6040 PCN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f pre-6040 tunnel endpoints present, allow ThM to set 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42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Given no use-case, decided not to allow case #2 (avoids confus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68360" y="5415120"/>
          <a:ext cx="7462800" cy="1109520"/>
        </p:xfrm>
        <a:graphic>
          <a:graphicData uri="http://schemas.openxmlformats.org/drawingml/2006/table">
            <a:tbl>
              <a:tblPr/>
              <a:tblGrid>
                <a:gridCol w="1800000"/>
                <a:gridCol w="1258920"/>
                <a:gridCol w="1189080"/>
                <a:gridCol w="1150920"/>
                <a:gridCol w="1044720"/>
                <a:gridCol w="1019160"/>
              </a:tblGrid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SCP</a:t>
                      </a:r>
                      <a:endParaRPr b="0" lang="en-US" sz="1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2f2f2"/>
                      </a:solidFill>
                    </a:lnR>
                    <a:lnT>
                      <a:noFill/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</a:t>
                      </a:r>
                      <a:endParaRPr b="0" lang="en-US" sz="1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>
                      <a:noFill/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>
                      <a:noFill/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1</a:t>
                      </a:r>
                      <a:endParaRPr b="0" lang="en-US" sz="1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>
                      <a:noFill/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2d2d8a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line RFC 5696</a:t>
                      </a:r>
                      <a:endParaRPr b="0" lang="en-US" sz="1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SCPn</a:t>
                      </a:r>
                      <a:endParaRPr b="0" lang="en-US" sz="1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-PCN</a:t>
                      </a:r>
                      <a:endParaRPr b="0" lang="en-US" sz="1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M</a:t>
                      </a:r>
                      <a:endParaRPr b="0" lang="en-US" sz="1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</a:t>
                      </a:r>
                      <a:endParaRPr b="0" lang="en-US" sz="1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M</a:t>
                      </a:r>
                      <a:endParaRPr b="0" lang="en-US" sz="1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in-1</a:t>
                      </a:r>
                      <a:endParaRPr b="0" lang="en-US" sz="1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SCPn</a:t>
                      </a:r>
                      <a:endParaRPr b="0" lang="en-US" sz="1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-PCN</a:t>
                      </a:r>
                      <a:endParaRPr b="0" lang="en-US" sz="1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M</a:t>
                      </a:r>
                      <a:endParaRPr b="0" lang="en-US" sz="1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M</a:t>
                      </a:r>
                      <a:endParaRPr b="0" lang="en-US" sz="1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M</a:t>
                      </a:r>
                      <a:endParaRPr b="0" lang="en-US" sz="1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7BEF4-56D3-443D-85FE-8997683CC3D5}" type="slidenum">
              <a:rPr b="0" lang="en-GB" sz="14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66cc"/>
                </a:solidFill>
                <a:latin typeface="Arial"/>
              </a:rPr>
              <a:t>tunnel half in a PCN-domain</a:t>
            </a:r>
            <a:endParaRPr b="0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82520" y="3033360"/>
            <a:ext cx="7554960" cy="30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4040" indent="-2840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his case, PCN arch [RFC5559] incorrectly s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tunnel egress node clears any PCN-marking on the inner header.  This rule is applied before the "copy on decapsulation" rule ab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correct: would break e2e ECN by wiping CE on i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here to fix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95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3-in-1 appendix on interaction between e2e ECN and PC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95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Erratum to RFC5559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358920" y="1449360"/>
            <a:ext cx="8532720" cy="140328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08" name="Line 7"/>
          <p:cNvSpPr/>
          <p:nvPr/>
        </p:nvSpPr>
        <p:spPr>
          <a:xfrm flipH="1">
            <a:off x="393840" y="2384280"/>
            <a:ext cx="8353440" cy="0"/>
          </a:xfrm>
          <a:prstGeom prst="line">
            <a:avLst/>
          </a:prstGeom>
          <a:ln w="57240">
            <a:solidFill>
              <a:srgbClr val="0000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09" name="Line 8"/>
          <p:cNvSpPr/>
          <p:nvPr/>
        </p:nvSpPr>
        <p:spPr>
          <a:xfrm flipH="1">
            <a:off x="1941120" y="2168640"/>
            <a:ext cx="2559240" cy="0"/>
          </a:xfrm>
          <a:prstGeom prst="line">
            <a:avLst/>
          </a:prstGeom>
          <a:ln w="57240">
            <a:solidFill>
              <a:srgbClr val="0000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689040" y="2023920"/>
            <a:ext cx="1396800" cy="468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3"/>
                </a:solidFill>
                <a:latin typeface="Arial"/>
              </a:rPr>
              <a:t>tunnel ingress</a:t>
            </a: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11" name="Rectangle 10"/>
          <p:cNvSpPr/>
          <p:nvPr/>
        </p:nvSpPr>
        <p:spPr>
          <a:xfrm>
            <a:off x="4522680" y="2023920"/>
            <a:ext cx="1397160" cy="468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3"/>
                </a:solidFill>
                <a:latin typeface="Arial"/>
              </a:rPr>
              <a:t>tunnel egress</a:t>
            </a: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12" name="Rectangle 20"/>
          <p:cNvSpPr/>
          <p:nvPr/>
        </p:nvSpPr>
        <p:spPr>
          <a:xfrm>
            <a:off x="2467080" y="1841400"/>
            <a:ext cx="1312920" cy="4302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3"/>
                </a:solidFill>
                <a:latin typeface="Arial"/>
              </a:rPr>
              <a:t>PCN ingress</a:t>
            </a: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13" name="Rectangle 21"/>
          <p:cNvSpPr/>
          <p:nvPr/>
        </p:nvSpPr>
        <p:spPr>
          <a:xfrm>
            <a:off x="6645240" y="2027160"/>
            <a:ext cx="1312920" cy="4302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3"/>
                </a:solidFill>
                <a:latin typeface="Arial"/>
              </a:rPr>
              <a:t>PCN egress</a:t>
            </a: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60600" y="2532240"/>
            <a:ext cx="5732640" cy="9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ncoding 3 PCN-States in the IP header using a single DSCP</a:t>
            </a:r>
            <a:br>
              <a:rPr sz="28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aft-ietf-pcn-3-in-1-encoding-06.txt</a:t>
            </a:r>
            <a:endParaRPr b="0" lang="en-US" sz="2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460600" y="5445000"/>
            <a:ext cx="311616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Q&amp;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6:33:48Z</dcterms:created>
  <dc:creator>Bob Briscoe</dc:creator>
  <dc:description/>
  <dc:language>en-US</dc:language>
  <cp:lastModifiedBy>Scott Bradner</cp:lastModifiedBy>
  <dcterms:modified xsi:type="dcterms:W3CDTF">2011-07-25T18:58:56Z</dcterms:modified>
  <cp:revision>354</cp:revision>
  <dc:subject/>
  <dc:title>Layered Encapsulation of Congestion Notification</dc:title>
</cp:coreProperties>
</file>