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7D9C-A1C6-4E63-801D-095CF62C0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BC63-C51E-436A-87A5-9D019484A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601E-2967-4D5A-BC8D-BB763FF33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2737-3CC5-4F87-9035-B8EA39518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590E-EDD5-4AC6-A5A3-15726D528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1C6B-E646-464A-BBCC-39658884D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59AB-7949-4531-BF29-9E445972A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A4D7-74EC-4B6F-8473-398FD048B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FFB8-14A4-4076-B5A9-93AFF81C2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F69D-8E97-4A3E-A66B-EA613305E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6B2B-70BB-493F-B626-E2967BEE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5EB3-AD4A-4174-963B-DB7827E5D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19033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520"/>
            <a:ext cx="28940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36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2AE4368-0CA7-4DD6-B5BD-0F5188A4E025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948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 and SM Edge Behaviour Draf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m Taylor + lots of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35000" y="76320"/>
            <a:ext cx="907416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terim submission covered comments received before IESG review except for O &amp; 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ave latter partly written, should fin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rotocol issue is new, appear to need a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ome effect on O &amp; M 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Way Forwar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om T to submit O &amp; M discussion within next couple of wee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Key question: does protocol solution have to be done before these docs can move forwar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f so, does it have to be in the documents or just incorporated by refere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5T12:01:32Z</dcterms:created>
  <dc:creator>Scott Bradner</dc:creator>
  <dc:description/>
  <dc:language>en-US</dc:language>
  <cp:lastModifiedBy>Scott Bradner</cp:lastModifiedBy>
  <dcterms:modified xsi:type="dcterms:W3CDTF">2011-07-25T16:07:20Z</dcterms:modified>
  <cp:revision>9</cp:revision>
  <dc:subject/>
  <dc:title>Congestion and Pre-Congestion Notification (pcn)</dc:title>
</cp:coreProperties>
</file>