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2C7-BC29-42BB-939A-3B268F42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7EF-FE1E-4F7D-B715-21F1D4FB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EAE-AA70-434F-B736-248E76FE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67C-83BD-466F-88BE-6A3BD35B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DC4-2570-4381-8061-A9FA0BD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E8E-6884-4572-8F65-4313BCD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4C3-BF2B-4E66-9D3B-ED7DB6A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547-895F-4E70-A15B-2D21DACB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CE7-837B-4257-8E2B-E2A4494B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1A9-76AE-4D4F-BA60-D238CD4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157-C62F-437E-9A23-CEC12EA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546-1208-4B57-B882-81397B2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F030D6-61F1-4773-8C1C-B1209FE7904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 and SM Edge Behaviour Draf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Taylor + lots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5000" y="76320"/>
            <a:ext cx="90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im submission covered comments received before IESG review except for O &amp;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latter partly written, should 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tocol issue is new, appear to need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effect on O &amp; M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ay Forw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m T to submit O &amp; M discussion within next couple of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y question: does protocol solution have to be done before these docs can move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so, does it have to be in the documents or just incorporated by re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2:01:32Z</dcterms:created>
  <dc:creator>Scott Bradner</dc:creator>
  <dc:description/>
  <dc:language>en-US</dc:language>
  <cp:lastModifiedBy>Scott Bradner</cp:lastModifiedBy>
  <dcterms:modified xsi:type="dcterms:W3CDTF">2011-07-25T16:07:20Z</dcterms:modified>
  <cp:revision>9</cp:revision>
  <dc:subject/>
  <dc:title>Congestion and Pre-Congestion Notification (pcn)</dc:title>
</cp:coreProperties>
</file>