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122-B196-45DC-9A31-DAA25F72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58F-5D85-40EA-BBF5-F806230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420-8B71-46F6-8EE9-6DD4CC65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EDF-1F73-4260-9CA2-05BE717A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FB8-4852-40A6-A789-B4654AD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C6C-D0FA-4CA9-AA8E-CFBD2C0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D5F-6377-4896-8645-B61C60E1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BB0-46D6-422C-8AC1-D90FCB9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5AF-59E1-43A2-9191-DF49BA26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875-96E7-40A4-B479-C098D76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2C7-9AEC-4986-98DE-66037DEC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CD9-7D93-42AF-A75F-8D7C4CA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52DB-3473-450E-9EF5-B0F686D5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C 4601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th IETF, Que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habh Pare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 Zh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PIM specification to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r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ptional features that l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le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deployment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d in Prague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rrata had been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al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s, editorial, keyword chang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 feature-to-be-removed discussed and narrowed dow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*, *, 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-to-RP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-00 end of April, addresses 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-0x before Quebec meeting, removes cert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ata addressed in draft-parekh-pim-rfc4601bis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removed in -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*, *, 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response and no objection on 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BR related sections and 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 *, RP) is the foundation for 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-to-RP mapping k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going to remove, and refer to RFC 6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would cause a down-ref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Standard referring to a Propos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more PMBR function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drastic even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mentioning of border router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ally justified after some pond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jor vendors implemented (*,*,RP), which is the foundation of PMBR as described in RFC 4601 and RFC 2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ocumented (RFC 4602) implementation is XORP (open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exper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P is typically used for inter-sparse-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prietary mechanisms for downstream dens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relying on (*,*,RP) &amp; 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inor changes in 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a redundant “CouldAssert” condition in (S,G) assert stat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of “receiving inferior assert at N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s the (S,G) Assert Timer” -&gt; “Expires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Assert Rules and Rationale,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ttempt to aid SSM-unaware legacy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.8.1, SSM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B (Index)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, review &amp; feedback, especially on features to be remo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*,*,RP) &amp; PMBR 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2:16:14Z</dcterms:created>
  <dc:creator>zzhang</dc:creator>
  <dc:description/>
  <dc:language>en-US</dc:language>
  <cp:lastModifiedBy>zzhang</cp:lastModifiedBy>
  <dcterms:modified xsi:type="dcterms:W3CDTF">2011-07-20T21:12:08Z</dcterms:modified>
  <cp:revision>40</cp:revision>
  <dc:subject/>
  <dc:title>RFC 4601 Revision</dc:title>
</cp:coreProperties>
</file>