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8EBD-5371-4406-88B2-FBD9CF96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720C-07F4-40AD-8BC3-1CA1D766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D8FA-032A-4AAC-908C-3528DF00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C02A-C6A7-4B45-8427-20A618E9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CE20-E208-4AE5-A787-3DFDE4FD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3C4-A85C-49FC-87A5-BEFA4393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2D6A-410E-4B8A-BDEE-C498A68E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7C9C-3D58-4D44-B7AE-AC432FAB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09BB-3DA6-42E3-96FF-EAC5D83E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FBF-C98E-4227-AE38-F710A11E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8044-B545-4B03-B8E0-264F48AA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89CB-041B-427C-B092-F770B49B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D0E7-5CDF-4A60-951E-AA972BAAA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FC 4601 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th IETF, Queb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habh Pare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ffrey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o Zhe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 PIM specification to Draft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Err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ptional features that lac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le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ful deployment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ed in Prague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rrata had been re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al techn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ications, editorial, keyword change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 feature-to-be-removed discussed and narrowed down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*, *, 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-to-RP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-00 end of April, addresses er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-0x before Quebec meeting, removes certain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ata addressed in draft-parekh-pim-rfc4601bis-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 removed in -0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*, *, 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response and no objection on mailing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BR related sections and appe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*, *, RP) is the foundation for PM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-to-RP mapping ke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going to remove, and refer to RFC 62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would cause a down-ref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Standard referring to a Propos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more PMBR functiona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what drastic even to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mentioning of border router at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really justified after some ponde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jor vendors implemented (*,*,RP), which is the foundation of PMBR as described in RFC 4601 and RFC 27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documented (RFC 4602) implementation is XORP (open sou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 experi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DP is typically used for inter-sparse-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prietary mechanisms for downstream dense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 of relying on (*,*,RP) &amp; PM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minor changes in -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key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d a redundant “CouldAssert” condition in (S,G) assert stat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ase of “receiving inferior assert at N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ls the (S,G) Assert Timer” -&gt; “Expires 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Assert Rules and Rationale, 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attempt to aid SSM-unaware legacy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4.8.1, SSM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x B (Index)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 ado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, review &amp; feedback, especially on features to be remo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*,*,RP) &amp; PMBR o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12:16:14Z</dcterms:created>
  <dc:creator>zzhang</dc:creator>
  <dc:description/>
  <dc:language>en-US</dc:language>
  <cp:lastModifiedBy>zzhang</cp:lastModifiedBy>
  <dcterms:modified xsi:type="dcterms:W3CDTF">2011-07-20T21:12:08Z</dcterms:modified>
  <cp:revision>40</cp:revision>
  <dc:subject/>
  <dc:title>RFC 4601 Revision</dc:title>
</cp:coreProperties>
</file>