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14A3-1A61-4B2E-B505-6DBD5C6C6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D0A3-5225-401F-9C46-6D88B7C58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1BC6-AA43-4D7D-8201-98C8E9CD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2885-FB7D-4465-BBE5-038CF221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C6C7-ECE3-4F9F-A1EA-4BBDD0507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BC10-B96A-490F-9EF6-4223C873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AEBD-2548-4F7C-BD7B-129EE48F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1E30-D051-449E-9ED9-06DECE0F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FE42-2D12-4BCA-A083-6A1AC623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DDC3-B5E6-4356-85BE-08551839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64DA-F908-471E-A11C-7538C670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B143-ED68-4244-9334-DC8C8183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6A47-6779-4890-8EF2-69B2F596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9DF3-2CDA-4999-B91E-6CD6DAD6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F9C4-BEB4-43EF-9FA7-D325B59DF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ce@cisco.com" TargetMode="External"/><Relationship Id="rId2" Type="http://schemas.openxmlformats.org/officeDocument/2006/relationships/hyperlink" Target="mailto:ycai@cisco.co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1st IETF -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bec,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Jsbrand Wijna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ce@cisco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iqun ca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ycai@cisco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28600" y="2362320"/>
            <a:ext cx="8686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-wijnands-pim-neighbor-reduction-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6rd IETF -  Hiroshima, Ja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d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8rd IETF - Maastricht, Nether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PIM hello sup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M creates a neighbor relationship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 LAN we’ll see as many PIM neighbors as there are PIM enabled routers conn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s that connected a large number of PIM enabled routers potentially create a large PIM neighbor list. For example a Mi-PMSI in L3VP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 the number of PIM neighbors to the PIM routers that are a target upstream for either the RP or Source(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M routers do not send out PIM hello’s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M neighbor adjacency is requested by a special ‘Hello request bit’ in the J/P h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al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 one-way adjacency with the target upstream PIM rou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long as the upstream router has downstream interest, it keeps sending out PIM hello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, this solution benefits networks where the Sources are mostly co-located in few sites. Which is a typical deployment in L3VP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s like to get more feedback from the W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like to ask for WG add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14:24:40Z</dcterms:created>
  <dc:creator>Office 2004 Test Drive User</dc:creator>
  <dc:description/>
  <dc:language>en-US</dc:language>
  <cp:lastModifiedBy>Cisco</cp:lastModifiedBy>
  <dcterms:modified xsi:type="dcterms:W3CDTF">2011-07-26T14:42:56Z</dcterms:modified>
  <cp:revision>34</cp:revision>
  <dc:subject/>
  <dc:title>IETF Chicago</dc:title>
</cp:coreProperties>
</file>