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6B01-2534-49B3-A2B8-204DFD067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B8A0-B4B3-4407-843D-F120FF18A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8F72-70A7-42F3-9252-41D3BB32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4A20-2786-4348-9B2F-F462E157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4603-727B-43D4-AFC2-C55E22B0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496-3AFA-43FE-8A33-5B49AEBC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523-D591-4780-81C2-5E348C1E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364-C5B7-46E3-94BF-B223E349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E0BD-A8B8-4A03-95FF-3A84DE2E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DE3-C980-447A-A4C0-64D44589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2629-5302-4522-A367-1B135C53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928B-77CB-4E45-B068-17CE5B2D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301-B15B-4CB9-8E1B-9E83B097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C10-C8D1-4A97-A276-31847C02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9EF1-1043-4697-8A93-587A7B7E6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ce@cisco.com" TargetMode="External"/><Relationship Id="rId2" Type="http://schemas.openxmlformats.org/officeDocument/2006/relationships/hyperlink" Target="mailto:ycai@cisco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1st IETF -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bec,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Jsbrand Wijna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ce@cisc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qun ca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ycai@cisc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28600" y="2362320"/>
            <a:ext cx="8686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wijnands-pim-neighbor-reduction-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6rd IETF -  Hiroshima,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8rd IETF - Maastricht,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PIM hello sup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M creates a neighbor relationship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LAN we’ll see as many PIM neighbors as there are PIM enabled routers conn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s that connected a large number of PIM enabled routers potentially create a large PIM neighbor list. For example a Mi-PMSI in L3VP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the number of PIM neighbors to the PIM routers that are a target upstream for either the RP or Source(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M routers do not send out PIM hello’s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M neighbor adjacency is requested by a special ‘Hello request bit’ in the J/P h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one-way adjacency with the target upstream PIM ro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long as the upstream router has downstream interest, it keeps sending out PIM hello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, this solution benefits networks where the Sources are mostly co-located in few sites. Which is a typical deployment in L3VP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s like to get more feedback from the W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like to ask for WG add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4:24:40Z</dcterms:created>
  <dc:creator>Office 2004 Test Drive User</dc:creator>
  <dc:description/>
  <dc:language>en-US</dc:language>
  <cp:lastModifiedBy>Cisco</cp:lastModifiedBy>
  <dcterms:modified xsi:type="dcterms:W3CDTF">2011-07-26T14:42:56Z</dcterms:modified>
  <cp:revision>34</cp:revision>
  <dc:subject/>
  <dc:title>IETF Chicago</dc:title>
</cp:coreProperties>
</file>