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C91F-8328-4055-BA9B-F9C172B81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710-4A5E-4E66-A4DF-0647C232E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336-7C87-4608-9AF5-DA5C5647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50D1-34D6-4BEB-98BE-A846C33C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1BE-A29D-4C8D-99FD-70AB91CF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3E1-7F05-4441-A849-143CD278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56DD-7615-4870-B229-D9F0A6D0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8A0E-246E-4BE4-9969-1BB1557B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47D-FF4B-4987-9E00-4995995D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8A8-7001-4AA5-AAB3-5C7718D3A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9C4-7418-4B2B-80E1-0C1677C6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CB0-8A9E-4B35-8F5B-BAC7BA27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0E6-3FF9-485B-86B6-01D6E35B0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CE5E-E2D2-43FF-8B56-75C8202E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96D5-273C-4C39-BB2A-79A0F3D9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758-ED3B-4DDE-9AD3-D1B16AF5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B4F-D9C5-4BE8-ACF1-FC40611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8F9-9B17-40C2-893C-E2D3754E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45-8C14-41C9-9727-B6351C03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123-A880-4D4B-AE36-D4D5BF74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1403-692B-4E90-A7A0-F63D9497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EB3E-CD51-4274-BF73-C7740C24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D12-7FD1-42BA-88CB-DB691E2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986A-C1B2-4644-BB75-890FBB5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EAAB-2FE5-4BDB-9A2F-9D9F1C16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8E4-0B46-446F-86C7-EB482677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A7AB-088C-453D-8CB2-A4490BB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600-A2D9-4A45-8527-775AF83F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1D8F-12F8-4595-8806-CEC1AB7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9D7-1A78-4E90-A00A-64A1EED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0E4-E046-45DB-A081-7D4A867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E1BF-9442-4159-AE19-F09631E6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E18-922C-4F5B-A46B-89997547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AB73-22E8-47FB-97DC-71AA159C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3C87-EF47-44EC-9743-B80520C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F0DC-201B-415E-876C-299B198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807A-FFC5-45FE-9871-CF768D4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D1CE-F2A7-494A-96F1-3683951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16A-0166-4107-BDB7-B163F16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9197-5263-482E-95B9-30F84D9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8A9B-6AB5-4510-B640-2024FA6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81CB-D82E-48D8-8B2C-D7BE9B7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5D18-ABE4-4F83-9809-078A61F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407F-196C-4EC2-9032-11A645E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C252-0A13-4BF7-9174-8E7A47B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718D-A931-4AB0-9CC9-9960D75D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1E97-35B1-44BB-A559-EBAF5800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A2CD-1189-4238-98B7-F09990AA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771A-E9FD-4A70-81D0-C0E2648C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4E7-97B5-4D70-9C74-7BD8A53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640A-A884-4ECD-9C09-61CEE72A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9AB1-E079-4447-8BCE-D9EA9FF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DC8E-829E-4966-95C3-E0FB195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CAED-15B7-4188-AEA9-6A55259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47B9-468F-40FD-97C8-1490DBD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7B3A-EDCC-4374-9B8B-71064AF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5FE5-9977-4CA1-B1DA-F727DC3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A39E-663C-48A0-B2C3-A329D5B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DB8E-FF9E-4394-B979-1210302C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12B-91D3-4530-8C3C-1132324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EE9-51A9-44F1-9638-616D0241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966-6780-4B1D-8DC8-B1A2FA5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A51-098B-44B3-85FB-774366A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F24-AC03-44C2-9C2E-FA9F70B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43C-BAB0-4BAB-9AED-C8861CB3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02E-F8F8-4914-967C-938D9929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6FA3-486B-4337-AF35-FB5A0D8F2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7740-2B4C-4C93-ADF3-7798DAB8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1, Quebec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(PIM ECMP Assert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2DE1-AF21-436F-B5CF-B9B10DE52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03"/>
          <p:cNvGrpSpPr/>
          <p:nvPr/>
        </p:nvGrpSpPr>
        <p:grpSpPr>
          <a:xfrm>
            <a:off x="3429000" y="2209680"/>
            <a:ext cx="806400" cy="559080"/>
            <a:chOff x="3429000" y="2209680"/>
            <a:chExt cx="806400" cy="559080"/>
          </a:xfrm>
        </p:grpSpPr>
        <p:sp>
          <p:nvSpPr>
            <p:cNvPr id="359" name="AutoShape 104"/>
            <p:cNvSpPr/>
            <p:nvPr/>
          </p:nvSpPr>
          <p:spPr>
            <a:xfrm>
              <a:off x="342900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105"/>
            <p:cNvGrpSpPr/>
            <p:nvPr/>
          </p:nvGrpSpPr>
          <p:grpSpPr>
            <a:xfrm>
              <a:off x="3429000" y="2211480"/>
              <a:ext cx="804960" cy="543960"/>
              <a:chOff x="3429000" y="2211480"/>
              <a:chExt cx="804960" cy="543960"/>
            </a:xfrm>
          </p:grpSpPr>
          <p:sp>
            <p:nvSpPr>
              <p:cNvPr id="361" name="Oval 106"/>
              <p:cNvSpPr/>
              <p:nvPr/>
            </p:nvSpPr>
            <p:spPr>
              <a:xfrm>
                <a:off x="343044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07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108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109"/>
              <p:cNvSpPr/>
              <p:nvPr/>
            </p:nvSpPr>
            <p:spPr>
              <a:xfrm>
                <a:off x="343044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Group 110"/>
              <p:cNvGrpSpPr/>
              <p:nvPr/>
            </p:nvGrpSpPr>
            <p:grpSpPr>
              <a:xfrm>
                <a:off x="3551040" y="2249280"/>
                <a:ext cx="557280" cy="241920"/>
                <a:chOff x="3551040" y="2249280"/>
                <a:chExt cx="557280" cy="241920"/>
              </a:xfrm>
            </p:grpSpPr>
            <p:grpSp>
              <p:nvGrpSpPr>
                <p:cNvPr id="366" name="Group 111"/>
                <p:cNvGrpSpPr/>
                <p:nvPr/>
              </p:nvGrpSpPr>
              <p:grpSpPr>
                <a:xfrm>
                  <a:off x="3551040" y="2249280"/>
                  <a:ext cx="552600" cy="235800"/>
                  <a:chOff x="3551040" y="2249280"/>
                  <a:chExt cx="552600" cy="235800"/>
                </a:xfrm>
              </p:grpSpPr>
              <p:sp>
                <p:nvSpPr>
                  <p:cNvPr id="367" name="Freeform 112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Freeform 113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Freeform 114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115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116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117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118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Freeform 119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" name="Group 120"/>
                <p:cNvGrpSpPr/>
                <p:nvPr/>
              </p:nvGrpSpPr>
              <p:grpSpPr>
                <a:xfrm>
                  <a:off x="3556080" y="2253600"/>
                  <a:ext cx="552240" cy="237600"/>
                  <a:chOff x="3556080" y="2253600"/>
                  <a:chExt cx="552240" cy="237600"/>
                </a:xfrm>
              </p:grpSpPr>
              <p:sp>
                <p:nvSpPr>
                  <p:cNvPr id="376" name="Freeform 121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Freeform 122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123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124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125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Freeform 126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127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128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4" name="Line 129"/>
              <p:cNvSpPr/>
              <p:nvPr/>
            </p:nvSpPr>
            <p:spPr>
              <a:xfrm>
                <a:off x="342900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130"/>
              <p:cNvSpPr/>
              <p:nvPr/>
            </p:nvSpPr>
            <p:spPr>
              <a:xfrm>
                <a:off x="42307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Text Box 131"/>
            <p:cNvSpPr/>
            <p:nvPr/>
          </p:nvSpPr>
          <p:spPr>
            <a:xfrm>
              <a:off x="365940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103"/>
          <p:cNvGrpSpPr/>
          <p:nvPr/>
        </p:nvGrpSpPr>
        <p:grpSpPr>
          <a:xfrm>
            <a:off x="5105520" y="2209680"/>
            <a:ext cx="806400" cy="559080"/>
            <a:chOff x="5105520" y="2209680"/>
            <a:chExt cx="806400" cy="559080"/>
          </a:xfrm>
        </p:grpSpPr>
        <p:sp>
          <p:nvSpPr>
            <p:cNvPr id="388" name="AutoShape 104"/>
            <p:cNvSpPr/>
            <p:nvPr/>
          </p:nvSpPr>
          <p:spPr>
            <a:xfrm>
              <a:off x="510552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105"/>
            <p:cNvGrpSpPr/>
            <p:nvPr/>
          </p:nvGrpSpPr>
          <p:grpSpPr>
            <a:xfrm>
              <a:off x="5105520" y="2211480"/>
              <a:ext cx="804960" cy="543960"/>
              <a:chOff x="5105520" y="2211480"/>
              <a:chExt cx="804960" cy="543960"/>
            </a:xfrm>
          </p:grpSpPr>
          <p:sp>
            <p:nvSpPr>
              <p:cNvPr id="390" name="Oval 106"/>
              <p:cNvSpPr/>
              <p:nvPr/>
            </p:nvSpPr>
            <p:spPr>
              <a:xfrm>
                <a:off x="510696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7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08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09"/>
              <p:cNvSpPr/>
              <p:nvPr/>
            </p:nvSpPr>
            <p:spPr>
              <a:xfrm>
                <a:off x="510696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Group 110"/>
              <p:cNvGrpSpPr/>
              <p:nvPr/>
            </p:nvGrpSpPr>
            <p:grpSpPr>
              <a:xfrm>
                <a:off x="5227560" y="2249280"/>
                <a:ext cx="557280" cy="241920"/>
                <a:chOff x="5227560" y="2249280"/>
                <a:chExt cx="557280" cy="241920"/>
              </a:xfrm>
            </p:grpSpPr>
            <p:grpSp>
              <p:nvGrpSpPr>
                <p:cNvPr id="395" name="Group 111"/>
                <p:cNvGrpSpPr/>
                <p:nvPr/>
              </p:nvGrpSpPr>
              <p:grpSpPr>
                <a:xfrm>
                  <a:off x="5227560" y="2249280"/>
                  <a:ext cx="552600" cy="235800"/>
                  <a:chOff x="5227560" y="2249280"/>
                  <a:chExt cx="552600" cy="235800"/>
                </a:xfrm>
              </p:grpSpPr>
              <p:sp>
                <p:nvSpPr>
                  <p:cNvPr id="396" name="Freeform 112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113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Freeform 114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Freeform 115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116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Freeform 117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Freeform 118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Freeform 119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Group 120"/>
                <p:cNvGrpSpPr/>
                <p:nvPr/>
              </p:nvGrpSpPr>
              <p:grpSpPr>
                <a:xfrm>
                  <a:off x="5232600" y="2253600"/>
                  <a:ext cx="552240" cy="237600"/>
                  <a:chOff x="5232600" y="2253600"/>
                  <a:chExt cx="552240" cy="237600"/>
                </a:xfrm>
              </p:grpSpPr>
              <p:sp>
                <p:nvSpPr>
                  <p:cNvPr id="405" name="Freeform 121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22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Freeform 123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Freeform 124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125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26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Freeform 127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Freeform 128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3" name="Line 129"/>
              <p:cNvSpPr/>
              <p:nvPr/>
            </p:nvSpPr>
            <p:spPr>
              <a:xfrm>
                <a:off x="51055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130"/>
              <p:cNvSpPr/>
              <p:nvPr/>
            </p:nvSpPr>
            <p:spPr>
              <a:xfrm>
                <a:off x="590724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Text Box 131"/>
            <p:cNvSpPr/>
            <p:nvPr/>
          </p:nvSpPr>
          <p:spPr>
            <a:xfrm>
              <a:off x="533592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103"/>
          <p:cNvGrpSpPr/>
          <p:nvPr/>
        </p:nvGrpSpPr>
        <p:grpSpPr>
          <a:xfrm>
            <a:off x="2286000" y="5029200"/>
            <a:ext cx="806400" cy="559080"/>
            <a:chOff x="2286000" y="5029200"/>
            <a:chExt cx="806400" cy="559080"/>
          </a:xfrm>
        </p:grpSpPr>
        <p:sp>
          <p:nvSpPr>
            <p:cNvPr id="417" name="AutoShape 104"/>
            <p:cNvSpPr/>
            <p:nvPr/>
          </p:nvSpPr>
          <p:spPr>
            <a:xfrm>
              <a:off x="22860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105"/>
            <p:cNvGrpSpPr/>
            <p:nvPr/>
          </p:nvGrpSpPr>
          <p:grpSpPr>
            <a:xfrm>
              <a:off x="2286000" y="5031000"/>
              <a:ext cx="804960" cy="543960"/>
              <a:chOff x="2286000" y="5031000"/>
              <a:chExt cx="804960" cy="543960"/>
            </a:xfrm>
          </p:grpSpPr>
          <p:sp>
            <p:nvSpPr>
              <p:cNvPr id="419" name="Oval 106"/>
              <p:cNvSpPr/>
              <p:nvPr/>
            </p:nvSpPr>
            <p:spPr>
              <a:xfrm>
                <a:off x="22874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107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108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109"/>
              <p:cNvSpPr/>
              <p:nvPr/>
            </p:nvSpPr>
            <p:spPr>
              <a:xfrm>
                <a:off x="22874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110"/>
              <p:cNvGrpSpPr/>
              <p:nvPr/>
            </p:nvGrpSpPr>
            <p:grpSpPr>
              <a:xfrm>
                <a:off x="2408040" y="5068800"/>
                <a:ext cx="557280" cy="241920"/>
                <a:chOff x="2408040" y="5068800"/>
                <a:chExt cx="557280" cy="241920"/>
              </a:xfrm>
            </p:grpSpPr>
            <p:grpSp>
              <p:nvGrpSpPr>
                <p:cNvPr id="424" name="Group 111"/>
                <p:cNvGrpSpPr/>
                <p:nvPr/>
              </p:nvGrpSpPr>
              <p:grpSpPr>
                <a:xfrm>
                  <a:off x="2408040" y="5068800"/>
                  <a:ext cx="552600" cy="235800"/>
                  <a:chOff x="2408040" y="5068800"/>
                  <a:chExt cx="552600" cy="235800"/>
                </a:xfrm>
              </p:grpSpPr>
              <p:sp>
                <p:nvSpPr>
                  <p:cNvPr id="425" name="Freeform 112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Freeform 113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Freeform 114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Freeform 115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Freeform 116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17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Freeform 118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Freeform 119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Group 120"/>
                <p:cNvGrpSpPr/>
                <p:nvPr/>
              </p:nvGrpSpPr>
              <p:grpSpPr>
                <a:xfrm>
                  <a:off x="2413080" y="5073120"/>
                  <a:ext cx="552240" cy="237600"/>
                  <a:chOff x="2413080" y="5073120"/>
                  <a:chExt cx="552240" cy="237600"/>
                </a:xfrm>
              </p:grpSpPr>
              <p:sp>
                <p:nvSpPr>
                  <p:cNvPr id="434" name="Freeform 121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122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Freeform 123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124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25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26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27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128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2" name="Line 129"/>
              <p:cNvSpPr/>
              <p:nvPr/>
            </p:nvSpPr>
            <p:spPr>
              <a:xfrm>
                <a:off x="22860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30"/>
              <p:cNvSpPr/>
              <p:nvPr/>
            </p:nvSpPr>
            <p:spPr>
              <a:xfrm>
                <a:off x="30877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Text Box 131"/>
            <p:cNvSpPr/>
            <p:nvPr/>
          </p:nvSpPr>
          <p:spPr>
            <a:xfrm>
              <a:off x="25164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03"/>
          <p:cNvGrpSpPr/>
          <p:nvPr/>
        </p:nvGrpSpPr>
        <p:grpSpPr>
          <a:xfrm>
            <a:off x="5943600" y="5029200"/>
            <a:ext cx="806400" cy="559080"/>
            <a:chOff x="5943600" y="5029200"/>
            <a:chExt cx="806400" cy="559080"/>
          </a:xfrm>
        </p:grpSpPr>
        <p:sp>
          <p:nvSpPr>
            <p:cNvPr id="446" name="AutoShape 104"/>
            <p:cNvSpPr/>
            <p:nvPr/>
          </p:nvSpPr>
          <p:spPr>
            <a:xfrm>
              <a:off x="59436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Group 105"/>
            <p:cNvGrpSpPr/>
            <p:nvPr/>
          </p:nvGrpSpPr>
          <p:grpSpPr>
            <a:xfrm>
              <a:off x="5943600" y="5031000"/>
              <a:ext cx="804960" cy="543960"/>
              <a:chOff x="5943600" y="5031000"/>
              <a:chExt cx="804960" cy="543960"/>
            </a:xfrm>
          </p:grpSpPr>
          <p:sp>
            <p:nvSpPr>
              <p:cNvPr id="448" name="Oval 106"/>
              <p:cNvSpPr/>
              <p:nvPr/>
            </p:nvSpPr>
            <p:spPr>
              <a:xfrm>
                <a:off x="59450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07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108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Oval 109"/>
              <p:cNvSpPr/>
              <p:nvPr/>
            </p:nvSpPr>
            <p:spPr>
              <a:xfrm>
                <a:off x="59450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10"/>
              <p:cNvGrpSpPr/>
              <p:nvPr/>
            </p:nvGrpSpPr>
            <p:grpSpPr>
              <a:xfrm>
                <a:off x="6065640" y="5068800"/>
                <a:ext cx="557280" cy="241920"/>
                <a:chOff x="6065640" y="5068800"/>
                <a:chExt cx="557280" cy="241920"/>
              </a:xfrm>
            </p:grpSpPr>
            <p:grpSp>
              <p:nvGrpSpPr>
                <p:cNvPr id="453" name="Group 111"/>
                <p:cNvGrpSpPr/>
                <p:nvPr/>
              </p:nvGrpSpPr>
              <p:grpSpPr>
                <a:xfrm>
                  <a:off x="6065640" y="5068800"/>
                  <a:ext cx="552600" cy="235800"/>
                  <a:chOff x="6065640" y="5068800"/>
                  <a:chExt cx="552600" cy="235800"/>
                </a:xfrm>
              </p:grpSpPr>
              <p:sp>
                <p:nvSpPr>
                  <p:cNvPr id="454" name="Freeform 112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113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114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15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116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117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118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119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120"/>
                <p:cNvGrpSpPr/>
                <p:nvPr/>
              </p:nvGrpSpPr>
              <p:grpSpPr>
                <a:xfrm>
                  <a:off x="6070680" y="5073120"/>
                  <a:ext cx="552240" cy="237600"/>
                  <a:chOff x="6070680" y="5073120"/>
                  <a:chExt cx="552240" cy="237600"/>
                </a:xfrm>
              </p:grpSpPr>
              <p:sp>
                <p:nvSpPr>
                  <p:cNvPr id="463" name="Freeform 121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122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123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124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125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126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127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128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1" name="Line 129"/>
              <p:cNvSpPr/>
              <p:nvPr/>
            </p:nvSpPr>
            <p:spPr>
              <a:xfrm>
                <a:off x="59436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130"/>
              <p:cNvSpPr/>
              <p:nvPr/>
            </p:nvSpPr>
            <p:spPr>
              <a:xfrm>
                <a:off x="67453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131"/>
            <p:cNvSpPr/>
            <p:nvPr/>
          </p:nvSpPr>
          <p:spPr>
            <a:xfrm>
              <a:off x="61740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Picture 128" descr=""/>
          <p:cNvPicPr/>
          <p:nvPr/>
        </p:nvPicPr>
        <p:blipFill>
          <a:blip r:embed="rId1"/>
          <a:stretch/>
        </p:blipFill>
        <p:spPr>
          <a:xfrm>
            <a:off x="3063960" y="580716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8" descr=""/>
          <p:cNvPicPr/>
          <p:nvPr/>
        </p:nvPicPr>
        <p:blipFill>
          <a:blip r:embed="rId2"/>
          <a:stretch/>
        </p:blipFill>
        <p:spPr>
          <a:xfrm>
            <a:off x="3063960" y="1600200"/>
            <a:ext cx="27432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25"/>
          <p:cNvSpPr/>
          <p:nvPr/>
        </p:nvSpPr>
        <p:spPr>
          <a:xfrm>
            <a:off x="3892680" y="1600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26"/>
          <p:cNvSpPr/>
          <p:nvPr/>
        </p:nvSpPr>
        <p:spPr>
          <a:xfrm>
            <a:off x="3875040" y="57913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traight Connector 128"/>
          <p:cNvSpPr/>
          <p:nvPr/>
        </p:nvSpPr>
        <p:spPr>
          <a:xfrm flipV="1">
            <a:off x="3962520" y="2057400"/>
            <a:ext cx="228600" cy="185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130"/>
          <p:cNvSpPr/>
          <p:nvPr/>
        </p:nvSpPr>
        <p:spPr>
          <a:xfrm flipH="1" flipV="1">
            <a:off x="4952880" y="1981080"/>
            <a:ext cx="271440" cy="276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132"/>
          <p:cNvSpPr/>
          <p:nvPr/>
        </p:nvSpPr>
        <p:spPr>
          <a:xfrm flipH="1">
            <a:off x="3504960" y="2666880"/>
            <a:ext cx="21960" cy="685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137"/>
          <p:cNvSpPr/>
          <p:nvPr/>
        </p:nvSpPr>
        <p:spPr>
          <a:xfrm flipH="1">
            <a:off x="3809880" y="2755800"/>
            <a:ext cx="22320" cy="151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traight Connector 142"/>
          <p:cNvSpPr/>
          <p:nvPr/>
        </p:nvSpPr>
        <p:spPr>
          <a:xfrm>
            <a:off x="5715000" y="2743200"/>
            <a:ext cx="0" cy="1447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144"/>
          <p:cNvSpPr/>
          <p:nvPr/>
        </p:nvSpPr>
        <p:spPr>
          <a:xfrm>
            <a:off x="5181480" y="26668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traight Connector 148"/>
          <p:cNvSpPr/>
          <p:nvPr/>
        </p:nvSpPr>
        <p:spPr>
          <a:xfrm flipH="1">
            <a:off x="3048120" y="4268880"/>
            <a:ext cx="144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150"/>
          <p:cNvSpPr/>
          <p:nvPr/>
        </p:nvSpPr>
        <p:spPr>
          <a:xfrm>
            <a:off x="2666880" y="3352680"/>
            <a:ext cx="22320" cy="167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154"/>
          <p:cNvSpPr/>
          <p:nvPr/>
        </p:nvSpPr>
        <p:spPr>
          <a:xfrm>
            <a:off x="6324480" y="4191120"/>
            <a:ext cx="2232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156"/>
          <p:cNvSpPr/>
          <p:nvPr/>
        </p:nvSpPr>
        <p:spPr>
          <a:xfrm flipH="1" flipV="1">
            <a:off x="5943600" y="3352320"/>
            <a:ext cx="22320" cy="175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161"/>
          <p:cNvSpPr/>
          <p:nvPr/>
        </p:nvSpPr>
        <p:spPr>
          <a:xfrm>
            <a:off x="2972520" y="5529240"/>
            <a:ext cx="68436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164"/>
          <p:cNvSpPr/>
          <p:nvPr/>
        </p:nvSpPr>
        <p:spPr>
          <a:xfrm flipH="1">
            <a:off x="5334120" y="5529240"/>
            <a:ext cx="72864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TextBox 140" descr=""/>
          <p:cNvPicPr/>
          <p:nvPr/>
        </p:nvPicPr>
        <p:blipFill>
          <a:blip r:embed="rId3"/>
          <a:stretch/>
        </p:blipFill>
        <p:spPr>
          <a:xfrm>
            <a:off x="987480" y="2889360"/>
            <a:ext cx="1444680" cy="476280"/>
          </a:xfrm>
          <a:prstGeom prst="rect">
            <a:avLst/>
          </a:prstGeom>
          <a:ln w="0">
            <a:noFill/>
          </a:ln>
        </p:spPr>
      </p:pic>
      <p:pic>
        <p:nvPicPr>
          <p:cNvPr id="491" name="TextBox 141" descr=""/>
          <p:cNvPicPr/>
          <p:nvPr/>
        </p:nvPicPr>
        <p:blipFill>
          <a:blip r:embed="rId4"/>
          <a:stretch/>
        </p:blipFill>
        <p:spPr>
          <a:xfrm>
            <a:off x="755640" y="3803760"/>
            <a:ext cx="1500120" cy="476280"/>
          </a:xfrm>
          <a:prstGeom prst="rect">
            <a:avLst/>
          </a:prstGeom>
          <a:ln w="0">
            <a:noFill/>
          </a:ln>
        </p:spPr>
      </p:pic>
      <p:sp>
        <p:nvSpPr>
          <p:cNvPr id="492" name="Oval Callout 142"/>
          <p:cNvSpPr/>
          <p:nvPr/>
        </p:nvSpPr>
        <p:spPr>
          <a:xfrm>
            <a:off x="713160" y="4557960"/>
            <a:ext cx="1836000" cy="462600"/>
          </a:xfrm>
          <a:prstGeom prst="wedgeEllipseCallout">
            <a:avLst>
              <a:gd name="adj1" fmla="val 51685"/>
              <a:gd name="adj2" fmla="val 54819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147"/>
          <p:cNvSpPr/>
          <p:nvPr/>
        </p:nvSpPr>
        <p:spPr>
          <a:xfrm>
            <a:off x="1447920" y="3352680"/>
            <a:ext cx="6400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150"/>
          <p:cNvSpPr/>
          <p:nvPr/>
        </p:nvSpPr>
        <p:spPr>
          <a:xfrm flipV="1">
            <a:off x="1371600" y="4190760"/>
            <a:ext cx="6477120" cy="75960"/>
          </a:xfrm>
          <a:prstGeom prst="line">
            <a:avLst/>
          </a:prstGeom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Callout 147"/>
          <p:cNvSpPr/>
          <p:nvPr/>
        </p:nvSpPr>
        <p:spPr>
          <a:xfrm>
            <a:off x="3048120" y="4038840"/>
            <a:ext cx="2743200" cy="462600"/>
          </a:xfrm>
          <a:prstGeom prst="wedgeEllipseCallout">
            <a:avLst>
              <a:gd name="adj1" fmla="val -18300"/>
              <a:gd name="adj2" fmla="val -32145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 in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Callout 148"/>
          <p:cNvSpPr/>
          <p:nvPr/>
        </p:nvSpPr>
        <p:spPr>
          <a:xfrm>
            <a:off x="5791320" y="3124440"/>
            <a:ext cx="2743200" cy="462600"/>
          </a:xfrm>
          <a:prstGeom prst="wedgeEllipseCallout">
            <a:avLst>
              <a:gd name="adj1" fmla="val -48375"/>
              <a:gd name="adj2" fmla="val -13988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 in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Callout 151"/>
          <p:cNvSpPr/>
          <p:nvPr/>
        </p:nvSpPr>
        <p:spPr>
          <a:xfrm>
            <a:off x="6324480" y="4496040"/>
            <a:ext cx="2133720" cy="462600"/>
          </a:xfrm>
          <a:prstGeom prst="wedgeEllipseCallout">
            <a:avLst>
              <a:gd name="adj1" fmla="val -37486"/>
              <a:gd name="adj2" fmla="val 60726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acket Format: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                                               1                                             2                  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0A1A2A3A4A5A6A7A8A9B0B1B2B3B4B5B6B7B8B9C0C1C2C3C4C5C6C7C8C9D0D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PIM Ver   |    Type      |           Reserved            |                        Checksum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Group Address (Encoded-Group format)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Source Address (Encoded-Unicast format)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Neighbor Address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 +-+-+-+-+-+-+-+-+............ Interface ID ...........  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Preference       |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-  .............      Metric     ….........  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 ….. Metric ….. 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437-D480-46FD-B6F6-ED8E242A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acket Format: Hello Option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Hell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094-64BB-4BCC-AB00-8502F1700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Content Placeholder 2"/>
          <p:cNvSpPr/>
          <p:nvPr/>
        </p:nvSpPr>
        <p:spPr>
          <a:xfrm>
            <a:off x="1066680" y="228600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P Assert Hello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                            1                            2  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|           Type = TBD                |                Length = 0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Update From -00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new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fied operation on transi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fied use of PIM Interface-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EA8-C81B-4062-9AF8-7E2E210E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For The Working Group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raft addresses a weakness in PIM RPF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practical application that requires a solution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elcome comments/suggestion from th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d like to request the working group to adopt this I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252-52CC-42AE-9402-DA2DFA3FD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isting ECMP RPF Overview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ways to choose an RPF path when ECMP i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 the path whose gateway is the PIM neighbour with the largest IP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a has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MP RPF selection is downstream 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ed by routing/hash algorithm, no other factor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267-25A2-4725-ADAB-3C9E19ED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isting ECMP RPF Issue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-balancing is based on IP addresses instead of “load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flow might be sent onto two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te of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pecially if an implementation chooses to stick to its RPF selection after link/nod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rt” only chooses an RPF neighbour within a LAN, but not between ECMP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CCE-458B-465B-86A0-39D02730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ECMP Assert is proposed to improve control of RPF path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ed by upstream routers (similar to Ass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hoose a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dministrative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CMP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ownstream routers to use information such as available bandwidth to choose an RPF neighb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8FA-0BEA-4AC5-9971-52F6C0C2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mize control traffic in stead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mize unnecessary traffic dis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future enhancement to include more criteria for choosing a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OPEN to a differ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97D-4C59-4139-8D12-9EC8757E0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by PIM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 in a different subnet (used to choose a path, instead of an RPF neighb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PIM Hello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8A6C-DE19-4E99-BD84-CFA7E161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mparing to PIM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 is data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is triggered by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ssert to choose an RPF neighbor within a 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ECMP Assert to choose a path from E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ABE-D265-4431-A4FB-86C01C503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mparing to PIM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 modifies “routing” decision by comparing routing metrics sent by upstream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preserves routing decision (E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compares non-routing metric (such as uptime/timestamp, bandwidth etc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872-F86A-4E3C-9D73-65C9CFFA5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(PIM Assert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1FED-6F85-4B71-BFAF-BC974BAA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03"/>
          <p:cNvGrpSpPr/>
          <p:nvPr/>
        </p:nvGrpSpPr>
        <p:grpSpPr>
          <a:xfrm>
            <a:off x="3429000" y="2209680"/>
            <a:ext cx="806400" cy="559080"/>
            <a:chOff x="3429000" y="2209680"/>
            <a:chExt cx="806400" cy="559080"/>
          </a:xfrm>
        </p:grpSpPr>
        <p:sp>
          <p:nvSpPr>
            <p:cNvPr id="214" name="AutoShape 104"/>
            <p:cNvSpPr/>
            <p:nvPr/>
          </p:nvSpPr>
          <p:spPr>
            <a:xfrm>
              <a:off x="342900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Group 105"/>
            <p:cNvGrpSpPr/>
            <p:nvPr/>
          </p:nvGrpSpPr>
          <p:grpSpPr>
            <a:xfrm>
              <a:off x="3429000" y="2211480"/>
              <a:ext cx="804960" cy="543960"/>
              <a:chOff x="3429000" y="2211480"/>
              <a:chExt cx="804960" cy="543960"/>
            </a:xfrm>
          </p:grpSpPr>
          <p:sp>
            <p:nvSpPr>
              <p:cNvPr id="216" name="Oval 106"/>
              <p:cNvSpPr/>
              <p:nvPr/>
            </p:nvSpPr>
            <p:spPr>
              <a:xfrm>
                <a:off x="343044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07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08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09"/>
              <p:cNvSpPr/>
              <p:nvPr/>
            </p:nvSpPr>
            <p:spPr>
              <a:xfrm>
                <a:off x="343044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110"/>
              <p:cNvGrpSpPr/>
              <p:nvPr/>
            </p:nvGrpSpPr>
            <p:grpSpPr>
              <a:xfrm>
                <a:off x="3551040" y="2249280"/>
                <a:ext cx="557280" cy="241920"/>
                <a:chOff x="3551040" y="2249280"/>
                <a:chExt cx="557280" cy="241920"/>
              </a:xfrm>
            </p:grpSpPr>
            <p:grpSp>
              <p:nvGrpSpPr>
                <p:cNvPr id="221" name="Group 111"/>
                <p:cNvGrpSpPr/>
                <p:nvPr/>
              </p:nvGrpSpPr>
              <p:grpSpPr>
                <a:xfrm>
                  <a:off x="3551040" y="2249280"/>
                  <a:ext cx="552600" cy="235800"/>
                  <a:chOff x="3551040" y="2249280"/>
                  <a:chExt cx="552600" cy="235800"/>
                </a:xfrm>
              </p:grpSpPr>
              <p:sp>
                <p:nvSpPr>
                  <p:cNvPr id="222" name="Freeform 112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13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114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115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6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117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118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9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20"/>
                <p:cNvGrpSpPr/>
                <p:nvPr/>
              </p:nvGrpSpPr>
              <p:grpSpPr>
                <a:xfrm>
                  <a:off x="3556080" y="2253600"/>
                  <a:ext cx="552240" cy="237600"/>
                  <a:chOff x="3556080" y="2253600"/>
                  <a:chExt cx="552240" cy="237600"/>
                </a:xfrm>
              </p:grpSpPr>
              <p:sp>
                <p:nvSpPr>
                  <p:cNvPr id="231" name="Freeform 121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122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123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Freeform 124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Freeform 125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126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Freeform 127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128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Line 129"/>
              <p:cNvSpPr/>
              <p:nvPr/>
            </p:nvSpPr>
            <p:spPr>
              <a:xfrm>
                <a:off x="342900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30"/>
              <p:cNvSpPr/>
              <p:nvPr/>
            </p:nvSpPr>
            <p:spPr>
              <a:xfrm>
                <a:off x="42307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131"/>
            <p:cNvSpPr/>
            <p:nvPr/>
          </p:nvSpPr>
          <p:spPr>
            <a:xfrm>
              <a:off x="365940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03"/>
          <p:cNvGrpSpPr/>
          <p:nvPr/>
        </p:nvGrpSpPr>
        <p:grpSpPr>
          <a:xfrm>
            <a:off x="5105520" y="2209680"/>
            <a:ext cx="806400" cy="559080"/>
            <a:chOff x="5105520" y="2209680"/>
            <a:chExt cx="806400" cy="559080"/>
          </a:xfrm>
        </p:grpSpPr>
        <p:sp>
          <p:nvSpPr>
            <p:cNvPr id="243" name="AutoShape 104"/>
            <p:cNvSpPr/>
            <p:nvPr/>
          </p:nvSpPr>
          <p:spPr>
            <a:xfrm>
              <a:off x="510552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105"/>
            <p:cNvGrpSpPr/>
            <p:nvPr/>
          </p:nvGrpSpPr>
          <p:grpSpPr>
            <a:xfrm>
              <a:off x="5105520" y="2211480"/>
              <a:ext cx="804960" cy="543960"/>
              <a:chOff x="5105520" y="2211480"/>
              <a:chExt cx="804960" cy="543960"/>
            </a:xfrm>
          </p:grpSpPr>
          <p:sp>
            <p:nvSpPr>
              <p:cNvPr id="245" name="Oval 106"/>
              <p:cNvSpPr/>
              <p:nvPr/>
            </p:nvSpPr>
            <p:spPr>
              <a:xfrm>
                <a:off x="510696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07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108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09"/>
              <p:cNvSpPr/>
              <p:nvPr/>
            </p:nvSpPr>
            <p:spPr>
              <a:xfrm>
                <a:off x="510696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Group 110"/>
              <p:cNvGrpSpPr/>
              <p:nvPr/>
            </p:nvGrpSpPr>
            <p:grpSpPr>
              <a:xfrm>
                <a:off x="5227560" y="2249280"/>
                <a:ext cx="557280" cy="241920"/>
                <a:chOff x="5227560" y="2249280"/>
                <a:chExt cx="557280" cy="241920"/>
              </a:xfrm>
            </p:grpSpPr>
            <p:grpSp>
              <p:nvGrpSpPr>
                <p:cNvPr id="250" name="Group 111"/>
                <p:cNvGrpSpPr/>
                <p:nvPr/>
              </p:nvGrpSpPr>
              <p:grpSpPr>
                <a:xfrm>
                  <a:off x="5227560" y="2249280"/>
                  <a:ext cx="552600" cy="235800"/>
                  <a:chOff x="5227560" y="2249280"/>
                  <a:chExt cx="552600" cy="235800"/>
                </a:xfrm>
              </p:grpSpPr>
              <p:sp>
                <p:nvSpPr>
                  <p:cNvPr id="251" name="Freeform 112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Freeform 113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114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Freeform 115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Freeform 116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117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Freeform 118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Freeform 119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Group 120"/>
                <p:cNvGrpSpPr/>
                <p:nvPr/>
              </p:nvGrpSpPr>
              <p:grpSpPr>
                <a:xfrm>
                  <a:off x="5232600" y="2253600"/>
                  <a:ext cx="552240" cy="237600"/>
                  <a:chOff x="5232600" y="2253600"/>
                  <a:chExt cx="552240" cy="237600"/>
                </a:xfrm>
              </p:grpSpPr>
              <p:sp>
                <p:nvSpPr>
                  <p:cNvPr id="260" name="Freeform 121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Freeform 122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23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Freeform 124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Freeform 125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126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Freeform 127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Freeform 128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" name="Line 129"/>
              <p:cNvSpPr/>
              <p:nvPr/>
            </p:nvSpPr>
            <p:spPr>
              <a:xfrm>
                <a:off x="51055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30"/>
              <p:cNvSpPr/>
              <p:nvPr/>
            </p:nvSpPr>
            <p:spPr>
              <a:xfrm>
                <a:off x="590724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31"/>
            <p:cNvSpPr/>
            <p:nvPr/>
          </p:nvSpPr>
          <p:spPr>
            <a:xfrm>
              <a:off x="533592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03"/>
          <p:cNvGrpSpPr/>
          <p:nvPr/>
        </p:nvGrpSpPr>
        <p:grpSpPr>
          <a:xfrm>
            <a:off x="2286000" y="5029200"/>
            <a:ext cx="806400" cy="559080"/>
            <a:chOff x="2286000" y="5029200"/>
            <a:chExt cx="806400" cy="559080"/>
          </a:xfrm>
        </p:grpSpPr>
        <p:sp>
          <p:nvSpPr>
            <p:cNvPr id="272" name="AutoShape 104"/>
            <p:cNvSpPr/>
            <p:nvPr/>
          </p:nvSpPr>
          <p:spPr>
            <a:xfrm>
              <a:off x="22860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05"/>
            <p:cNvGrpSpPr/>
            <p:nvPr/>
          </p:nvGrpSpPr>
          <p:grpSpPr>
            <a:xfrm>
              <a:off x="2286000" y="5031000"/>
              <a:ext cx="804960" cy="543960"/>
              <a:chOff x="2286000" y="5031000"/>
              <a:chExt cx="804960" cy="543960"/>
            </a:xfrm>
          </p:grpSpPr>
          <p:sp>
            <p:nvSpPr>
              <p:cNvPr id="274" name="Oval 106"/>
              <p:cNvSpPr/>
              <p:nvPr/>
            </p:nvSpPr>
            <p:spPr>
              <a:xfrm>
                <a:off x="22874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07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108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109"/>
              <p:cNvSpPr/>
              <p:nvPr/>
            </p:nvSpPr>
            <p:spPr>
              <a:xfrm>
                <a:off x="22874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Group 110"/>
              <p:cNvGrpSpPr/>
              <p:nvPr/>
            </p:nvGrpSpPr>
            <p:grpSpPr>
              <a:xfrm>
                <a:off x="2408040" y="5068800"/>
                <a:ext cx="557280" cy="241920"/>
                <a:chOff x="2408040" y="5068800"/>
                <a:chExt cx="557280" cy="241920"/>
              </a:xfrm>
            </p:grpSpPr>
            <p:grpSp>
              <p:nvGrpSpPr>
                <p:cNvPr id="279" name="Group 111"/>
                <p:cNvGrpSpPr/>
                <p:nvPr/>
              </p:nvGrpSpPr>
              <p:grpSpPr>
                <a:xfrm>
                  <a:off x="2408040" y="5068800"/>
                  <a:ext cx="552600" cy="235800"/>
                  <a:chOff x="2408040" y="5068800"/>
                  <a:chExt cx="552600" cy="235800"/>
                </a:xfrm>
              </p:grpSpPr>
              <p:sp>
                <p:nvSpPr>
                  <p:cNvPr id="280" name="Freeform 112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Freeform 113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14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115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Freeform 116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117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18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9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Group 120"/>
                <p:cNvGrpSpPr/>
                <p:nvPr/>
              </p:nvGrpSpPr>
              <p:grpSpPr>
                <a:xfrm>
                  <a:off x="2413080" y="5073120"/>
                  <a:ext cx="552240" cy="237600"/>
                  <a:chOff x="2413080" y="5073120"/>
                  <a:chExt cx="552240" cy="237600"/>
                </a:xfrm>
              </p:grpSpPr>
              <p:sp>
                <p:nvSpPr>
                  <p:cNvPr id="289" name="Freeform 121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22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23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24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Freeform 125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Freeform 126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127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Freeform 128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Line 129"/>
              <p:cNvSpPr/>
              <p:nvPr/>
            </p:nvSpPr>
            <p:spPr>
              <a:xfrm>
                <a:off x="22860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30"/>
              <p:cNvSpPr/>
              <p:nvPr/>
            </p:nvSpPr>
            <p:spPr>
              <a:xfrm>
                <a:off x="30877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Text Box 131"/>
            <p:cNvSpPr/>
            <p:nvPr/>
          </p:nvSpPr>
          <p:spPr>
            <a:xfrm>
              <a:off x="25164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03"/>
          <p:cNvGrpSpPr/>
          <p:nvPr/>
        </p:nvGrpSpPr>
        <p:grpSpPr>
          <a:xfrm>
            <a:off x="5943600" y="5029200"/>
            <a:ext cx="806400" cy="559080"/>
            <a:chOff x="5943600" y="5029200"/>
            <a:chExt cx="806400" cy="559080"/>
          </a:xfrm>
        </p:grpSpPr>
        <p:sp>
          <p:nvSpPr>
            <p:cNvPr id="301" name="AutoShape 104"/>
            <p:cNvSpPr/>
            <p:nvPr/>
          </p:nvSpPr>
          <p:spPr>
            <a:xfrm>
              <a:off x="59436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105"/>
            <p:cNvGrpSpPr/>
            <p:nvPr/>
          </p:nvGrpSpPr>
          <p:grpSpPr>
            <a:xfrm>
              <a:off x="5943600" y="5031000"/>
              <a:ext cx="804960" cy="543960"/>
              <a:chOff x="5943600" y="5031000"/>
              <a:chExt cx="804960" cy="543960"/>
            </a:xfrm>
          </p:grpSpPr>
          <p:sp>
            <p:nvSpPr>
              <p:cNvPr id="303" name="Oval 106"/>
              <p:cNvSpPr/>
              <p:nvPr/>
            </p:nvSpPr>
            <p:spPr>
              <a:xfrm>
                <a:off x="59450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107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08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109"/>
              <p:cNvSpPr/>
              <p:nvPr/>
            </p:nvSpPr>
            <p:spPr>
              <a:xfrm>
                <a:off x="59450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" name="Group 110"/>
              <p:cNvGrpSpPr/>
              <p:nvPr/>
            </p:nvGrpSpPr>
            <p:grpSpPr>
              <a:xfrm>
                <a:off x="6065640" y="5068800"/>
                <a:ext cx="557280" cy="241920"/>
                <a:chOff x="6065640" y="5068800"/>
                <a:chExt cx="557280" cy="241920"/>
              </a:xfrm>
            </p:grpSpPr>
            <p:grpSp>
              <p:nvGrpSpPr>
                <p:cNvPr id="308" name="Group 111"/>
                <p:cNvGrpSpPr/>
                <p:nvPr/>
              </p:nvGrpSpPr>
              <p:grpSpPr>
                <a:xfrm>
                  <a:off x="6065640" y="5068800"/>
                  <a:ext cx="552600" cy="235800"/>
                  <a:chOff x="6065640" y="5068800"/>
                  <a:chExt cx="552600" cy="235800"/>
                </a:xfrm>
              </p:grpSpPr>
              <p:sp>
                <p:nvSpPr>
                  <p:cNvPr id="309" name="Freeform 112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113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114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115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116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117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118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119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Group 120"/>
                <p:cNvGrpSpPr/>
                <p:nvPr/>
              </p:nvGrpSpPr>
              <p:grpSpPr>
                <a:xfrm>
                  <a:off x="6070680" y="5073120"/>
                  <a:ext cx="552240" cy="237600"/>
                  <a:chOff x="6070680" y="5073120"/>
                  <a:chExt cx="552240" cy="237600"/>
                </a:xfrm>
              </p:grpSpPr>
              <p:sp>
                <p:nvSpPr>
                  <p:cNvPr id="318" name="Freeform 121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122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123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124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125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126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127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Freeform 128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6" name="Line 129"/>
              <p:cNvSpPr/>
              <p:nvPr/>
            </p:nvSpPr>
            <p:spPr>
              <a:xfrm>
                <a:off x="59436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30"/>
              <p:cNvSpPr/>
              <p:nvPr/>
            </p:nvSpPr>
            <p:spPr>
              <a:xfrm>
                <a:off x="67453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Text Box 131"/>
            <p:cNvSpPr/>
            <p:nvPr/>
          </p:nvSpPr>
          <p:spPr>
            <a:xfrm>
              <a:off x="61740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128" descr=""/>
          <p:cNvPicPr/>
          <p:nvPr/>
        </p:nvPicPr>
        <p:blipFill>
          <a:blip r:embed="rId1"/>
          <a:stretch/>
        </p:blipFill>
        <p:spPr>
          <a:xfrm>
            <a:off x="3063960" y="580716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8" descr=""/>
          <p:cNvPicPr/>
          <p:nvPr/>
        </p:nvPicPr>
        <p:blipFill>
          <a:blip r:embed="rId2"/>
          <a:stretch/>
        </p:blipFill>
        <p:spPr>
          <a:xfrm>
            <a:off x="3063960" y="1600200"/>
            <a:ext cx="2743200" cy="4572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25"/>
          <p:cNvSpPr/>
          <p:nvPr/>
        </p:nvSpPr>
        <p:spPr>
          <a:xfrm>
            <a:off x="3892680" y="1600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26"/>
          <p:cNvSpPr/>
          <p:nvPr/>
        </p:nvSpPr>
        <p:spPr>
          <a:xfrm>
            <a:off x="3875040" y="57913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128"/>
          <p:cNvSpPr/>
          <p:nvPr/>
        </p:nvSpPr>
        <p:spPr>
          <a:xfrm flipV="1">
            <a:off x="3962520" y="2057400"/>
            <a:ext cx="228600" cy="185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130"/>
          <p:cNvSpPr/>
          <p:nvPr/>
        </p:nvSpPr>
        <p:spPr>
          <a:xfrm flipH="1" flipV="1">
            <a:off x="4952880" y="1981080"/>
            <a:ext cx="271440" cy="276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132"/>
          <p:cNvSpPr/>
          <p:nvPr/>
        </p:nvSpPr>
        <p:spPr>
          <a:xfrm flipH="1">
            <a:off x="3504960" y="2666880"/>
            <a:ext cx="21960" cy="685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137"/>
          <p:cNvSpPr/>
          <p:nvPr/>
        </p:nvSpPr>
        <p:spPr>
          <a:xfrm flipH="1">
            <a:off x="3809880" y="2755800"/>
            <a:ext cx="22320" cy="151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142"/>
          <p:cNvSpPr/>
          <p:nvPr/>
        </p:nvSpPr>
        <p:spPr>
          <a:xfrm>
            <a:off x="5715000" y="2743200"/>
            <a:ext cx="0" cy="1447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144"/>
          <p:cNvSpPr/>
          <p:nvPr/>
        </p:nvSpPr>
        <p:spPr>
          <a:xfrm>
            <a:off x="5181480" y="26668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148"/>
          <p:cNvSpPr/>
          <p:nvPr/>
        </p:nvSpPr>
        <p:spPr>
          <a:xfrm flipH="1">
            <a:off x="3048120" y="4268880"/>
            <a:ext cx="144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150"/>
          <p:cNvSpPr/>
          <p:nvPr/>
        </p:nvSpPr>
        <p:spPr>
          <a:xfrm>
            <a:off x="2666880" y="3352680"/>
            <a:ext cx="22320" cy="167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154"/>
          <p:cNvSpPr/>
          <p:nvPr/>
        </p:nvSpPr>
        <p:spPr>
          <a:xfrm>
            <a:off x="6324480" y="4191120"/>
            <a:ext cx="2232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156"/>
          <p:cNvSpPr/>
          <p:nvPr/>
        </p:nvSpPr>
        <p:spPr>
          <a:xfrm flipH="1" flipV="1">
            <a:off x="5943600" y="3352320"/>
            <a:ext cx="22320" cy="175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61"/>
          <p:cNvSpPr/>
          <p:nvPr/>
        </p:nvSpPr>
        <p:spPr>
          <a:xfrm>
            <a:off x="2972520" y="5529240"/>
            <a:ext cx="68436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64"/>
          <p:cNvSpPr/>
          <p:nvPr/>
        </p:nvSpPr>
        <p:spPr>
          <a:xfrm flipH="1">
            <a:off x="5334120" y="5529240"/>
            <a:ext cx="72864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TextBox 140" descr=""/>
          <p:cNvPicPr/>
          <p:nvPr/>
        </p:nvPicPr>
        <p:blipFill>
          <a:blip r:embed="rId3"/>
          <a:stretch/>
        </p:blipFill>
        <p:spPr>
          <a:xfrm>
            <a:off x="987480" y="2889360"/>
            <a:ext cx="1444680" cy="47628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141" descr=""/>
          <p:cNvPicPr/>
          <p:nvPr/>
        </p:nvPicPr>
        <p:blipFill>
          <a:blip r:embed="rId4"/>
          <a:stretch/>
        </p:blipFill>
        <p:spPr>
          <a:xfrm>
            <a:off x="755640" y="3803760"/>
            <a:ext cx="150012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Oval Callout 142"/>
          <p:cNvSpPr/>
          <p:nvPr/>
        </p:nvSpPr>
        <p:spPr>
          <a:xfrm>
            <a:off x="713160" y="4557960"/>
            <a:ext cx="1836000" cy="462600"/>
          </a:xfrm>
          <a:prstGeom prst="wedgeEllipseCallout">
            <a:avLst>
              <a:gd name="adj1" fmla="val 51685"/>
              <a:gd name="adj2" fmla="val 54819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Callout 143"/>
          <p:cNvSpPr/>
          <p:nvPr/>
        </p:nvSpPr>
        <p:spPr>
          <a:xfrm>
            <a:off x="6324480" y="4496040"/>
            <a:ext cx="2133720" cy="462600"/>
          </a:xfrm>
          <a:prstGeom prst="wedgeEllipseCallout">
            <a:avLst>
              <a:gd name="adj1" fmla="val -37486"/>
              <a:gd name="adj2" fmla="val 60726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147"/>
          <p:cNvSpPr/>
          <p:nvPr/>
        </p:nvSpPr>
        <p:spPr>
          <a:xfrm>
            <a:off x="1447920" y="3352680"/>
            <a:ext cx="6400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150"/>
          <p:cNvSpPr/>
          <p:nvPr/>
        </p:nvSpPr>
        <p:spPr>
          <a:xfrm flipV="1">
            <a:off x="1371600" y="4190760"/>
            <a:ext cx="6477120" cy="75960"/>
          </a:xfrm>
          <a:prstGeom prst="line">
            <a:avLst/>
          </a:prstGeom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Callout 145"/>
          <p:cNvSpPr/>
          <p:nvPr/>
        </p:nvSpPr>
        <p:spPr>
          <a:xfrm>
            <a:off x="2666880" y="3124440"/>
            <a:ext cx="1067040" cy="462600"/>
          </a:xfrm>
          <a:prstGeom prst="wedgeEllipseCallout">
            <a:avLst>
              <a:gd name="adj1" fmla="val 48175"/>
              <a:gd name="adj2" fmla="val -13226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Callout 146"/>
          <p:cNvSpPr/>
          <p:nvPr/>
        </p:nvSpPr>
        <p:spPr>
          <a:xfrm>
            <a:off x="6095880" y="3124440"/>
            <a:ext cx="1067040" cy="462600"/>
          </a:xfrm>
          <a:prstGeom prst="wedgeEllipseCallout">
            <a:avLst>
              <a:gd name="adj1" fmla="val -75935"/>
              <a:gd name="adj2" fmla="val -146500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9:43:38Z</dcterms:created>
  <dc:creator>hou</dc:creator>
  <dc:description/>
  <cp:keywords/>
  <dc:language>en-US</dc:language>
  <cp:lastModifiedBy>Yiqun Cai</cp:lastModifiedBy>
  <cp:lastPrinted>2003-01-09T21:51:38Z</cp:lastPrinted>
  <dcterms:modified xsi:type="dcterms:W3CDTF">2011-07-25T21:27:22Z</dcterms:modified>
  <cp:revision>127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