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326-B3F1-4821-90C8-07A79E67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DB2-45F4-4AEC-9197-0FFFD53D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027-C35B-4DF2-A8C4-3DB24343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9C9-87FF-43C5-A2B3-26141C59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6DD-45F2-4351-A6F0-20FE1FD3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76E-DEA1-4455-A56F-714B073D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E7F-5728-4EC9-8406-F3C473CF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4A9-AE3B-4C68-A726-B5ABAB0C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8EC-B081-4F4B-8EE9-6AB538CB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02D-F45F-4D05-BBD7-A159F836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6F0-4EC1-4C84-8054-82B0B8F3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A97-B002-4DAD-B7EB-4C07C83D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55BF-6F31-4CC7-8060-A02F7BF403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 of PP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141720"/>
            <a:ext cx="7304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raft-ietf-ppsp-problem-statement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unfei Zh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uly 25, IETF 81,Quebec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y all the comments in last IETF and in the mailing list during the adjou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the ambiguous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for WG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in Detail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mments: The problems in mobile environment are NO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pd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racker protocol differ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nections are unsteady, lower and costly (esp. in uplin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ed more parameter to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eer protocol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wer bandwidth determines the AMOUNT of exchanged data and FREQUENCY (e.g., bit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obility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ow to reflect mobility information like IP address change in two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hanges in Detail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ing the ecological relationship in different P2P streaming vend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 in some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lients in on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ystems use PPSP for signaling and media transport, but implement something system specific on top of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heduling of data keeps intact for differ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hanges in Detail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larify resource-constraint terminal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ormer PPLive) has issued iOS version in June,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fferent apps run different daemons at the same time in PC. Same in smart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blem: Share 1G or exclusive access 500M if 1G is better for disp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SP suggests to share 1G between daemons with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better resource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ime 1: app1 run, app2 idle,1G for ap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ime 2: app1 stop, app 2 begin, 500 M for app1 and 500M for ap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ime 3: app 1 quit, app 2 run, 1G for ap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y time :500M for app 1 and 500 M for ap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in Detail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ing the CDN and normal peer interaction with more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SP mode: CDN nodes as super p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mode: CDN nodes have complete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ode: CDN servers the beginning phase with C/S mode and once there are enough peers, switch to PPSP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hanges in Detail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47640" y="2276640"/>
            <a:ext cx="6553440" cy="4401720"/>
            <a:chOff x="1547640" y="2276640"/>
            <a:chExt cx="6553440" cy="4401720"/>
          </a:xfrm>
        </p:grpSpPr>
        <p:sp>
          <p:nvSpPr>
            <p:cNvPr id="55" name=""/>
            <p:cNvSpPr/>
            <p:nvPr/>
          </p:nvSpPr>
          <p:spPr>
            <a:xfrm>
              <a:off x="4643280" y="4221000"/>
              <a:ext cx="2953080" cy="2376000"/>
            </a:xfrm>
            <a:prstGeom prst="cloudCallout">
              <a:avLst>
                <a:gd name="adj1" fmla="val -48064"/>
                <a:gd name="adj2" fmla="val 80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08360" y="2276640"/>
              <a:ext cx="1800360" cy="72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67280" y="4149360"/>
              <a:ext cx="1800000" cy="72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00720" y="5805360"/>
              <a:ext cx="1800360" cy="72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ide p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47640" y="3284280"/>
              <a:ext cx="1800360" cy="72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4720" y="6310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5796000" y="4868280"/>
              <a:ext cx="504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95440" y="496080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Track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 ca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4355640" y="2997000"/>
              <a:ext cx="36036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6160" y="3357360"/>
              <a:ext cx="27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Tracker protocol, pee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3348000" y="3933720"/>
              <a:ext cx="71928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38160" y="429228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Pe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5148000" y="4868280"/>
              <a:ext cx="1152360" cy="15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87240" y="5589360"/>
              <a:ext cx="179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,Peer protocol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Updating the procedure for caches supporting P2P 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for WG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3:20:05Z</dcterms:created>
  <dc:creator>MC SYSTEM</dc:creator>
  <dc:description/>
  <dc:language>en-US</dc:language>
  <cp:lastModifiedBy>MC SYSTEM</cp:lastModifiedBy>
  <dcterms:modified xsi:type="dcterms:W3CDTF">2011-07-24T15:44:10Z</dcterms:modified>
  <cp:revision>39</cp:revision>
  <dc:subject/>
  <dc:title>Problem Statement of PPSP</dc:title>
</cp:coreProperties>
</file>