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7ED-25F2-473C-A08A-2260B36E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1D6-3D06-458E-A0A6-7B59C2D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FF1-6FC2-4110-AF0C-31C4CE52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3E2-5BCD-4AF7-99E8-235A71D3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CF3-0EDC-44FE-B893-C6E82929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D3D-F82A-48BB-A506-3FE343F3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52C-1ACD-44F7-9303-612861A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96F-0091-49F9-BE72-554CFF48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8B8-2ECA-4589-8B58-A37250A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919-6DA0-4A4B-8506-91D379E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578-870B-493C-9D8E-5659DA2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CB0-DD67-4CA7-8167-2CC8DB2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55D2-810D-4F3D-8BE9-19E953325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of PP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141720"/>
            <a:ext cx="7304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raft-ietf-ppsp-problem-statement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ly 25, IETF 81,Quebec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y all the comments in last IETF and in the mailing list during the adjou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ambiguous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Detail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ents: The problems in mobile environment are NO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pd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acker protocol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nections are unsteady, lower and costly (esp. in uplin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ed more parameter to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eer protocol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wer bandwidth determines the AMOUNT of exchanged data and FREQUENCY (e.g., bit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bilit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ow to reflect mobility information like IP address change in two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ing the ecological relationship in different P2P streaming vend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 in som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lients in on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ystems use PPSP for signaling and media transport, but implement something system specific on top of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eduling of data keeps intact for differ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larify resource-constraint terminal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mer PPLive) has issued iOS version in June,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fferent apps run different daemons at the same time in PC. Same in smart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blem: Share 1G or exclusive access 500M if 1G is better for disp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SP suggests to share 1G between daemons with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better resource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1: app1 run, app2 idle,1G for ap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2: app1 stop, app 2 begin, 500 M for app1 and 500M for ap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ime 3: app 1 quit, app 2 run, 1G for ap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y time :500M for app 1 and 500 M for ap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Detail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ing the CDN and normal peer interaction with more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SP mode: CDN nodes as super p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mode: CDN nodes have complete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ode: CDN servers the beginning phase with C/S mode and once there are enough peers, switch to PPSP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in Detail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47640" y="2276640"/>
            <a:ext cx="6553440" cy="4401720"/>
            <a:chOff x="1547640" y="2276640"/>
            <a:chExt cx="6553440" cy="4401720"/>
          </a:xfrm>
        </p:grpSpPr>
        <p:sp>
          <p:nvSpPr>
            <p:cNvPr id="55" name=""/>
            <p:cNvSpPr/>
            <p:nvPr/>
          </p:nvSpPr>
          <p:spPr>
            <a:xfrm>
              <a:off x="4643280" y="4221000"/>
              <a:ext cx="2953080" cy="2376000"/>
            </a:xfrm>
            <a:prstGeom prst="cloudCallout">
              <a:avLst>
                <a:gd name="adj1" fmla="val -48064"/>
                <a:gd name="adj2" fmla="val 8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08360" y="227664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67280" y="4149360"/>
              <a:ext cx="180000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00720" y="580536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ide p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7640" y="3284280"/>
              <a:ext cx="1800360" cy="72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4720" y="6310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796000" y="4868280"/>
              <a:ext cx="504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5440" y="496080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Track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355640" y="2997000"/>
              <a:ext cx="36036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6160" y="335736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Tracker protocol, pee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348000" y="3933720"/>
              <a:ext cx="71928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38160" y="42922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e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148000" y="4868280"/>
              <a:ext cx="115236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87240" y="5589360"/>
              <a:ext cx="17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,Peer protocol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pdating the procedure for caches supporting P2P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3:20:05Z</dcterms:created>
  <dc:creator>MC SYSTEM</dc:creator>
  <dc:description/>
  <dc:language>en-US</dc:language>
  <cp:lastModifiedBy>MC SYSTEM</cp:lastModifiedBy>
  <dcterms:modified xsi:type="dcterms:W3CDTF">2011-07-24T15:44:10Z</dcterms:modified>
  <cp:revision>39</cp:revision>
  <dc:subject/>
  <dc:title>Problem Statement of PPSP</dc:title>
</cp:coreProperties>
</file>