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792-293D-45D4-BD75-8B416C2E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71A-85C1-46D7-8231-3A5F2D30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4CA-EA07-4481-B144-07CF0522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ECB-9768-48AC-8187-0F967193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E4A-D087-493E-931A-0DFFF4C8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405-7D13-4BE5-B039-DD1C269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C36-7B7F-40AA-AF03-B145BD0C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FE3-5547-4AC7-8AE2-257C13C3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7F0-9221-4C1E-96D0-1CEEB1F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6D2-E919-4B08-A0A2-D2C2F11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A0D-021D-4B94-9208-78D26EC7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BC7-EF64-420D-9C78-1055716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06C99-777C-47BF-9AEA-A3491C8C50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13543-4FD4-4197-B511-CD904AB85D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5080" y="2130120"/>
            <a:ext cx="8488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gu-ppsp-tracker-protocol-0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5080" y="3886200"/>
            <a:ext cx="8488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er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Gu Yingj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TF-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Quebe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u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20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7800"/>
            <a:ext cx="8229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FIND&lt;/Metho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Peernum&gt;***&lt;/Peernum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Stats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Stat property="***"&gt;***&lt;/Sta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er will choose peer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can provide the specific content and satisfy the propertyrequirement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by requesting pe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0268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FIN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FIND&lt;/Response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Peer 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/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track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60440"/>
            <a:ext cx="8229600" cy="66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KEEPA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KEEPALIVE&lt;/Metho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cker should update 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timer to indicate that the tracker has heard from the pe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5200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STAT_QU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STAT_QUERY&lt;/Metho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tatRequest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tat property="***"&gt;&lt;/Stat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track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54160"/>
            <a:ext cx="8572680" cy="66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STAT_QUERY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STAT_QUERY&lt;/RESPONSE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***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track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744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TAT_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STAT_REPORT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***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ker store th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 information for future us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D358B-504D-4793-90EF-68D7A632C9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Securit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uthentication between communicating tracker and pe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gnaling protection between communicating tracker and pe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ntent Integrity protection against polluting peers/track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al attacks and mi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ed consensus to move forwa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propose to accept Tracker protocol as an WG i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architecture and functions, as well as methods, have gotten rough consens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Open Issu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, e.g. encoding and NAT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gotten rough consens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mess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ges 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been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Next Steps on protocol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 Peer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 mandatory security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 QoS guarantee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Important updates to Tracker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28520"/>
            <a:ext cx="822960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Make the final decision to use text based protocol, based on rough consensus in mailing li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emove Binary encoding from the d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If you have any oppsite opinion, please annouce at the mee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Explicitly point out that NAT traversal will not be solved in Tracker Protocol. Refer to dedicated draft and Tracker Protocol may support the reqs from that dra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Update HTTP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Add Security Consideration s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Out-of-scop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Bootstr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NAT Travers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Metho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NECT                    ---   DISCONN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OIN/JOIN_CHUNK    ---   LE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FIND/FIND_CHU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KEEPA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STAT_REPORT            ---   STAT_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F6283-718B-45CD-9D84-F041F45757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79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Encoding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mmon H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PPSPTrackerProtocol version="***"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***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...Method specific xml information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** is used to represent data to be inserte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70176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Method Encoding and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3976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CONN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CONNECT&lt;/Metho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Calibri"/>
                <a:ea typeface="宋体"/>
              </a:rPr>
              <a:t> 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&lt;Cer&gt;***&lt;/Cer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 from the new peer to the tracker,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ing the desire to connec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 A response is generated by the tracker indicating success,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ure, or some condition that must be satisfied to succeed (fo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, providing credential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tracker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checks peer's validation, and, if succeed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rds the peer as 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ed pe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6160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ISCONN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DISCONNECT&lt;/Metho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Calibri"/>
                <a:ea typeface="宋体"/>
              </a:rPr>
              <a:t>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zh-CN" sz="2600" spc="-1" strike="noStrike">
                <a:solidFill>
                  <a:srgbClr val="c0504d"/>
                </a:solidFill>
                <a:latin typeface="Calibri"/>
                <a:ea typeface="宋体"/>
              </a:rPr>
              <a:t>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Cer&gt;***&lt;/Cer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tracker MUST remove the pee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ll swarms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he peer is participa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It will honor no more requests from the pee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 the peer CONNECTs ag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it will not provide th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in response to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FIND/FIND_CHUN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futur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6160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JOIN&lt;/Metho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Calibri"/>
                <a:ea typeface="宋体"/>
              </a:rPr>
              <a:t>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ExpireTime&gt;***&lt;/ExpireTime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Send by the Peer to inform the Tracker that it would like to participate in a particula swa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Check message, and if correct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racker enters the information into the internal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st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6160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LEAVE&lt;/Method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Check message, and if correct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racker remove the peer from the list of peers participating in a particular swarm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09:36Z</dcterms:created>
  <dc:creator>David Bryan</dc:creator>
  <dc:description/>
  <dc:language>en-US</dc:language>
  <cp:lastModifiedBy>g00107907</cp:lastModifiedBy>
  <cp:lastPrinted>1899-12-30T00:00:00Z</cp:lastPrinted>
  <dcterms:modified xsi:type="dcterms:W3CDTF">2011-03-22T03:00:42Z</dcterms:modified>
  <cp:revision>12</cp:revision>
  <dc:subject/>
  <dc:title>draft-gu-ppsp-tracker-protocol-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756365</vt:lpwstr>
  </property>
</Properties>
</file>