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31D-9B11-4D79-8A08-59F3AE6B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C97-592E-4430-A048-083F5C16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1D5-228F-4F12-8084-CB9F8C65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0CC-7367-41D5-8955-467779C3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9F9-61E8-44AC-8C61-9CAA0A75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443-E61F-41D4-8DF4-DE9D27B4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38F-5E55-43CD-9786-BC452545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107-0A98-401A-A1FC-891395F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315-1C72-4F0E-A20B-7AA087E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19A-980D-4F46-A1AA-848D959C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382-8413-4B8F-B010-07DA30E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79D-10CC-44A6-BA8C-CA6BD82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D30C7-76CE-4496-9C0B-79A7922EEC4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A582D-0DCB-4B60-B5E6-94189F73D4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5080" y="2130120"/>
            <a:ext cx="8488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gu-ppsp-tracker-protocol-0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5080" y="3886200"/>
            <a:ext cx="8488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er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Gu Yingj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TF-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Quebe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Ju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20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7800"/>
            <a:ext cx="8229600" cy="71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FIND&lt;/Metho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ChunkID&gt;***&lt;/ChunkI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Peernum&gt;***&lt;/Peernum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Stats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Stat property="***"&gt;***&lt;/Sta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&lt;/Stats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er will choose peer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can provide the specific content and satisfy the propertyrequirement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by requesting pe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0268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FIND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FIND&lt;/Response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ChunkID&gt;***&lt;/Chunk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Peer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Peer 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/Peer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tracker to pe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60440"/>
            <a:ext cx="8229600" cy="66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KEEPA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KEEPALIVE&lt;/Metho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cker should update 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timer to indicate that the tracker has heard from the pe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5200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STAT_QU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STAT_QUERY&lt;/Metho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StatRequest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Stat property="***"&gt;&lt;/Stat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/Stat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tracker to pe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254160"/>
            <a:ext cx="8572680" cy="66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STAT_QUERY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STAT_QUERY&lt;/RESPONSE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s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 property="***"&gt;***&lt;/Sta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s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tracker to pe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744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TAT_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STAT_REPORT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s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 property="***"&gt;***&lt;/Sta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s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cker store th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 information for future use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EF704-1626-4B0A-B843-664F6AAB3F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Security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uthentication between communicating tracker and pe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gnaling protection between communicating tracker and pe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ntent Integrity protection against polluting peers/track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al attacks and mi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ed consensus to move forwa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propose to accept Tracker protocol as an WG i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architecture and functions, as well as methods, have gotten rough consens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Open Issue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, e.g. encoding and NAT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gotten rough consens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mess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ges defin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been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Next Steps on protocol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Define Peer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Define mandatory security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Define QoS guarantee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Important updates to Tracker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28520"/>
            <a:ext cx="822960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Make the final decision to use text based protocol, based on rough consensus in mailing li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Remove Binary encoding from the dra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If you have any oppsite opinion, please annouce at the mee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Explicitly point out that NAT traversal will not be solved in Tracker Protocol. Refer to dedicated draft and Tracker Protocol may support the reqs from that dra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Update HTTP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Add Security Consideration s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Out-of-scop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Bootstr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NAT Travers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Metho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NECT                    ---   DISCONN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JOIN/JOIN_CHUNK    ---   LE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FIND/FIND_CHU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KEEPA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STAT_REPORT            ---   STAT_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2D02D-902B-4369-A208-D0CE25DEF4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79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Encoding 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mmon H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PPSPTrackerProtocol version="***"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***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...Method specific xml information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** is used to represent data to be inserte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70176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Method Encoding and 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39760"/>
            <a:ext cx="822960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CONN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CONNECT&lt;/Metho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Calibri"/>
                <a:ea typeface="宋体"/>
              </a:rPr>
              <a:t> 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&lt;Cer&gt;***&lt;/Cer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 from the new peer to the tracker,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ing the desire to connec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 A response is generated by the tracker indicating success,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lure, or some condition that must be satisfied to succeed (fo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, providing credential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tracker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checks peer's validation, and, if succeed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rds the peer as 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ed pe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6160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DISCONN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DISCONNECT&lt;/Metho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Calibri"/>
                <a:ea typeface="宋体"/>
              </a:rPr>
              <a:t>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zh-CN" sz="2600" spc="-1" strike="noStrike">
                <a:solidFill>
                  <a:srgbClr val="c0504d"/>
                </a:solidFill>
                <a:latin typeface="Calibri"/>
                <a:ea typeface="宋体"/>
              </a:rPr>
              <a:t>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Cer&gt;***&lt;/Cer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tracker MUST remove the pee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ll swarms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he peer is participa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It will honor no more requests from the pee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 the peer CONNECTs ag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it will not provide th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in response to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FIND/FIND_CHUN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futur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6160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JOIN&lt;/Metho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Calibri"/>
                <a:ea typeface="宋体"/>
              </a:rPr>
              <a:t>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ExpireTime&gt;***&lt;/ExpireTime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Send by the Peer to inform the Tracker that it would like to participate in a particula swa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Check message, and if correct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racker enters the information into the internal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sto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6160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LE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LEAVE&lt;/Method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&lt;/PPSPTrackerProtocol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track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Check message, and if correct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racker remove the peer from the list of peers participating in a particular swarm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9:09:36Z</dcterms:created>
  <dc:creator>David Bryan</dc:creator>
  <dc:description/>
  <dc:language>en-US</dc:language>
  <cp:lastModifiedBy>g00107907</cp:lastModifiedBy>
  <cp:lastPrinted>1899-12-30T00:00:00Z</cp:lastPrinted>
  <dcterms:modified xsi:type="dcterms:W3CDTF">2011-03-22T03:00:42Z</dcterms:modified>
  <cp:revision>12</cp:revision>
  <dc:subject/>
  <dc:title>draft-gu-ppsp-tracker-protocol-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0756365</vt:lpwstr>
  </property>
</Properties>
</file>