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DBF-E6CF-4A0B-A134-222032E7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89D-08DD-47B9-9AEC-84F07E8D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747-1505-47EB-9F01-90CF9FA7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ED2-1777-4A40-AE4C-76B3BA96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921-C59F-464D-A2C3-E911199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F62-F588-4A67-AC73-6B71BD30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AB4-E5CB-4855-8DE9-168A7FE4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212-B4DB-4007-94DB-F2CB8D3B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C4D-321D-40EC-B266-90F1E6DE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B1A-7F0C-4AE9-B59B-0B9AF086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C49-45F3-4609-8A92-DB07CAC5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0C7-D67A-4C06-B6E0-CA5F720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17A2-A623-403F-B336-D9DCE98C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SP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esenter: Gu Yingj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's updated in this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ditorial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ructure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ference re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additional PPSP examples are introduced, no technic r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Overview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ree classifications:Mesh-based, Tree-based and Hybi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tocol design introduction to each P2P Stream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oS mechanism of each P2P Steam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common P2P Streaming pro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 we look forward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e people can review the draft and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ery few, if not none, comments are given to Survey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authors think that the Survey darft is ready for WGL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e we can start WGL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0T23:36:56Z</dcterms:created>
  <dc:creator>guyingjie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