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EC82-9B1E-4CC0-A955-3C6657E2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274B-EE4F-430D-B29B-3B7B475C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4BC9-1885-4A30-A478-121E380F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1A94-73EF-4890-BC56-31E309FA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F3A3-62BD-4639-93EE-50B608EB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5FAD-8E92-4D78-95CF-D1571130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5FF-B761-4E50-9BF8-1D4C3EC7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12A6-CFC7-4666-80BF-3AE694D4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A97B-333A-4F41-B341-1501B048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6643-8B84-445C-92EE-CD7DF477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58DE-97E2-473D-81F1-30CF59FA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5E0E-B23F-40E9-94A5-FBB4FE00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C98C-B525-44ED-AAE2-1BC819C44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SP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resenter: Gu Yingj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What's updated in this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ditorial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tructure adju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eference re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 additional PPSP examples are introduced, no technic re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Overview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ree classifications:Mesh-based, Tree-based and Hybi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rotocol design introduction to each P2P Stream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QoS mechanism of each P2P Steam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 common P2P Streaming proces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What we look forward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pe people can review the draft and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Very few, if not none, comments are given to Survey draf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authors think that the Survey darft is ready for WGL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pe we can start WGL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0T23:36:56Z</dcterms:created>
  <dc:creator>guyingjie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