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3B3F-1FFF-4A31-B1ED-EA64EC114AC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4436-EFD9-4C11-8EDE-A476D10E3A2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D67D-0892-4341-BBE9-3DCD08858EE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7FAB-1ACD-46C1-BB9A-B085414A391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3F38-19E2-4265-A1F2-7900C0E9BAA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7EC7-5FDB-41D7-82C0-BD6C64C7D13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7954-CABF-4581-9BFB-65978F265CB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CFBC-FBC0-4B49-AEC9-79C4E646A49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011E-8C0B-4277-A2A4-2FC61316CF6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9953-7BF7-4438-9501-BF4EC00E695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cessity of NAT traversal depends on scenari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Some Scenarios need NAT travers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some Scenarios, the ratio of NATed peer is high in the swarm. Without NAT traversal, some peers can't download or take long time to download needed chunk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some other scenarios, there is no NAT or the QoE is satisfied without NAT traversal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way, NAT traversal is necessary at least in some P2P streaming  systems (e.g. UUSe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F5A2-8D4E-476B-A669-84B0820B70E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2C8F-C815-4F99-9FF6-604BB319D8C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cision of supporting NAT traversal or not should be left to implement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oices of NAT traversal solution/method, NAT traversal service node and NAT traversal service discovery method should be left to implementation to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make these choices, Implementation should consider things like the ratio of NATed peer, the ratio of each NAT type, implementation overhead and so 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A663-25DD-41A6-A11B-A89D15190DA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362B-DDF5-482C-9457-E371E7F7FEB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42F2-4239-4382-A542-6B35B4EE3F6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2E4E-1292-4A3D-8B7C-345F43DBA74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9963-012A-4036-BABC-6D855D678C6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EF4E-8E74-4E8A-AACD-35C0E4EE113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A66F-B032-4ECD-8F4C-853002E9F83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B7F5-7674-4302-8EA3-DC18A33A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DB9C-852A-4B0C-8FE0-7B9DAC78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0238-97AD-4B12-A70F-082327CA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01DB-B2D1-4B93-BACE-E6D02797F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E0E6-1DC3-4882-87F1-E5B84E29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59DA-9BDA-4B52-B874-4C057380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FFE1-3B5C-46DA-B303-5C07AF2F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9ED1-55A9-45B5-A54F-8BDAFA5D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8510-E2D7-47FD-A268-C3C7786B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0A6F-7536-4A18-9E5A-76B91E23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A4FD-16EB-476A-B226-5A2B3337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EA2D-9242-421C-992F-13659CD3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54E8-CF70-4826-B781-55803B07F4E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B46E-A632-48C9-B1A0-3B8ECAE2D4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PSP NAT travers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71320" y="4500720"/>
            <a:ext cx="8258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Lichun Li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, Jun Wang, Wei C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{li.lichun1, wang.jun17}@zte.com.c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enweiyj@chinamobile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2445840" y="3643200"/>
            <a:ext cx="43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-li-ppsp-nat-traversal-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xy pe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datory for PPSP-ICE 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ed peer reuses CONNECT to establish connection with proxy peer, and obtain proxy cadi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Object 9"/>
          <p:cNvGraphicFramePr/>
          <p:nvPr/>
        </p:nvGraphicFramePr>
        <p:xfrm>
          <a:off x="1763640" y="2708280"/>
          <a:ext cx="6193080" cy="37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708280"/>
                    <a:ext cx="6193080" cy="37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N/TURN/proxy Ability 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PPSP-ICE solution, optional for RELOAD-ICE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-ppsp-tracker-protocol already supports STUN/TURN ability report with STAT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TAT type “proxy” to support proxy ability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 STUN/TURN/proxy Peer L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datory for PPSP-ICE solution, optional for RELOAD-ICE 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tch STUN/TURN/proxy peer list from tracker with modified FIND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ove &lt;SwarmID&gt; and &lt;ChunkID&gt; from FIND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PeerID&gt;***&lt;/PeerID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Peernum&gt;***&lt;/Peernum&gt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Stats&gt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Stat property="STUN"&gt;true&lt;/Stat&gt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.. more stats .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/Stats&gt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ort Candidates to Track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 puts &lt;PeerAddresses&gt; in JOIN/JOIN_CHUNK requ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PeerAddresses&gt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PeerAddress ip="***" port="***" priority="***" type="host"/&gt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PeerAddress ip="***" port="***" priority="***" type="reflexive"/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PeerAddress ip="***" port="***" priority="***" type="proxy"/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/PeerAddresses&gt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datory for PPSP-ICE 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required to support multi-homed p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7280" y="-27360"/>
            <a:ext cx="86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out NAT traversal ext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37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ve the choice of NAT traversal to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some scenarios, NAT traversal is not necessa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NA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oE is satisfied without NAT travers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multiple NAT traversal solution/methods requiring different protocol exten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 protocol is mandatory to implement, while NAT traversal extension is no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rotocol should work without NAT traversal, and allow NAT traversal ext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 mor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l on participation in the d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ine NAT-traversal exten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488F-1CEF-4939-8985-42A521DA99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矩形 1" descr=""/>
          <p:cNvPicPr/>
          <p:nvPr/>
        </p:nvPicPr>
        <p:blipFill>
          <a:blip r:embed="rId1"/>
          <a:stretch/>
        </p:blipFill>
        <p:spPr>
          <a:xfrm>
            <a:off x="1884240" y="1371600"/>
            <a:ext cx="5424480" cy="1474920"/>
          </a:xfrm>
          <a:prstGeom prst="rect">
            <a:avLst/>
          </a:prstGeom>
          <a:ln w="0">
            <a:noFill/>
          </a:ln>
        </p:spPr>
      </p:pic>
      <p:pic>
        <p:nvPicPr>
          <p:cNvPr id="97" name="矩形 2" descr=""/>
          <p:cNvPicPr/>
          <p:nvPr/>
        </p:nvPicPr>
        <p:blipFill>
          <a:blip r:embed="rId2"/>
          <a:stretch/>
        </p:blipFill>
        <p:spPr>
          <a:xfrm>
            <a:off x="2023920" y="3224160"/>
            <a:ext cx="5456520" cy="1481040"/>
          </a:xfrm>
          <a:prstGeom prst="rect">
            <a:avLst/>
          </a:prstGeom>
          <a:ln w="0">
            <a:noFill/>
          </a:ln>
        </p:spPr>
      </p:pic>
      <p:sp>
        <p:nvSpPr>
          <p:cNvPr id="98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B784-540D-4F38-8313-2FCDB50943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矩形 1" descr=""/>
          <p:cNvPicPr/>
          <p:nvPr/>
        </p:nvPicPr>
        <p:blipFill>
          <a:blip r:embed="rId1"/>
          <a:stretch/>
        </p:blipFill>
        <p:spPr>
          <a:xfrm>
            <a:off x="1884240" y="1371600"/>
            <a:ext cx="5424480" cy="1474920"/>
          </a:xfrm>
          <a:prstGeom prst="rect">
            <a:avLst/>
          </a:prstGeom>
          <a:ln w="0">
            <a:noFill/>
          </a:ln>
        </p:spPr>
      </p:pic>
      <p:pic>
        <p:nvPicPr>
          <p:cNvPr id="100" name="矩形 2" descr=""/>
          <p:cNvPicPr/>
          <p:nvPr/>
        </p:nvPicPr>
        <p:blipFill>
          <a:blip r:embed="rId2"/>
          <a:stretch/>
        </p:blipFill>
        <p:spPr>
          <a:xfrm>
            <a:off x="2023920" y="3224160"/>
            <a:ext cx="5456520" cy="1481040"/>
          </a:xfrm>
          <a:prstGeom prst="rect">
            <a:avLst/>
          </a:prstGeom>
          <a:ln w="0">
            <a:noFill/>
          </a:ln>
        </p:spPr>
      </p:pic>
      <p:sp>
        <p:nvSpPr>
          <p:cNvPr id="101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AB82-ED38-4378-BBC0-991A03030D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矩形 1" descr=""/>
          <p:cNvPicPr/>
          <p:nvPr/>
        </p:nvPicPr>
        <p:blipFill>
          <a:blip r:embed="rId1"/>
          <a:stretch/>
        </p:blipFill>
        <p:spPr>
          <a:xfrm>
            <a:off x="1884240" y="1371600"/>
            <a:ext cx="5424480" cy="1474920"/>
          </a:xfrm>
          <a:prstGeom prst="rect">
            <a:avLst/>
          </a:prstGeom>
          <a:ln w="0">
            <a:noFill/>
          </a:ln>
        </p:spPr>
      </p:pic>
      <p:pic>
        <p:nvPicPr>
          <p:cNvPr id="103" name="矩形 2" descr=""/>
          <p:cNvPicPr/>
          <p:nvPr/>
        </p:nvPicPr>
        <p:blipFill>
          <a:blip r:embed="rId2"/>
          <a:stretch/>
        </p:blipFill>
        <p:spPr>
          <a:xfrm>
            <a:off x="2023920" y="3224160"/>
            <a:ext cx="5456520" cy="1481040"/>
          </a:xfrm>
          <a:prstGeom prst="rect">
            <a:avLst/>
          </a:prstGeom>
          <a:ln w="0">
            <a:noFill/>
          </a:ln>
        </p:spPr>
      </p:pic>
      <p:sp>
        <p:nvSpPr>
          <p:cNvPr id="104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3B82-35EF-463E-9ACE-5E84F0B1D2A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 traversal necessit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enarios need NAT traversal: The ratio of NATed peer is high in the swarm. Without NAT traversal, some peers can't download or take long time to download needed chunk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enarios don't  need NAT traversal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no NAT or the QoE is satisfied without NAT traversal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 traversal is necessary at least in some P2P streaming  systems (e.g. UUSe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FB0D-BD26-46A9-B922-DDFA6137D0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s since 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change to PPSP-ICE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er tries to contact remote peer’s host addr and reflexive addr fir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it fails, it turns to exchange ICE parameters and perform ICE proces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ose PPSP protocol extensions for NAT traver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nly based on gu-ppsp-tracker-protocol and gu-peer-protoc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nly required by PPSP-I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OAD-ICE may also use some extens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C2B4-4222-4406-9F0E-3AE8F87680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ementation consid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27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ecision of supporting NAT traversal or not should be left to implement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oices of NAT traversal solution/method, NAT traversal service node and NAT traversal service discovery method should be left to implementation to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considerations:  the ratio of NATed peer, the ratio of each NAT type, implementation overhead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8929-2717-4554-B6C0-7DB432F191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 traversal solution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9997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CE is the standard NAT traversal solu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CE requires application to exchange ICE parame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solutions in the draft:  PPSP-ICE and RELOAD-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h use 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use PPSP and RELOAD separately to exchange ICE parameters (candidates and credentials for connectivity check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di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didate (from ICE RFC5245): A transport address that is a potential point of contact  for receipt of med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igned by host itself, NAT device or relay nod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ed peers need NAT devices or NAT traversal service nodes to discover/assign candid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B776-A9E5-483A-9C70-E28BCF23868F}" type="slidenum">
              <a:rPr b="0" lang="zh-CN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 traversal service nodes and candid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dicated STUN/TURN ser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: application-agnostic relay, assign relayed candidates to NATed pe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N: Discover reflexive candidates for NATed pe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N/TURN pe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er providing STUN/TURN serv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xy peer (mandatory for PPSP-I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er providing application layer relay. Analogy to SIP or RELOAD rel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gn proxy candidates to NATed pe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N-like track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cker providing STUN-like function with PPSP message.  E.g. tracker informs peer its reflexive candidate in PPSP CONNECT respon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red with STUN server/peer, STUN-like tracker saves messag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ogy to SIP r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204E-0348-48C6-B4B4-F79445760F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359080" y="2421000"/>
            <a:ext cx="6784920" cy="43369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PSP-ICE: Discover STUN/TURN/proxy peer via trac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920" y="109188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N/TURN/proxy peer report their abilities to track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ed peer fetches STUN/TURN/proxy peer  list from track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ed peer obtains candidates  from  STUN/TURN/proxy pe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4CFB-184B-41AF-BFBC-B29CCA42DA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PSP-ICE solution (signal traversal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000" y="1341360"/>
            <a:ext cx="4329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did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st addr, reflexive add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ay required: relayed addr, proxy add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rategy to conne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tact host addr and reflexive addr directly fir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tact proxy addr to exchange ICE parame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change ICE parameters with PPSP messages called Atta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9D23-9E10-448A-9F4B-2153F67191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1"/>
          <a:stretch/>
        </p:blipFill>
        <p:spPr>
          <a:xfrm>
            <a:off x="4859280" y="1700280"/>
            <a:ext cx="3828960" cy="43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PSP-ICE solution (media traversal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241200" y="4925880"/>
            <a:ext cx="8902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PPSP connection is built, media connection can be bui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build media connection, ICE parameters are exchanged using PPSP messages called MediaAtt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灯片编号占位符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BC14-0D9F-44BE-BCB6-D9F7F70C14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475272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tach &amp; MediaAtt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DestPeerID&gt;***&lt;/DestPeerID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PeerID&gt;***&lt;/PeerID&gt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SDP&gt; ... &lt;/SDP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P contains ICE paramet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PPSP-ICE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required if there is no N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ker's STUN-like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1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onal for both PPSP-ICE and RELOAD-ICE soluti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 discovers its reflexive addr with tracker’s hel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t &lt;ReflexiveAddr&gt; IP and port &lt;/ReflexiveAddr&gt; in CONNECT respon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2340000" y="3925800"/>
          <a:ext cx="4038480" cy="23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925800"/>
                    <a:ext cx="403848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 User</cp:lastModifiedBy>
  <dcterms:modified xsi:type="dcterms:W3CDTF">2011-07-24T18:20:27Z</dcterms:modified>
  <cp:revision>273</cp:revision>
  <dc:subject/>
  <dc:title>PPSP NAT traversal</dc:title>
</cp:coreProperties>
</file>