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3E09-A7A5-4258-9325-439A816D635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7F61-E48A-4130-879D-9467DC06D25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0D0E-B0CC-4E34-B790-DA0334D7983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7EEA-40E7-4BC0-A3E5-710C9C54897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1733-B38F-4C39-9E76-EA457496676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9BDF-6AE0-4240-B3CA-6BCF53E848A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0D97-BD26-452E-8700-A4623FC9637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28B6-3BB0-4698-ADC8-9412A4E7456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926B-913C-4DAC-8E18-2BD2FEC7D25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06AF-EEEB-4A50-A768-BC7D756400A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cessity of NAT traversal depends on scenari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Some Scenarios need NAT travers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some Scenarios, the ratio of NATed peer is high in the swarm. Without NAT traversal, some peers can't download or take long time to download needed chunk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some other scenarios, there is no NAT or the QoE is satisfied without NAT traversal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way, NAT traversal is necessary at least in some P2P streaming  systems (e.g. UUSe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7821-FFAA-4E13-A561-BBDE57FAA67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5881-F7A0-4898-9F27-3072AD03D90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cision of supporting NAT traversal or not should be left to implement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oices of NAT traversal solution/method, NAT traversal service node and NAT traversal service discovery method should be left to implementation to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make these choices, Implementation should consider things like the ratio of NATed peer, the ratio of each NAT type, implementation overhead and so 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BCC8-8937-4F2E-A77E-6642AB00919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1674-1C72-41F9-9453-412983064EF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38B3-A321-498E-948A-0D00F7A34BC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BF2B-400E-4D10-A17A-5FD22DC9F5A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71E0-F948-47C9-BEAD-DA3CDE56084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5CEE-C1EC-4261-98D0-AA6464088F6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D098-286B-4CA8-B47D-43D7C706F0D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84DF-88B9-47BF-A6B4-A392AEC6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FBAC-D6C2-4A09-9A4C-75659B63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BE99-A980-4F64-A438-31573E09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78CF-6D6E-49F5-9C04-4F799638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F2C0-010B-4729-B07C-9AB520A4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D142-0A38-47A5-9653-70897853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5ECC-2731-45E8-95BC-467EAA2D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0B38-1DB4-4732-85C4-A8C8051F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7490-4ADB-4B67-8716-85687690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6ACE-1D94-4BE1-B37F-9BA1A951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C4D2-2F06-4020-AD4D-52418A32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F3E5-5871-4C53-AA0A-C60EB43B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8C7B-90F3-4721-9641-1F5F0539FDA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FB3A-0F7A-43FB-BF6E-F378A732B4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PSP NAT travers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1320" y="4500720"/>
            <a:ext cx="8258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Lichun Li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, Jun Wang, Wei C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{li.lichun1, wang.jun17}@zte.com.c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enweiyj@chinamobile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2445840" y="3643200"/>
            <a:ext cx="43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-li-ppsp-nat-traversal-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xy pe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datory for PPSP-ICE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ed peer reuses CONNECT to establish connection with proxy peer, and obtain proxy cadi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Object 9"/>
          <p:cNvGraphicFramePr/>
          <p:nvPr/>
        </p:nvGraphicFramePr>
        <p:xfrm>
          <a:off x="1763640" y="2708280"/>
          <a:ext cx="6193080" cy="37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708280"/>
                    <a:ext cx="6193080" cy="37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N/TURN/proxy Ability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PPSP-ICE solution, optional for RELOAD-ICE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-ppsp-tracker-protocol already supports STUN/TURN ability report with STAT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TAT type “proxy” to support proxy ability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 STUN/TURN/proxy Peer L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datory for PPSP-ICE solution, optional for RELOAD-ICE 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tch STUN/TURN/proxy peer list from tracker with modified FIND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ve &lt;SwarmID&gt; and &lt;ChunkID&gt; from FIND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PeerID&gt;***&lt;/PeerID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Peernum&gt;***&lt;/Peernum&gt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Stats&gt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Stat property="STUN"&gt;true&lt;/Stat&gt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. more stats .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/Stats&gt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ort Candidates to Track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 puts &lt;PeerAddresses&gt; in JOIN/JOIN_CHUNK requ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PeerAddresses&gt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PeerAddress ip="***" port="***" priority="***" type="host"/&gt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PeerAddress ip="***" port="***" priority="***" type="reflexive"/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PeerAddress ip="***" port="***" priority="***" type="proxy"/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/PeerAddresses&gt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datory for PPSP-ICE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required to support multi-homed p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7280" y="-27360"/>
            <a:ext cx="86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out NAT traversal ext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37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ve the choice of NAT traversal to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some scenarios, NAT traversal is not necessa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NA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oE is satisfied without NAT travers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multiple NAT traversal solution/methods requiring different protocol exten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 protocol is mandatory to implement, while NAT traversal extension is no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rotocol should work without NAT traversal, and allow NAT traversal ex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 mor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l on participation in the d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ine NAT-traversal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1DE1-6445-4AEF-95CE-F86816F0F1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矩形 1" descr=""/>
          <p:cNvPicPr/>
          <p:nvPr/>
        </p:nvPicPr>
        <p:blipFill>
          <a:blip r:embed="rId1"/>
          <a:stretch/>
        </p:blipFill>
        <p:spPr>
          <a:xfrm>
            <a:off x="1884240" y="1371600"/>
            <a:ext cx="5424480" cy="1474920"/>
          </a:xfrm>
          <a:prstGeom prst="rect">
            <a:avLst/>
          </a:prstGeom>
          <a:ln w="0">
            <a:noFill/>
          </a:ln>
        </p:spPr>
      </p:pic>
      <p:pic>
        <p:nvPicPr>
          <p:cNvPr id="97" name="矩形 2" descr=""/>
          <p:cNvPicPr/>
          <p:nvPr/>
        </p:nvPicPr>
        <p:blipFill>
          <a:blip r:embed="rId2"/>
          <a:stretch/>
        </p:blipFill>
        <p:spPr>
          <a:xfrm>
            <a:off x="2023920" y="3224160"/>
            <a:ext cx="5456520" cy="1481040"/>
          </a:xfrm>
          <a:prstGeom prst="rect">
            <a:avLst/>
          </a:prstGeom>
          <a:ln w="0">
            <a:noFill/>
          </a:ln>
        </p:spPr>
      </p:pic>
      <p:sp>
        <p:nvSpPr>
          <p:cNvPr id="98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B767-5C2D-4133-9D7D-FED9355E24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矩形 1" descr=""/>
          <p:cNvPicPr/>
          <p:nvPr/>
        </p:nvPicPr>
        <p:blipFill>
          <a:blip r:embed="rId1"/>
          <a:stretch/>
        </p:blipFill>
        <p:spPr>
          <a:xfrm>
            <a:off x="1884240" y="1371600"/>
            <a:ext cx="5424480" cy="1474920"/>
          </a:xfrm>
          <a:prstGeom prst="rect">
            <a:avLst/>
          </a:prstGeom>
          <a:ln w="0">
            <a:noFill/>
          </a:ln>
        </p:spPr>
      </p:pic>
      <p:pic>
        <p:nvPicPr>
          <p:cNvPr id="100" name="矩形 2" descr=""/>
          <p:cNvPicPr/>
          <p:nvPr/>
        </p:nvPicPr>
        <p:blipFill>
          <a:blip r:embed="rId2"/>
          <a:stretch/>
        </p:blipFill>
        <p:spPr>
          <a:xfrm>
            <a:off x="2023920" y="3224160"/>
            <a:ext cx="5456520" cy="1481040"/>
          </a:xfrm>
          <a:prstGeom prst="rect">
            <a:avLst/>
          </a:prstGeom>
          <a:ln w="0">
            <a:noFill/>
          </a:ln>
        </p:spPr>
      </p:pic>
      <p:sp>
        <p:nvSpPr>
          <p:cNvPr id="101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DFA9-C9E3-472F-9D17-8A6F614C0C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矩形 1" descr=""/>
          <p:cNvPicPr/>
          <p:nvPr/>
        </p:nvPicPr>
        <p:blipFill>
          <a:blip r:embed="rId1"/>
          <a:stretch/>
        </p:blipFill>
        <p:spPr>
          <a:xfrm>
            <a:off x="1884240" y="1371600"/>
            <a:ext cx="5424480" cy="1474920"/>
          </a:xfrm>
          <a:prstGeom prst="rect">
            <a:avLst/>
          </a:prstGeom>
          <a:ln w="0">
            <a:noFill/>
          </a:ln>
        </p:spPr>
      </p:pic>
      <p:pic>
        <p:nvPicPr>
          <p:cNvPr id="103" name="矩形 2" descr=""/>
          <p:cNvPicPr/>
          <p:nvPr/>
        </p:nvPicPr>
        <p:blipFill>
          <a:blip r:embed="rId2"/>
          <a:stretch/>
        </p:blipFill>
        <p:spPr>
          <a:xfrm>
            <a:off x="2023920" y="3224160"/>
            <a:ext cx="5456520" cy="1481040"/>
          </a:xfrm>
          <a:prstGeom prst="rect">
            <a:avLst/>
          </a:prstGeom>
          <a:ln w="0">
            <a:noFill/>
          </a:ln>
        </p:spPr>
      </p:pic>
      <p:sp>
        <p:nvSpPr>
          <p:cNvPr id="104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DF88-75A4-4B32-B651-D5BD3D4742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 traversal necess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enarios need NAT traversal: The ratio of NATed peer is high in the swarm. Without NAT traversal, some peers can't download or take long time to download needed chunk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enarios don't  need NAT traversal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NAT or the QoE is satisfied without NAT traversal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 traversal is necessary at least in some P2P streaming  systems (e.g. UUSe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03D0-16DA-4DA3-8F9A-C789F12C7B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s since 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change to PPSP-ICE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er tries to contact remote peer’s host addr and reflexive addr fir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it fails, it turns to exchange ICE parameters and perform ICE proce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e PPSP protocol extensions for NAT traver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ly based on gu-ppsp-tracker-protocol and gu-peer-protoc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ly required by PPSP-I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OAD-ICE may also use some extens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394C-D57D-4363-BA50-4D237FC786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ementation consid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ecision of supporting NAT traversal or not should be left to implement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oices of NAT traversal solution/method, NAT traversal service node and NAT traversal service discovery method should be left to implementation to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considerations:  the ratio of NATed peer, the ratio of each NAT type, implementation overhead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2BD4-FACF-4EE7-854A-D1B11D0A77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 traversal solution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9997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CE is the standard NAT traversal solu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CE requires application to exchange ICE parame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solutions in the draft:  PPSP-ICE and RELOAD-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 use 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use PPSP and RELOAD separately to exchange ICE parameters (candidates and credentials for connectivity check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di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didate (from ICE RFC5245): A transport address that is a potential point of contact  for receipt of med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gned by host itself, NAT device or relay nod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ed peers need NAT devices or NAT traversal service nodes to discover/assign candid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5DF4-92C5-4923-A70E-82EAE11367CF}" type="slidenum">
              <a:rPr b="0" lang="zh-CN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 traversal service nodes and candid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dicated STUN/TURN ser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: application-agnostic relay, assign relayed candidates to NATed pe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N: Discover reflexive candidates for NATed pe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N/TURN pe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er providing STUN/TURN serv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xy peer (mandatory for PPSP-I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er providing application layer relay. Analogy to SIP or RELOAD rel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gn proxy candidates to NATed pe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N-like track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cker providing STUN-like function with PPSP message.  E.g. tracker informs peer its reflexive candidate in PPSP CONNECT respon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red with STUN server/peer, STUN-like tracker saves messag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ogy to SIP r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CEB1-ED05-483B-B54E-618153CFDA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359080" y="2421000"/>
            <a:ext cx="6784920" cy="43369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PSP-ICE: Discover STUN/TURN/proxy peer via trac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920" y="109188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N/TURN/proxy peer report their abilities to track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ed peer fetches STUN/TURN/proxy peer  list from track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ed peer obtains candidates  from  STUN/TURN/proxy pe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D12E-ED21-4D0C-850F-B3BC033692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PSP-ICE solution (signal traversal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000" y="1341360"/>
            <a:ext cx="4329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did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st addr, reflexive add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ay required: relayed addr, proxy add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rategy to conne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act host addr and reflexive addr directly fir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act proxy addr to exchange ICE parame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change ICE parameters with PPSP messages called Atta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666D-377A-4F06-B534-D9898095EB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1"/>
          <a:stretch/>
        </p:blipFill>
        <p:spPr>
          <a:xfrm>
            <a:off x="4859280" y="1700280"/>
            <a:ext cx="3828960" cy="43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PSP-ICE solution (media traversal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241200" y="4925880"/>
            <a:ext cx="8902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PPSP connection is built, media connection can be bui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uild media connection, ICE parameters are exchanged using PPSP messages called MediaAtt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灯片编号占位符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1480-C312-49B9-A7B9-A749FEBD70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475272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tach &amp; MediaAtt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DestPeerID&gt;***&lt;/DestPeerID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PeerID&gt;***&lt;/PeerID&gt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SDP&gt; ... &lt;/SDP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P contains ICE parame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PPSP-ICE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required if there is no N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ker's STUN-like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1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al for both PPSP-ICE and RELOAD-ICE solu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 discovers its reflexive addr with tracker’s hel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t &lt;ReflexiveAddr&gt; IP and port &lt;/ReflexiveAddr&gt; in CONNECT respo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2340000" y="3925800"/>
          <a:ext cx="403848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925800"/>
                    <a:ext cx="403848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 User</cp:lastModifiedBy>
  <dcterms:modified xsi:type="dcterms:W3CDTF">2011-07-24T18:20:27Z</dcterms:modified>
  <cp:revision>273</cp:revision>
  <dc:subject/>
  <dc:title>PPSP NAT traversal</dc:title>
</cp:coreProperties>
</file>