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E3973-9357-4814-9041-35B2423F6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2665-72BA-4BF5-A2ED-51BEB37D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FEC56-C861-49D6-973A-9270B4897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BB99D-3421-4E26-9C78-1A1DFF3F5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A162-6B46-4FEE-8807-E909F138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7B92-F157-4B37-AEA2-F572A675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4997-9B4E-4A08-886C-7437FA54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BCBD-C19D-42E6-862E-A41E2D40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CBF0-77B7-46B3-B1EC-EBC2A71B5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C886-4E38-497F-A0FA-8424FCF9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4B99-28F3-44B1-9D61-DDEF75CF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6AA20-8BC2-43A6-B1A4-E96F02C0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B905-1242-4581-8C02-74DDA66AC94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130120"/>
            <a:ext cx="8353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ICP—extended Internet Cache Protocol</a:t>
            </a:r>
            <a:br>
              <a:rPr sz="3600"/>
            </a:br>
            <a:r>
              <a:rPr b="0" lang="en-US" sz="2900" spc="-1" strike="noStrike">
                <a:solidFill>
                  <a:srgbClr val="000000"/>
                </a:solidFill>
                <a:latin typeface="Calibri"/>
              </a:rPr>
              <a:t>(draft-zhang-ppsp-eicp-00.tx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Presenter: Christian Schmid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IETF-81, Quebec, July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ing PPSP to replace ICP</a:t>
            </a:r>
            <a:endParaRPr b="0" lang="en-US" sz="3600" spc="-1" strike="noStrike">
              <a:solidFill>
                <a:srgbClr val="000000"/>
              </a:solidFill>
              <a:latin typeface="Calibri"/>
            </a:endParaRPr>
          </a:p>
        </p:txBody>
      </p:sp>
      <p:sp>
        <p:nvSpPr>
          <p:cNvPr id="67" name=""/>
          <p:cNvSpPr txBox="1"/>
          <p:nvPr/>
        </p:nvSpPr>
        <p:spPr>
          <a:xfrm>
            <a:off x="457200" y="907560"/>
            <a:ext cx="8229600" cy="5473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use PPSP protocol to make caches exchange their information.</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ing a new member—"TYPE" to PPSP message field to indicate the type of cached dat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ing the existing PPSP protocol by adding ICP Opcodes in its method field.</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YPE indicates that the cached data would be a document, these Opcodes will be activated, otherwise it is just a normal PPSP protoc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nclus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 Usage of internet caches for PPS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jor open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cache p2p related traffic (identify identical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further enhancements for caches are reason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kind of solution is best sui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proce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SP – Peer Protocol Cache Us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CP - Extended Internet Cache Protoc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P—Internet Cache Protoc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ways to extend ICP</a:t>
            </a:r>
            <a:endParaRPr b="0" lang="en-US" sz="32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mbedding PPSP in I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PSP and ICP Co-existing in caches communic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Using PPSP to replace ICP</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Motiva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2P traffic, e.g. used for PPSP produce a big part of the network traff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version of Internet caches is not able to cache P2P traffic (same content with different UR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pecially for PPSP network with high number of mobile subscribers, network storage and distribution is import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it possible to use Internet caches for PPSP traffic and what modification (cache function and ICP) is nee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it possible to enhance ICP with PPSP peer protocol specific functions for optimiz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PPSP Peer Protocol Cache usag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er Protocol allows for information to be shared directly between pe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tmap indication, which chunks a peer poss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quired chunk Ids or requested stre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st of alternative pe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port protocol negoti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n this be used for cache/cache communication and would it be use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ICP—extended Internet Cache Protocol</a:t>
            </a:r>
            <a:endParaRPr b="0" lang="en-US" sz="3600" spc="-1" strike="noStrike">
              <a:solidFill>
                <a:srgbClr val="000000"/>
              </a:solidFill>
              <a:latin typeface="Calibri"/>
            </a:endParaRPr>
          </a:p>
        </p:txBody>
      </p:sp>
      <p:sp>
        <p:nvSpPr>
          <p:cNvPr id="50" name=""/>
          <p:cNvSpPr txBox="1"/>
          <p:nvPr/>
        </p:nvSpPr>
        <p:spPr>
          <a:xfrm>
            <a:off x="457200" y="1052640"/>
            <a:ext cx="82296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cache p2p related information (e.g. identify identical content) with minor changes to internet cach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the benefits of the other PPSP related enhancements for common cache fun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extend the ICP protocol to provide this additional functions?</a:t>
            </a:r>
            <a:endParaRPr b="0" lang="en-US" sz="28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mbedding PPSP in ICP</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PSP and ICP Co-existing in caches communic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Using PPSP to replace ICP</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 we need an IPv6 version of ICP?</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CP—Internet Cache Protocol</a:t>
            </a:r>
            <a:endParaRPr b="0" lang="en-US" sz="3600" spc="-1" strike="noStrike">
              <a:solidFill>
                <a:srgbClr val="000000"/>
              </a:solidFill>
              <a:latin typeface="Calibri"/>
            </a:endParaRPr>
          </a:p>
        </p:txBody>
      </p:sp>
      <p:sp>
        <p:nvSpPr>
          <p:cNvPr id="52" name=""/>
          <p:cNvSpPr txBox="1"/>
          <p:nvPr/>
        </p:nvSpPr>
        <p:spPr>
          <a:xfrm>
            <a:off x="456840" y="1197000"/>
            <a:ext cx="821844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ghtweight message format used for communicating among Web ca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used to exchange hints about the existence of URLs in neighbor caches (e.g. query (URL), response: su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s an object location by its URL.</a:t>
            </a:r>
            <a:endParaRPr b="0" lang="en-US" sz="2400" spc="-1" strike="noStrike">
              <a:solidFill>
                <a:srgbClr val="000000"/>
              </a:solidFill>
              <a:latin typeface="Calibri"/>
            </a:endParaRPr>
          </a:p>
        </p:txBody>
      </p:sp>
      <p:pic>
        <p:nvPicPr>
          <p:cNvPr id="53" name="Picture 2" descr=""/>
          <p:cNvPicPr/>
          <p:nvPr/>
        </p:nvPicPr>
        <p:blipFill>
          <a:blip r:embed="rId1"/>
          <a:stretch/>
        </p:blipFill>
        <p:spPr>
          <a:xfrm>
            <a:off x="1042920" y="3243240"/>
            <a:ext cx="698040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pularity of ICP</a:t>
            </a:r>
            <a:endParaRPr b="0" lang="en-US" sz="3600" spc="-1" strike="noStrike">
              <a:solidFill>
                <a:srgbClr val="000000"/>
              </a:solidFill>
              <a:latin typeface="Calibri"/>
            </a:endParaRPr>
          </a:p>
        </p:txBody>
      </p:sp>
      <p:sp>
        <p:nvSpPr>
          <p:cNvPr id="55" name=""/>
          <p:cNvSpPr txBox="1"/>
          <p:nvPr/>
        </p:nvSpPr>
        <p:spPr>
          <a:xfrm>
            <a:off x="457200" y="888840"/>
            <a:ext cx="8229600" cy="5780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CHEbo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isco CacheEngine/Cisco Content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leG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rvest proj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ffic 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rror Im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Ca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scape Proxy 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vell BorderManager FastCa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xyS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qui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kyCache</a:t>
            </a:r>
            <a:endParaRPr b="0" lang="en-US" sz="2400" spc="-1" strike="noStrike">
              <a:solidFill>
                <a:srgbClr val="000000"/>
              </a:solidFill>
              <a:latin typeface="Calibri"/>
            </a:endParaRPr>
          </a:p>
        </p:txBody>
      </p:sp>
      <p:sp>
        <p:nvSpPr>
          <p:cNvPr id="56" name="右大括号 4"/>
          <p:cNvSpPr/>
          <p:nvPr/>
        </p:nvSpPr>
        <p:spPr>
          <a:xfrm>
            <a:off x="5749920" y="981000"/>
            <a:ext cx="693720" cy="5472360"/>
          </a:xfrm>
          <a:custGeom>
            <a:avLst/>
            <a:gdLst>
              <a:gd name="textAreaLeft" fmla="*/ 0 w 693720"/>
              <a:gd name="textAreaRight" fmla="*/ 250560 w 693720"/>
              <a:gd name="textAreaTop" fmla="*/ 164880 h 5472360"/>
              <a:gd name="textAreaBottom" fmla="*/ 5307480 h 5472360"/>
            </a:gdLst>
            <a:ahLst/>
            <a:rect l="textAreaLeft" t="textAreaTop" r="textAreaRight" b="textAreaBottom"/>
            <a:pathLst>
              <a:path w="21600" h="21600">
                <a:moveTo>
                  <a:pt x="0" y="0"/>
                </a:moveTo>
                <a:cubicBezTo>
                  <a:pt x="5400" y="0"/>
                  <a:pt x="10800" y="1042"/>
                  <a:pt x="10800" y="2083"/>
                </a:cubicBezTo>
                <a:lnTo>
                  <a:pt x="10800" y="8717"/>
                </a:lnTo>
                <a:cubicBezTo>
                  <a:pt x="10800" y="9759"/>
                  <a:pt x="16200" y="10800"/>
                  <a:pt x="21600" y="10800"/>
                </a:cubicBezTo>
                <a:cubicBezTo>
                  <a:pt x="16200" y="10800"/>
                  <a:pt x="10800" y="11842"/>
                  <a:pt x="10800" y="12883"/>
                </a:cubicBezTo>
                <a:lnTo>
                  <a:pt x="10800" y="19517"/>
                </a:lnTo>
                <a:cubicBezTo>
                  <a:pt x="10800" y="20559"/>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5"/>
          <p:cNvSpPr/>
          <p:nvPr/>
        </p:nvSpPr>
        <p:spPr>
          <a:xfrm>
            <a:off x="6634080" y="3213000"/>
            <a:ext cx="218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l the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 proxies support I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5920"/>
            <a:ext cx="8229600" cy="635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mbedding PPSP in ICP</a:t>
            </a:r>
            <a:endParaRPr b="0" lang="en-US" sz="3600" spc="-1" strike="noStrike">
              <a:solidFill>
                <a:srgbClr val="000000"/>
              </a:solidFill>
              <a:latin typeface="Calibri"/>
            </a:endParaRPr>
          </a:p>
        </p:txBody>
      </p:sp>
      <p:sp>
        <p:nvSpPr>
          <p:cNvPr id="59" name=""/>
          <p:cNvSpPr txBox="1"/>
          <p:nvPr/>
        </p:nvSpPr>
        <p:spPr>
          <a:xfrm>
            <a:off x="457200" y="836280"/>
            <a:ext cx="8229600" cy="5832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identifier to indicate if the protocol is an original ICP protocol or a new one with PPSP embedded in.</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the Opcode by using the unused values to express the PPSP information. When identifie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dicates the cached data should b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unks, these new Opcodes will be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tivated.</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using PPSP message, th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ecific response message should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rry Chunk IDs in its body instead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URLs in the ICP format.</a:t>
            </a:r>
            <a:endParaRPr b="0" lang="en-US" sz="2400" spc="-1" strike="noStrike">
              <a:solidFill>
                <a:srgbClr val="000000"/>
              </a:solidFill>
              <a:latin typeface="Calibri"/>
            </a:endParaRPr>
          </a:p>
        </p:txBody>
      </p:sp>
      <p:pic>
        <p:nvPicPr>
          <p:cNvPr id="60" name="Picture 2" descr=""/>
          <p:cNvPicPr/>
          <p:nvPr/>
        </p:nvPicPr>
        <p:blipFill>
          <a:blip r:embed="rId1"/>
          <a:stretch/>
        </p:blipFill>
        <p:spPr>
          <a:xfrm>
            <a:off x="755640" y="1773360"/>
            <a:ext cx="7416720" cy="530280"/>
          </a:xfrm>
          <a:prstGeom prst="rect">
            <a:avLst/>
          </a:prstGeom>
          <a:ln w="0">
            <a:noFill/>
          </a:ln>
        </p:spPr>
      </p:pic>
      <p:sp>
        <p:nvSpPr>
          <p:cNvPr id="61" name="椭圆 4"/>
          <p:cNvSpPr/>
          <p:nvPr/>
        </p:nvSpPr>
        <p:spPr>
          <a:xfrm>
            <a:off x="684360" y="1700280"/>
            <a:ext cx="502920" cy="72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3" descr=""/>
          <p:cNvPicPr/>
          <p:nvPr/>
        </p:nvPicPr>
        <p:blipFill>
          <a:blip r:embed="rId2"/>
          <a:stretch/>
        </p:blipFill>
        <p:spPr>
          <a:xfrm>
            <a:off x="5508720" y="2924280"/>
            <a:ext cx="3311280" cy="37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59920"/>
            <a:ext cx="87854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PSP and ICP Co-existing in caches communication</a:t>
            </a:r>
            <a:endParaRPr b="0" lang="en-US" sz="3600" spc="-1" strike="noStrike">
              <a:solidFill>
                <a:srgbClr val="000000"/>
              </a:solidFill>
              <a:latin typeface="Calibri"/>
            </a:endParaRPr>
          </a:p>
        </p:txBody>
      </p:sp>
      <p:sp>
        <p:nvSpPr>
          <p:cNvPr id="64" name=""/>
          <p:cNvSpPr txBox="1"/>
          <p:nvPr/>
        </p:nvSpPr>
        <p:spPr>
          <a:xfrm>
            <a:off x="457200" y="1196640"/>
            <a:ext cx="822960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ches may need a functional entity, namely a Data Type Prober, to identify the form of the data (document/chun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ache needs to inform the Data Type Prober the data it caches, when communication occurs, the Data Type Prober will decide the message type according to the type of cached data.</a:t>
            </a:r>
            <a:endParaRPr b="0" lang="en-US" sz="2400" spc="-1" strike="noStrike">
              <a:solidFill>
                <a:srgbClr val="000000"/>
              </a:solidFill>
              <a:latin typeface="Calibri"/>
            </a:endParaRPr>
          </a:p>
        </p:txBody>
      </p:sp>
      <p:pic>
        <p:nvPicPr>
          <p:cNvPr id="65" name="Picture 2" descr=""/>
          <p:cNvPicPr/>
          <p:nvPr/>
        </p:nvPicPr>
        <p:blipFill>
          <a:blip r:embed="rId1"/>
          <a:stretch/>
        </p:blipFill>
        <p:spPr>
          <a:xfrm>
            <a:off x="1116000" y="2206800"/>
            <a:ext cx="640872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02:14:08Z</dcterms:created>
  <dc:creator> 桂俪文</dc:creator>
  <dc:description/>
  <dc:language>en-US</dc:language>
  <cp:lastModifiedBy>dems1cg5</cp:lastModifiedBy>
  <dcterms:modified xsi:type="dcterms:W3CDTF">2011-07-25T10:05:24Z</dcterms:modified>
  <cp:revision>56</cp:revision>
  <dc:subject/>
  <dc:title>eICP—extended Internet Cache Protocol (draft-zhang-ppsp-eicp-00.txt)</dc:title>
</cp:coreProperties>
</file>