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02C25-EE72-4965-8DB2-885475384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59B62-E7B1-4D04-B84E-65FA18FF7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84F1E-7358-4721-8A46-5CF49C822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7C329-D4B9-442D-929B-6685C0D75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6BA02-5659-48B4-9F5D-577C96216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9FD28-B826-40B5-8E6E-AC0F9E20A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F415C-71B9-42DD-8F7F-BDCAD97CA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7E7F3-56C9-467B-8358-81C243418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9D10B-BD22-4EFB-8098-32E4BF86A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D47D1-CACD-424B-A01D-3E20562B4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C73B1-9566-4EB5-BFB2-4DEADABFE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7FC0E-4AEA-4507-8FA7-17BA7A963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E347-97E6-4E04-8276-85545C91F7C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130120"/>
            <a:ext cx="8353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ICP—extended Internet Cache Protocol</a:t>
            </a:r>
            <a:br>
              <a:rPr sz="3600"/>
            </a:br>
            <a:r>
              <a:rPr b="0" lang="en-US" sz="2900" spc="-1" strike="noStrike">
                <a:solidFill>
                  <a:srgbClr val="000000"/>
                </a:solidFill>
                <a:latin typeface="Calibri"/>
              </a:rPr>
              <a:t>(draft-zhang-ppsp-eicp-00.tx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898989"/>
                </a:solidFill>
                <a:latin typeface="Calibri"/>
              </a:rPr>
              <a:t>Presenter: Christian Schmidt</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898989"/>
                </a:solidFill>
                <a:latin typeface="Calibri"/>
              </a:rPr>
              <a:t>IETF-81, Quebec, July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15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Using PPSP to replace ICP</a:t>
            </a:r>
            <a:endParaRPr b="0" lang="en-US" sz="3600" spc="-1" strike="noStrike">
              <a:solidFill>
                <a:srgbClr val="000000"/>
              </a:solidFill>
              <a:latin typeface="Calibri"/>
            </a:endParaRPr>
          </a:p>
        </p:txBody>
      </p:sp>
      <p:sp>
        <p:nvSpPr>
          <p:cNvPr id="67" name=""/>
          <p:cNvSpPr txBox="1"/>
          <p:nvPr/>
        </p:nvSpPr>
        <p:spPr>
          <a:xfrm>
            <a:off x="457200" y="907560"/>
            <a:ext cx="8229600" cy="5473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 use PPSP protocol to make caches exchange their information.</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oducing a new member—"TYPE" to PPSP message field to indicate the type of cached data.</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ding the existing PPSP protocol by adding ICP Opcodes in its method field.</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YPE indicates that the cached data would be a document, these Opcodes will be activated, otherwise it is just a normal PPSP protoco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nclusion</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urpose: Usage of internet caches for PPS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jor open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to cache p2p related traffic (identify identical cont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further enhancements for caches are reason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kind of solution is best suit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to proce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tiv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PSP – Peer Protocol Cache Usag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ICP - Extended Internet Cache Protoco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P—Internet Cache Protoco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ways to extend ICP</a:t>
            </a:r>
            <a:endParaRPr b="0" lang="en-US" sz="32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Embedding PPSP in ICP</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PPSP and ICP Co-existing in caches communicati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Using PPSP to replace ICP</a:t>
            </a:r>
            <a:endParaRPr b="0" lang="en-US" sz="20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lus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Motivation</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2P traffic, e.g. used for PPSP produce a big part of the network traff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version of Internet caches is not able to cache P2P traffic (same content with different UR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pecially for PPSP network with high number of mobile subscribers, network storage and distribution is importa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s it possible to use Internet caches for PPSP traffic and what modification (cache function and ICP) is need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s it possible to enhance ICP with PPSP peer protocol specific functions for optimiz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PPSP Peer Protocol Cache usage</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eer Protocol allows for information to be shared directly between pe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itmap indication, which chunks a peer posses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quired chunk Ids or requested strea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st of alternative pe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ransport protocol negoti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n this be used for cache/cache communication and would it be usefu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ICP—extended Internet Cache Protocol</a:t>
            </a:r>
            <a:endParaRPr b="0" lang="en-US" sz="3600" spc="-1" strike="noStrike">
              <a:solidFill>
                <a:srgbClr val="000000"/>
              </a:solidFill>
              <a:latin typeface="Calibri"/>
            </a:endParaRPr>
          </a:p>
        </p:txBody>
      </p:sp>
      <p:sp>
        <p:nvSpPr>
          <p:cNvPr id="50" name=""/>
          <p:cNvSpPr txBox="1"/>
          <p:nvPr/>
        </p:nvSpPr>
        <p:spPr>
          <a:xfrm>
            <a:off x="457200" y="1052640"/>
            <a:ext cx="8229600" cy="5400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cache p2p related information (e.g. identify identical content) with minor changes to internet cach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are the benefits of the other PPSP related enhancements for common cache func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extend the ICP protocol to provide this additional functions?</a:t>
            </a:r>
            <a:endParaRPr b="0" lang="en-US" sz="28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Embedding PPSP in ICP</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PPSP and ICP Co-existing in caches communication</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Using PPSP to replace ICP</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o we need an IPv6 version of ICP?</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CP—Internet Cache Protocol</a:t>
            </a:r>
            <a:endParaRPr b="0" lang="en-US" sz="3600" spc="-1" strike="noStrike">
              <a:solidFill>
                <a:srgbClr val="000000"/>
              </a:solidFill>
              <a:latin typeface="Calibri"/>
            </a:endParaRPr>
          </a:p>
        </p:txBody>
      </p:sp>
      <p:sp>
        <p:nvSpPr>
          <p:cNvPr id="52" name=""/>
          <p:cNvSpPr txBox="1"/>
          <p:nvPr/>
        </p:nvSpPr>
        <p:spPr>
          <a:xfrm>
            <a:off x="456840" y="1197000"/>
            <a:ext cx="821844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ightweight message format used for communicating among Web cac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used to exchange hints about the existence of URLs in neighbor caches (e.g. query (URL), response: succ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tes an object location by its URL.</a:t>
            </a:r>
            <a:endParaRPr b="0" lang="en-US" sz="2400" spc="-1" strike="noStrike">
              <a:solidFill>
                <a:srgbClr val="000000"/>
              </a:solidFill>
              <a:latin typeface="Calibri"/>
            </a:endParaRPr>
          </a:p>
        </p:txBody>
      </p:sp>
      <p:pic>
        <p:nvPicPr>
          <p:cNvPr id="53" name="Picture 2" descr=""/>
          <p:cNvPicPr/>
          <p:nvPr/>
        </p:nvPicPr>
        <p:blipFill>
          <a:blip r:embed="rId1"/>
          <a:stretch/>
        </p:blipFill>
        <p:spPr>
          <a:xfrm>
            <a:off x="1042920" y="3243240"/>
            <a:ext cx="6980400" cy="3281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opularity of ICP</a:t>
            </a:r>
            <a:endParaRPr b="0" lang="en-US" sz="3600" spc="-1" strike="noStrike">
              <a:solidFill>
                <a:srgbClr val="000000"/>
              </a:solidFill>
              <a:latin typeface="Calibri"/>
            </a:endParaRPr>
          </a:p>
        </p:txBody>
      </p:sp>
      <p:sp>
        <p:nvSpPr>
          <p:cNvPr id="55" name=""/>
          <p:cNvSpPr txBox="1"/>
          <p:nvPr/>
        </p:nvSpPr>
        <p:spPr>
          <a:xfrm>
            <a:off x="457200" y="888840"/>
            <a:ext cx="8229600" cy="5780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CHEbo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isco CacheEngine/Cisco Content Engi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leG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rvest proje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affic Serv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rror Ima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W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tCach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tscape Proxy Serv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vell BorderManager FastCach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xyS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qui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kyCache</a:t>
            </a:r>
            <a:endParaRPr b="0" lang="en-US" sz="2400" spc="-1" strike="noStrike">
              <a:solidFill>
                <a:srgbClr val="000000"/>
              </a:solidFill>
              <a:latin typeface="Calibri"/>
            </a:endParaRPr>
          </a:p>
        </p:txBody>
      </p:sp>
      <p:sp>
        <p:nvSpPr>
          <p:cNvPr id="56" name="右大括号 4"/>
          <p:cNvSpPr/>
          <p:nvPr/>
        </p:nvSpPr>
        <p:spPr>
          <a:xfrm>
            <a:off x="5749920" y="981000"/>
            <a:ext cx="693720" cy="5472360"/>
          </a:xfrm>
          <a:custGeom>
            <a:avLst/>
            <a:gdLst>
              <a:gd name="textAreaLeft" fmla="*/ 0 w 693720"/>
              <a:gd name="textAreaRight" fmla="*/ 250560 w 693720"/>
              <a:gd name="textAreaTop" fmla="*/ 164880 h 5472360"/>
              <a:gd name="textAreaBottom" fmla="*/ 5307480 h 5472360"/>
            </a:gdLst>
            <a:ahLst/>
            <a:rect l="textAreaLeft" t="textAreaTop" r="textAreaRight" b="textAreaBottom"/>
            <a:pathLst>
              <a:path w="21600" h="21600">
                <a:moveTo>
                  <a:pt x="0" y="0"/>
                </a:moveTo>
                <a:cubicBezTo>
                  <a:pt x="5400" y="0"/>
                  <a:pt x="10800" y="1042"/>
                  <a:pt x="10800" y="2083"/>
                </a:cubicBezTo>
                <a:lnTo>
                  <a:pt x="10800" y="8717"/>
                </a:lnTo>
                <a:cubicBezTo>
                  <a:pt x="10800" y="9759"/>
                  <a:pt x="16200" y="10800"/>
                  <a:pt x="21600" y="10800"/>
                </a:cubicBezTo>
                <a:cubicBezTo>
                  <a:pt x="16200" y="10800"/>
                  <a:pt x="10800" y="11842"/>
                  <a:pt x="10800" y="12883"/>
                </a:cubicBezTo>
                <a:lnTo>
                  <a:pt x="10800" y="19517"/>
                </a:lnTo>
                <a:cubicBezTo>
                  <a:pt x="10800" y="20559"/>
                  <a:pt x="5400" y="21600"/>
                  <a:pt x="0" y="21600"/>
                </a:cubicBezTo>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5"/>
          <p:cNvSpPr/>
          <p:nvPr/>
        </p:nvSpPr>
        <p:spPr>
          <a:xfrm>
            <a:off x="6634080" y="3213000"/>
            <a:ext cx="218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ll thes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 proxies support I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15920"/>
            <a:ext cx="8229600" cy="6350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mbedding PPSP in ICP</a:t>
            </a:r>
            <a:endParaRPr b="0" lang="en-US" sz="3600" spc="-1" strike="noStrike">
              <a:solidFill>
                <a:srgbClr val="000000"/>
              </a:solidFill>
              <a:latin typeface="Calibri"/>
            </a:endParaRPr>
          </a:p>
        </p:txBody>
      </p:sp>
      <p:sp>
        <p:nvSpPr>
          <p:cNvPr id="59" name=""/>
          <p:cNvSpPr txBox="1"/>
          <p:nvPr/>
        </p:nvSpPr>
        <p:spPr>
          <a:xfrm>
            <a:off x="457200" y="836280"/>
            <a:ext cx="8229600" cy="5832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n identifier to indicate if the protocol is an original ICP protocol or a new one with PPSP embedded in.</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d the Opcode by using the unused values to express the PPSP information. When identifier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dicates the cached data should b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unks, these new Opcodes will be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ctivated.</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using PPSP message, th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pecific response message should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arry Chunk IDs in its body instead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f URLs in the ICP format.</a:t>
            </a:r>
            <a:endParaRPr b="0" lang="en-US" sz="2400" spc="-1" strike="noStrike">
              <a:solidFill>
                <a:srgbClr val="000000"/>
              </a:solidFill>
              <a:latin typeface="Calibri"/>
            </a:endParaRPr>
          </a:p>
        </p:txBody>
      </p:sp>
      <p:pic>
        <p:nvPicPr>
          <p:cNvPr id="60" name="Picture 2" descr=""/>
          <p:cNvPicPr/>
          <p:nvPr/>
        </p:nvPicPr>
        <p:blipFill>
          <a:blip r:embed="rId1"/>
          <a:stretch/>
        </p:blipFill>
        <p:spPr>
          <a:xfrm>
            <a:off x="755640" y="1773360"/>
            <a:ext cx="7416720" cy="530280"/>
          </a:xfrm>
          <a:prstGeom prst="rect">
            <a:avLst/>
          </a:prstGeom>
          <a:ln w="0">
            <a:noFill/>
          </a:ln>
        </p:spPr>
      </p:pic>
      <p:sp>
        <p:nvSpPr>
          <p:cNvPr id="61" name="椭圆 4"/>
          <p:cNvSpPr/>
          <p:nvPr/>
        </p:nvSpPr>
        <p:spPr>
          <a:xfrm>
            <a:off x="684360" y="1700280"/>
            <a:ext cx="502920" cy="720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3" descr=""/>
          <p:cNvPicPr/>
          <p:nvPr/>
        </p:nvPicPr>
        <p:blipFill>
          <a:blip r:embed="rId2"/>
          <a:stretch/>
        </p:blipFill>
        <p:spPr>
          <a:xfrm>
            <a:off x="5508720" y="2924280"/>
            <a:ext cx="3311280" cy="374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259920"/>
            <a:ext cx="878544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PSP and ICP Co-existing in caches communication</a:t>
            </a:r>
            <a:endParaRPr b="0" lang="en-US" sz="3600" spc="-1" strike="noStrike">
              <a:solidFill>
                <a:srgbClr val="000000"/>
              </a:solidFill>
              <a:latin typeface="Calibri"/>
            </a:endParaRPr>
          </a:p>
        </p:txBody>
      </p:sp>
      <p:sp>
        <p:nvSpPr>
          <p:cNvPr id="64" name=""/>
          <p:cNvSpPr txBox="1"/>
          <p:nvPr/>
        </p:nvSpPr>
        <p:spPr>
          <a:xfrm>
            <a:off x="457200" y="1196640"/>
            <a:ext cx="8229600" cy="5327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ches may need a functional entity, namely a Data Type Prober, to identify the form of the data (document/chunk).</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cache needs to inform the Data Type Prober the data it caches, when communication occurs, the Data Type Prober will decide the message type according to the type of cached data.</a:t>
            </a:r>
            <a:endParaRPr b="0" lang="en-US" sz="2400" spc="-1" strike="noStrike">
              <a:solidFill>
                <a:srgbClr val="000000"/>
              </a:solidFill>
              <a:latin typeface="Calibri"/>
            </a:endParaRPr>
          </a:p>
        </p:txBody>
      </p:sp>
      <p:pic>
        <p:nvPicPr>
          <p:cNvPr id="65" name="Picture 2" descr=""/>
          <p:cNvPicPr/>
          <p:nvPr/>
        </p:nvPicPr>
        <p:blipFill>
          <a:blip r:embed="rId1"/>
          <a:stretch/>
        </p:blipFill>
        <p:spPr>
          <a:xfrm>
            <a:off x="1116000" y="2206800"/>
            <a:ext cx="6408720" cy="215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02:14:08Z</dcterms:created>
  <dc:creator> 桂俪文</dc:creator>
  <dc:description/>
  <dc:language>en-US</dc:language>
  <cp:lastModifiedBy>dems1cg5</cp:lastModifiedBy>
  <dcterms:modified xsi:type="dcterms:W3CDTF">2011-07-25T10:05:24Z</dcterms:modified>
  <cp:revision>56</cp:revision>
  <dc:subject/>
  <dc:title>eICP—extended Internet Cache Protocol (draft-zhang-ppsp-eicp-00.txt)</dc:title>
</cp:coreProperties>
</file>