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5C4-D4BE-4774-AC33-782E2D67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903-46F0-4C54-B62E-6BCDEFCE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DB0-2453-40A1-811E-F220EE07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41F-E454-4ABA-868C-665605D4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06C-F63F-486C-AF6E-EAA3F044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C2C-C6A0-454C-AC3C-5ADF82E5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236-B52F-44D1-A054-B827ADF6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70F-C670-4B98-979A-F984BB5F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D00-1698-4844-9551-61BE831E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2DF-6F6B-4612-89A5-27C3D6B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513-2EBE-4EC4-98F6-FB97D5A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49E-C57F-4A31-9FC9-FE23BBD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A5710-8E0B-46C1-8F26-2AB6D5B6B3D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5397F-C6AD-44B2-892C-2885E01C0E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5080" y="2130120"/>
            <a:ext cx="8488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gu-ppsp-peer-protocol-0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5080" y="3886200"/>
            <a:ext cx="8488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er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Gu Yingjie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TF-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Quebe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Ju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20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6680"/>
            <a:ext cx="822960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HUNK_AVAILABILITY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CHUNK_AVAILABILITY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receiver will search the interna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tore for the requested data and if found will respond the requesting peer with an HTTP 200 OK SUCCES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age response with a PPSP XML payload SUCCESSFUL, as well as the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ma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0080" y="206280"/>
            <a:ext cx="8496360" cy="59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HUNK_AVAILABILIT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CHUNK_AVAILABILITY&lt;/Respons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CHUNK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Chunk Availability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(Bitm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CHUNK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receiver will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restore the bitmap in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tor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6680"/>
            <a:ext cx="822960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PERTY_QUERY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PROPERTY_QUERY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Reques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 property="***"&gt;&lt;/Sta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sReques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receiver wil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report corresponding property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6680"/>
            <a:ext cx="822960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PERTY_QUERY Respo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PROPERTY_QUERY&lt;/Respons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Reques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tat property="***"&gt;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***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stat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StatsReques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6680"/>
            <a:ext cx="822960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TRANSPORT_NEGOTIATION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TRANSPORT_NEGOTIATION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Trans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TProt type="***"&gt;&lt;/T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.. more protocol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Trans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receive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pick up a protocol that is supported by both requesting peer and itself, and response with this protocol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66680"/>
            <a:ext cx="870444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TRANSPORT_NEGOTIATION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TRANSPORT_NEGOTIATION&lt;/Respons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###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Trans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TProt type="***"&gt;&lt;/T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/TransProt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Need discussion and consensus on text-based or binary-b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Make decision on mandatory transport protocol, which must be supported by all PPSP pe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Leave this as an open issue. If there is significant benefit for integrate data and additional request , shall we integrate request and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Define Bitm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Add security mechanism and QoS guarantee mechanism, both of which may be influenced by corresponding mechanism in Tracker protoc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Focus on infromation exchange and transport protocol negoti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Data Tranportation is not in scope of PPSP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Be consistent with Tracker protocol in encoding, method definition, and Peerlist descrip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Good extensibility to support both PULL-based, and Hybrid mechanis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cure information excha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QoS guaran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52920"/>
            <a:ext cx="822960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Updat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IETF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1408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imit the scope of Peer protocol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Information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Additional Peerli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Chunk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roperty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ransport nego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Peer Connection is regarded as out the scope of Peer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Peers can establish connections either by Peer-ID or Peer IP Ad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Peer protocol assumes that Connection between peers have been already cr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t try to establish a mechanism to resolve NAT Traver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 Tracker and Peer Protocol definition will consider reasonable requirements from NAT Tra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Methods 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34560"/>
            <a:ext cx="82296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D and FIND_CHUN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ers use the FIND or FIND_CHUNK method to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the remote peers to return lists of peers that ca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vide specific content or are in a particular swarm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roperty preferrence can be carried in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UNK_AVAILABI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er use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K_AVAILABILITY message to request the remote peers to return their chunk availability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sired content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(PULL), or peer publishes its chunk availability of a specific content to the peers that have established connetions with it(PUSH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ERTY_QUE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ers use PROPERTY_QUERY message to request remote peer to return their propertie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PORT_NEGOTI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is method allows peers to negotiate a suitable transport protocol that is supported by both pe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ULL-based example fl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06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Requesting Peer                                                    Remote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********* Obtain Peerlist  ***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 Open Connections to Remote Peers  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 Optionally Obtain Additional Peerlist  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      Request / Response FIND/FIND_CHUNK(Peer Protocol) 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Query Peers for Available Data  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     Request/Response Chunk_Availability(Peer Protocol) 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 Optionally Query Peers for Property  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     Request/Response Property_Query (Peer Protocol) 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 Negotiate Transfer Connection and Transfer  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--      Provision/Choice(RTSP HTTP, other)    ----------------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 Data Transfer Sequence (negotiated protocol) ------------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Hybrid-based example fl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22480"/>
            <a:ext cx="913284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Requesting Peer                                                   Remote Pe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********* Obtain Peerlist  ***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 Open Connections to Remote Peers  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 Optionally Obtain Additional Peerlist  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      Request / Response FIND/FIND_CHUNK(Peer Protocol) 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Query Peers for Available Data  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     Request/Response Chunk_Availability(Peer Protocol) 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 Optionally Query Peers for Property  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     Request/Response Property_Query (Peer Protocol) 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 Negotiate Transfer Connection and Transfer  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-- Handshake Sequence (RTSP HTTP, other) ----------------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 Data Transfer Sequence (negotiated protocol) -----------------&gt;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******************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</a:rPr>
              <a:t>Report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Chunk Availability  *************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|&lt;-------------     Report Chunk_Availability(Peer Protocol)---------------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Encoding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84280" y="1509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mmon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PPSPPeerProtocol version="***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***&lt;/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***&lt;/Respons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...Method specific xml informati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** is used to represent data to be inser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1701760" indent="-50787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816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Method&gt;FIND&lt;/Metho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ID&gt;***&lt;/Peer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ChunkID&gt;***&lt;/ChunkI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&lt;Peernum&gt;***&lt;/Peernum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Proc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receiver will search the interna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tore for the requested data and if found will respond the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ing peer with the peerlist with ID and I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es of peers that can provide the specific cont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02680"/>
            <a:ext cx="8229600" cy="66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FIND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Response&gt;FIND&lt;/Response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TransactionID&gt;***&lt;/Transaction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SwarmID&gt;***&lt;/Swarm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ChunkID&gt;***&lt;/ChunkID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Peer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Peer 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&lt;/Peers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&lt;/PPSPPeerProtocol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sent from peer to pe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1:41:13Z</dcterms:created>
  <dc:creator>David Bryan</dc:creator>
  <dc:description/>
  <dc:language>en-US</dc:language>
  <cp:lastModifiedBy>g00107907</cp:lastModifiedBy>
  <cp:lastPrinted>1899-12-30T00:00:00Z</cp:lastPrinted>
  <dcterms:modified xsi:type="dcterms:W3CDTF">2011-03-22T03:00:49Z</dcterms:modified>
  <cp:revision>9</cp:revision>
  <dc:subject/>
  <dc:title>draft-gu-ppsp-tracker-protocol-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0756365</vt:lpwstr>
  </property>
</Properties>
</file>