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C55-82EB-40B6-A16F-61519F29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22B-380F-4CFD-956F-319CAB47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879-6D69-4E43-8B2B-AE2ED1C0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998-0108-400D-A724-EF60378D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C4C-6B6A-4A1E-8FF1-2D42A78B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15E-A61B-49FF-94AC-D3E1978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BDE-51A7-4C15-A0FE-AEA78176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9E8-4100-4E61-93C8-FC61717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2BC-F2E3-4549-8B38-8605BD49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65A-B26F-4014-B8BB-F412F91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60D-B945-4956-9771-D3F56A0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966-0481-46F5-B312-A10F9DD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6FE-6BA1-4EB3-AB75-0FAAD175FF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ielc@orckit.com" TargetMode="External"/><Relationship Id="rId2" Type="http://schemas.openxmlformats.org/officeDocument/2006/relationships/hyperlink" Target="mailto:rafir@orckit.com" TargetMode="External"/><Relationship Id="rId3" Type="http://schemas.openxmlformats.org/officeDocument/2006/relationships/hyperlink" Target="mailto:ma.yuxia@zte.com.cn" TargetMode="External"/><Relationship Id="rId4" Type="http://schemas.openxmlformats.org/officeDocument/2006/relationships/hyperlink" Target="mailto:ms-daikoku@kddi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ft-cohn-mpls-tp-pw-protection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81          Jul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Coh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ielc@orcki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 Ram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afir@orcki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Yuxia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.yuxia@zte.com.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hiro Daikoku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s-daikoku@kdd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S-TP transport path recovery requirements (RFC 5654, section 2.5)  apply to PW as well as to 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n an MPLS-TP environment, a transport path  corresponds to an LSP or a P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S-TP Survivability Framework (draft-ietf-mpls-tp-survive-fwk-06) specifies that the “functional architecture…applies to both LSP and PW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PLS WG linear protection draft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mpls-tp-linear-protection-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oes not explicitly describe mechanisms for PW protection in MPLS-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 linear protection is required to protect MS-PW in the event of S-PE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against link failure events can be more efficiently provided by LSP linear protection (working and protection LSP shown in blue and red 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5832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aft is an applicability statement that applies the LSP linear protection mechanism in draft-ietf-mpls-tp-linear-protection-07 to MPLS-TP MS-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o OAM indications apply as referring to MS-PW OAM, provided by P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o LER apply as referring to T-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o server layer apply to the LSPs over which MS-PW is c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C protocol PDUs are encapsulated in PW associated channel (RFC 43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MPLS-TP PW protection requirements with full reuse of LSP linear protection concepts and mechanism from draft-ietf-mpls-tp-linear-protection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sequent reuse of existing LSP linear protectio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other PW redundancy proposals (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pwe3-redundancy-bit-04), this draft meets MPLS-TP requirements (RFC 5654, draft-ietf-mpls-tp-survive-fwk)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1:1 and 1+1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of coexisting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istinguish administrative recovery actions from other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upport of revertive/nonrever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upport of administrative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of fast retransmission of PSC messages (faster recovery in message loss scen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phase protocol (faster reco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hold-off timer (to avoid race cond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input into next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working group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 Comm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1:19:14Z</dcterms:created>
  <dc:creator>Corrigent</dc:creator>
  <dc:description/>
  <dc:language>en-US</dc:language>
  <cp:lastModifiedBy>Daniel Cohn</cp:lastModifiedBy>
  <dcterms:modified xsi:type="dcterms:W3CDTF">2011-07-17T16:57:50Z</dcterms:modified>
  <cp:revision>32</cp:revision>
  <dc:subject/>
  <dc:title>draft-rkhd-mpls-tp-sd-00</dc:title>
</cp:coreProperties>
</file>