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603-1F0A-42F7-AA66-656B533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44A-6B05-4646-9B2C-4E1568B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C7A-99E0-40BA-9D0D-1E176F9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7CE-98D2-4BB0-81DA-D4EC6BBC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DEE-6013-406F-B288-00490651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6DF-C62A-4C39-A66B-F6D301B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BDD-62C3-46EB-8FF0-17255B6A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102-0E41-43BA-8A22-96991B1E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6FD-7D17-47C2-8FE3-72B3871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C6D-BA45-470F-A15E-9E742906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95F-09AD-42FB-BD44-797CDCE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EAC-8D5E-4BB2-B185-AC153AF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09F-7D8E-47B7-B182-F8DC8CAD92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ielc@orckit.com" TargetMode="External"/><Relationship Id="rId2" Type="http://schemas.openxmlformats.org/officeDocument/2006/relationships/hyperlink" Target="mailto:rafir@orckit.com" TargetMode="External"/><Relationship Id="rId3" Type="http://schemas.openxmlformats.org/officeDocument/2006/relationships/hyperlink" Target="mailto:ma.yuxia@zte.com.cn" TargetMode="External"/><Relationship Id="rId4" Type="http://schemas.openxmlformats.org/officeDocument/2006/relationships/hyperlink" Target="mailto:ms-daikoku@kddi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-cohn-mpls-tp-pw-protection-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81          Jul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Coh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ielc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 Ra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fir@orcki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Yuxi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.yuxia@zte.com.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hiro Daikoku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s-daikoku@kdd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S-TP transport path recovery requirements (RFC 5654, section 2.5)  apply to PW as well as to 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n an MPLS-TP environment, a transport path  corresponds to an LSP or a P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S-TP Survivability Framework (draft-ietf-mpls-tp-survive-fwk-06) specifies that the “functional architecture…applies to both LSP and PW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PLS WG linear protection draft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mpls-tp-linear-protection-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es not explicitly describe mechanisms for PW protection in MPLS-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 linear protection is required to protect MS-PW in the event of S-PE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against link failure events can be more efficiently provided by LSP linear protection (working and protection LSP shown in blue and red 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5832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aft is an applicability statement that applies the LSP linear protection mechanism in draft-ietf-mpls-tp-linear-protection-07 to MPLS-TP MS-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OAM indications apply as referring to MS-PW OAM, provided by P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LER apply as referring to T-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o server layer apply to the LSPs over which MS-PW is c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C protocol PDUs are encapsulated in PW associated channel (RFC 43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MPLS-TP PW protection requirements with full reuse of LSP linear protection concepts and mechanism from draft-ietf-mpls-tp-linear-protection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sequent reuse of existing LSP linear protectio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other PW redundancy proposals (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ietf-pwe3-redundancy-bit-04), this draft meets MPLS-TP requirements (RFC 5654, draft-ietf-mpls-tp-survive-fwk)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1:1 and 1+1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of coexisting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istinguish administrative recovery actions from other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of revertive/nonrever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of administrative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of fast retransmission of PSC messages (faster recovery in message loss scen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phase protocol (faster reco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old-off timer (to avoid race con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input into next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working group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 Comm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1:19:14Z</dcterms:created>
  <dc:creator>Corrigent</dc:creator>
  <dc:description/>
  <dc:language>en-US</dc:language>
  <cp:lastModifiedBy>Daniel Cohn</cp:lastModifiedBy>
  <dcterms:modified xsi:type="dcterms:W3CDTF">2011-07-17T16:57:50Z</dcterms:modified>
  <cp:revision>32</cp:revision>
  <dc:subject/>
  <dc:title>draft-rkhd-mpls-tp-sd-00</dc:title>
</cp:coreProperties>
</file>