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584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40ABE43-656B-4366-865E-2EA0F1E7F7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59A3FB7-9DE9-4413-926E-67C2D6D415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CB5FA9F-03DB-4849-A740-AF4E413DAB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ext Box 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1D1DA50-0D91-4525-994B-9815E8146F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0DBDDE0-CF1F-4EAC-8E17-3C95B8BB5A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32CE4B9-B46E-4822-AF37-2EBB944996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000086E-1D80-457E-9D9C-18248BB977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CF83293-91D9-4980-83CA-7505C654E7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D9948D0-0ECB-4C82-AC0C-75E0AD0784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C75DE4D-38D8-45A5-BECF-7E797ED149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6AEAD-0B0C-41CD-9DC4-A8EFAF920B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EC982-B1D5-4571-A023-91E55A2401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2B8A7-E2FC-42FE-BA98-0FBE9743BD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27571-F0C0-410E-9590-10F9A743B6A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3B9D2-791A-40D8-A61A-0B63BF33AF6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D73DD-C46A-4BD1-B59B-A8496DDA30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4C0B5-A959-4EE1-A61C-79B4354D6E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012B9-A302-4D05-9866-155D24DFC1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6368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40D81-2772-4813-B5D9-9A1B30C01F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A97F6-4695-41CD-B316-2B761B49EB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1820F-783D-43A5-8957-5591EB1AE4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B31E4-867E-4E07-B2E8-C82FECD7DE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685800" y="6248520"/>
            <a:ext cx="19051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8520"/>
            <a:ext cx="2895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36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89295F7-FED1-487D-B126-8BAFB501F436}" type="slidenum">
              <a:rPr b="0" lang="en-GB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"/>
          <p:cNvSpPr/>
          <p:nvPr/>
        </p:nvSpPr>
        <p:spPr>
          <a:xfrm>
            <a:off x="108000" y="609480"/>
            <a:ext cx="9036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WE3 Agenda – Tues 26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ly. 15:20-18:2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2"/>
          <p:cNvSpPr/>
          <p:nvPr/>
        </p:nvSpPr>
        <p:spPr>
          <a:xfrm>
            <a:off x="0" y="1700280"/>
            <a:ext cx="9144000" cy="53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11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 min - Agenda bash, WG Agenda and Status - Andy Malis and Matthew Bocc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11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 min -  A Unified Control Channel for Pseudowires - Tom Nadea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11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 min - Targeted LDP Hello Reduction - Tom Nadeau/Giles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11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 min - CP extension for the MSP application - Hongjie Ha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11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5 min - PW Endpoint Fast Failure Protection - Yimin She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11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 min - Pseudowire Communities - Pranjal Kumar Dut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11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 min - Definition of P2MP PW TLV for LSP-Ping Mechanisms - Sami Boutr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11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 min - LDP extensions for Explicit Pseudowire to transport LSP mapping – Ping Pa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11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 min - MPLS-TP Linear Protection Applicability to MS-PW - Daniel Cohn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11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 min - LDP Extensions for Proactive OAM Configuration of Dynamic MPLS-TP PW - Fei Zhang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11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11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10 min - MPLS LSP PW status refresh reduction for Static Pseudowires - Luca Martin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11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"/>
          <p:cNvSpPr/>
          <p:nvPr/>
        </p:nvSpPr>
        <p:spPr>
          <a:xfrm>
            <a:off x="685800" y="2201760"/>
            <a:ext cx="77724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WE3 WG Statu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ETF-8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dy Malis </a:t>
            </a:r>
            <a:r>
              <a:rPr b="0" lang="en-GB" sz="1800" spc="-1" strike="noStrike">
                <a:solidFill>
                  <a:srgbClr val="009999"/>
                </a:solidFill>
                <a:latin typeface="Arial"/>
              </a:rPr>
              <a:t>andrew.g.malis@verizon.com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tthew Bocci </a:t>
            </a:r>
            <a:r>
              <a:rPr b="0" lang="en-GB" sz="1800" spc="-1" strike="noStrike">
                <a:solidFill>
                  <a:srgbClr val="009999"/>
                </a:solidFill>
                <a:latin typeface="Arial"/>
              </a:rPr>
              <a:t>Matthew.Bocci@alcatel-lucent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cretary: David Sinicrope David.Sinicrope@ericsson.co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85690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oals and Milest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84000" y="1483920"/>
            <a:ext cx="4174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2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ne     - PWE3 WG started, organize editing tea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ne     - Hold interim meeting, including discussion of priority of service-specific documents and consider pruning some deliver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ne     - Accept drafts of service-specific documents as WG i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ne     - PW Requirements Document Last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ne     - TDM Circuit Documents Last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ne     - ATM Documents Last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ne     - Ethernet Documents Last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ne     - Fragmentation L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ne     - TDM Requirements L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ne     - SONET Documents Last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ne     - TDM Documents Last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ne     - Frame Relay Documents Last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ne     - FCS retention Last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ne     - Multi-Segment PW Requirements L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ne     - VCCV L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ne     - PWE3 Services MIBs L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ne     - PPP/HDLC PW L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ne     - Wildcard FEC L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ne     - TDM Signaling L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 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Content Placeholder 2"/>
          <p:cNvSpPr/>
          <p:nvPr/>
        </p:nvSpPr>
        <p:spPr>
          <a:xfrm>
            <a:off x="5003640" y="1476360"/>
            <a:ext cx="3889440" cy="41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2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ne- Multi-Segment Architecture L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ne     - Basic Pseudowire MIBs L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ne - PW OAM Mapping L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ne - Multi-Segment PW L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ne - PW Protection and Restoration Requirements L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ne - PW Protection and Restoration Architectu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ne - Generic Associated Channel Header L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ne - PW Protection and Restoration L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ne - Fiber Channel Encap L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ne - Multipath PW L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June 2011 - Packet PW Requirements / solu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June 2011 - P2MP Requirements L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June 2011 – PW Status signalling in static/MPLS-T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July 2011 - Dynamic MS PW L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pt 2011 - Enhanced PW O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pt 2011 – Signaling extensions for MPLS-TP O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pt 2011 - Multisegment PW MIB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pt 2011 - Security Considerations L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pt 2011 – Congestion Consider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pt 2011 - P2MP PW Signaling (rootinitiated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c 2011 – P2MP PW Signaling (leaf initiated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1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ocument Status 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Text Box 2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RFCs since last IETF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FC6240 –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EP MI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ft-ietf-pwe3-oam-msg-ma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 Auth4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raft-ietf-pwe3-fc-enca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 Auth48 (held in rfc-ed queue with miss-ref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1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ocument Status 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2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ft-ietf-pwe3-p2mp-pw-requirement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nt though WG LC, but needed editorial work before progressing to IESG. Editors have now uploaded new v04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waiting shepherd’s review (And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raft-ietf-pwe3-mpls-eth-oam-iw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orking group last call prior to last IET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airs appointed expert reviewers and document shepherd (Matthe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uthors to address comments before progres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1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ocument Status 3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2"/>
          <p:cNvSpPr/>
          <p:nvPr/>
        </p:nvSpPr>
        <p:spPr>
          <a:xfrm>
            <a:off x="685800" y="1773360"/>
            <a:ext cx="7772400" cy="48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ft-ietf-pwe3-dynamic-ms-p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posal on list to split out explicit route TLV and create new WG draf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ase draft ready for LC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ft-ietf-pwe3-ldp-aii-reach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iting for Dynamic MS-P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ft-ietf-pwe3-fat-p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ith IESG (awaiting go-ahead from Adria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1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ocument Status 4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 Box 2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11200"/>
                <a:tab algn="l" pos="1425600"/>
                <a:tab algn="l" pos="2340000"/>
                <a:tab algn="l" pos="3254400"/>
                <a:tab algn="l" pos="4168800"/>
                <a:tab algn="l" pos="5083200"/>
                <a:tab algn="l" pos="5997600"/>
                <a:tab algn="l" pos="6912000"/>
                <a:tab algn="l" pos="7826400"/>
                <a:tab algn="l" pos="8740800"/>
                <a:tab algn="l" pos="965520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W redundancy draft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11200"/>
                <a:tab algn="l" pos="1425600"/>
                <a:tab algn="l" pos="2340000"/>
                <a:tab algn="l" pos="3254400"/>
                <a:tab algn="l" pos="4168800"/>
                <a:tab algn="l" pos="5083200"/>
                <a:tab algn="l" pos="5997600"/>
                <a:tab algn="l" pos="6912000"/>
                <a:tab algn="l" pos="7826400"/>
                <a:tab algn="l" pos="8740800"/>
                <a:tab algn="l" pos="965520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raft-ietf-pwe3-redundanc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11200"/>
                <a:tab algn="l" pos="1425600"/>
                <a:tab algn="l" pos="2340000"/>
                <a:tab algn="l" pos="3254400"/>
                <a:tab algn="l" pos="4168800"/>
                <a:tab algn="l" pos="5083200"/>
                <a:tab algn="l" pos="5997600"/>
                <a:tab algn="l" pos="6912000"/>
                <a:tab algn="l" pos="7826400"/>
                <a:tab algn="l" pos="8740800"/>
                <a:tab algn="l" pos="965520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raft-ietf-pwe3-redundancy-b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511200"/>
                <a:tab algn="l" pos="1425600"/>
                <a:tab algn="l" pos="2340000"/>
                <a:tab algn="l" pos="3254400"/>
                <a:tab algn="l" pos="4168800"/>
                <a:tab algn="l" pos="5083200"/>
                <a:tab algn="l" pos="5997600"/>
                <a:tab algn="l" pos="6912000"/>
                <a:tab algn="l" pos="7826400"/>
                <a:tab algn="l" pos="8740800"/>
                <a:tab algn="l" pos="965520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leted last call last ye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511200"/>
                <a:tab algn="l" pos="1425600"/>
                <a:tab algn="l" pos="2340000"/>
                <a:tab algn="l" pos="3254400"/>
                <a:tab algn="l" pos="4168800"/>
                <a:tab algn="l" pos="5083200"/>
                <a:tab algn="l" pos="5997600"/>
                <a:tab algn="l" pos="6912000"/>
                <a:tab algn="l" pos="7826400"/>
                <a:tab algn="l" pos="8740800"/>
                <a:tab algn="l" pos="965520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w versions now submitted: many chang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511200"/>
                <a:tab algn="l" pos="1425600"/>
                <a:tab algn="l" pos="2340000"/>
                <a:tab algn="l" pos="3254400"/>
                <a:tab algn="l" pos="4168800"/>
                <a:tab algn="l" pos="5083200"/>
                <a:tab algn="l" pos="5997600"/>
                <a:tab algn="l" pos="6912000"/>
                <a:tab algn="l" pos="7826400"/>
                <a:tab algn="l" pos="8740800"/>
                <a:tab algn="l" pos="965520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cond last call before progress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11200"/>
                <a:tab algn="l" pos="1425600"/>
                <a:tab algn="l" pos="2340000"/>
                <a:tab algn="l" pos="3254400"/>
                <a:tab algn="l" pos="4168800"/>
                <a:tab algn="l" pos="5083200"/>
                <a:tab algn="l" pos="5997600"/>
                <a:tab algn="l" pos="6912000"/>
                <a:tab algn="l" pos="7826400"/>
                <a:tab algn="l" pos="8740800"/>
                <a:tab algn="l" pos="965520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raft-ietf-pwe3-mpls-tp-gal-in-p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11200"/>
                <a:tab algn="l" pos="1425600"/>
                <a:tab algn="l" pos="2340000"/>
                <a:tab algn="l" pos="3254400"/>
                <a:tab algn="l" pos="4168800"/>
                <a:tab algn="l" pos="5083200"/>
                <a:tab algn="l" pos="5997600"/>
                <a:tab algn="l" pos="6912000"/>
                <a:tab algn="l" pos="7826400"/>
                <a:tab algn="l" pos="8740800"/>
                <a:tab algn="l" pos="965520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st WG last c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11200"/>
                <a:tab algn="l" pos="1425600"/>
                <a:tab algn="l" pos="2340000"/>
                <a:tab algn="l" pos="3254400"/>
                <a:tab algn="l" pos="4168800"/>
                <a:tab algn="l" pos="5083200"/>
                <a:tab algn="l" pos="5997600"/>
                <a:tab algn="l" pos="6912000"/>
                <a:tab algn="l" pos="7826400"/>
                <a:tab algn="l" pos="8740800"/>
                <a:tab algn="l" pos="965520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me comments on list on relationship to new VCCV mode and ECM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11200"/>
                <a:tab algn="l" pos="1425600"/>
                <a:tab algn="l" pos="2340000"/>
                <a:tab algn="l" pos="3254400"/>
                <a:tab algn="l" pos="4168800"/>
                <a:tab algn="l" pos="5083200"/>
                <a:tab algn="l" pos="5997600"/>
                <a:tab algn="l" pos="6912000"/>
                <a:tab algn="l" pos="7826400"/>
                <a:tab algn="l" pos="8740800"/>
                <a:tab algn="l" pos="965520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uthors to address comments before draft can progr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11200"/>
                <a:tab algn="l" pos="1425600"/>
                <a:tab algn="l" pos="2340000"/>
                <a:tab algn="l" pos="3254400"/>
                <a:tab algn="l" pos="4168800"/>
                <a:tab algn="l" pos="5083200"/>
                <a:tab algn="l" pos="5997600"/>
                <a:tab algn="l" pos="6912000"/>
                <a:tab algn="l" pos="7826400"/>
                <a:tab algn="l" pos="8740800"/>
                <a:tab algn="l" pos="965520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ocument Status 5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511200"/>
                <a:tab algn="l" pos="1425600"/>
                <a:tab algn="l" pos="2340000"/>
                <a:tab algn="l" pos="3254400"/>
                <a:tab algn="l" pos="4168800"/>
                <a:tab algn="l" pos="5083200"/>
                <a:tab algn="l" pos="5997600"/>
                <a:tab algn="l" pos="6912000"/>
                <a:tab algn="l" pos="7826400"/>
                <a:tab algn="l" pos="8740800"/>
                <a:tab algn="l" pos="965520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raft-ietf-pwe3-packet-p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511200"/>
                <a:tab algn="l" pos="1425600"/>
                <a:tab algn="l" pos="2340000"/>
                <a:tab algn="l" pos="3254400"/>
                <a:tab algn="l" pos="4168800"/>
                <a:tab algn="l" pos="5083200"/>
                <a:tab algn="l" pos="5997600"/>
                <a:tab algn="l" pos="6912000"/>
                <a:tab algn="l" pos="7826400"/>
                <a:tab algn="l" pos="8740800"/>
                <a:tab algn="l" pos="965520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ady for WG last call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511200"/>
                <a:tab algn="l" pos="1425600"/>
                <a:tab algn="l" pos="2340000"/>
                <a:tab algn="l" pos="3254400"/>
                <a:tab algn="l" pos="4168800"/>
                <a:tab algn="l" pos="5083200"/>
                <a:tab algn="l" pos="5997600"/>
                <a:tab algn="l" pos="6912000"/>
                <a:tab algn="l" pos="7826400"/>
                <a:tab algn="l" pos="8740800"/>
                <a:tab algn="l" pos="965520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raft-ietf-pwe3-p2mp-p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511200"/>
                <a:tab algn="l" pos="1425600"/>
                <a:tab algn="l" pos="2340000"/>
                <a:tab algn="l" pos="3254400"/>
                <a:tab algn="l" pos="4168800"/>
                <a:tab algn="l" pos="5083200"/>
                <a:tab algn="l" pos="5997600"/>
                <a:tab algn="l" pos="6912000"/>
                <a:tab algn="l" pos="7826400"/>
                <a:tab algn="l" pos="8740800"/>
                <a:tab algn="l" pos="965520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n-go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511200"/>
                <a:tab algn="l" pos="1425600"/>
                <a:tab algn="l" pos="2340000"/>
                <a:tab algn="l" pos="3254400"/>
                <a:tab algn="l" pos="4168800"/>
                <a:tab algn="l" pos="5083200"/>
                <a:tab algn="l" pos="5997600"/>
                <a:tab algn="l" pos="6912000"/>
                <a:tab algn="l" pos="7826400"/>
                <a:tab algn="l" pos="8740800"/>
                <a:tab algn="l" pos="965520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raft-ietf-pwe3-static-pw-stat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511200"/>
                <a:tab algn="l" pos="1425600"/>
                <a:tab algn="l" pos="2340000"/>
                <a:tab algn="l" pos="3254400"/>
                <a:tab algn="l" pos="4168800"/>
                <a:tab algn="l" pos="5083200"/>
                <a:tab algn="l" pos="5997600"/>
                <a:tab algn="l" pos="6912000"/>
                <a:tab algn="l" pos="7826400"/>
                <a:tab algn="l" pos="8740800"/>
                <a:tab algn="l" pos="965520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dated following last ca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511200"/>
                <a:tab algn="l" pos="1425600"/>
                <a:tab algn="l" pos="2340000"/>
                <a:tab algn="l" pos="3254400"/>
                <a:tab algn="l" pos="4168800"/>
                <a:tab algn="l" pos="5083200"/>
                <a:tab algn="l" pos="5997600"/>
                <a:tab algn="l" pos="6912000"/>
                <a:tab algn="l" pos="7826400"/>
                <a:tab algn="l" pos="8740800"/>
                <a:tab algn="l" pos="965520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-PE bypass mode limited applic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511200"/>
                <a:tab algn="l" pos="1425600"/>
                <a:tab algn="l" pos="2340000"/>
                <a:tab algn="l" pos="3254400"/>
                <a:tab algn="l" pos="4168800"/>
                <a:tab algn="l" pos="5083200"/>
                <a:tab algn="l" pos="5997600"/>
                <a:tab algn="l" pos="6912000"/>
                <a:tab algn="l" pos="7826400"/>
                <a:tab algn="l" pos="8740800"/>
                <a:tab algn="l" pos="965520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ith Stewa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511200"/>
                <a:tab algn="l" pos="1425600"/>
                <a:tab algn="l" pos="2340000"/>
                <a:tab algn="l" pos="3254400"/>
                <a:tab algn="l" pos="4168800"/>
                <a:tab algn="l" pos="5083200"/>
                <a:tab algn="l" pos="5997600"/>
                <a:tab algn="l" pos="6912000"/>
                <a:tab algn="l" pos="7826400"/>
                <a:tab algn="l" pos="8740800"/>
                <a:tab algn="l" pos="965520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raft-ietf-pwe3-cbit-negoti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511200"/>
                <a:tab algn="l" pos="1425600"/>
                <a:tab algn="l" pos="2340000"/>
                <a:tab algn="l" pos="3254400"/>
                <a:tab algn="l" pos="4168800"/>
                <a:tab algn="l" pos="5083200"/>
                <a:tab algn="l" pos="5997600"/>
                <a:tab algn="l" pos="6912000"/>
                <a:tab algn="l" pos="7826400"/>
                <a:tab algn="l" pos="8740800"/>
                <a:tab algn="l" pos="965520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n-go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11200"/>
                <a:tab algn="l" pos="1425600"/>
                <a:tab algn="l" pos="2340000"/>
                <a:tab algn="l" pos="3254400"/>
                <a:tab algn="l" pos="4168800"/>
                <a:tab algn="l" pos="5083200"/>
                <a:tab algn="l" pos="5997600"/>
                <a:tab algn="l" pos="6912000"/>
                <a:tab algn="l" pos="7826400"/>
                <a:tab algn="l" pos="8740800"/>
                <a:tab algn="l" pos="965520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511200"/>
                <a:tab algn="l" pos="1425600"/>
                <a:tab algn="l" pos="2340000"/>
                <a:tab algn="l" pos="3254400"/>
                <a:tab algn="l" pos="4168800"/>
                <a:tab algn="l" pos="5083200"/>
                <a:tab algn="l" pos="5997600"/>
                <a:tab algn="l" pos="6912000"/>
                <a:tab algn="l" pos="7826400"/>
                <a:tab algn="l" pos="8740800"/>
                <a:tab algn="l" pos="965520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cument Status 6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511200"/>
                <a:tab algn="l" pos="1425600"/>
                <a:tab algn="l" pos="2340000"/>
                <a:tab algn="l" pos="3254400"/>
                <a:tab algn="l" pos="4168800"/>
                <a:tab algn="l" pos="5083200"/>
                <a:tab algn="l" pos="5997600"/>
                <a:tab algn="l" pos="6912000"/>
                <a:tab algn="l" pos="7826400"/>
                <a:tab algn="l" pos="8740800"/>
                <a:tab algn="l" pos="965520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raft-ietf-pwe3-icc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511200"/>
                <a:tab algn="l" pos="1425600"/>
                <a:tab algn="l" pos="2340000"/>
                <a:tab algn="l" pos="3254400"/>
                <a:tab algn="l" pos="4168800"/>
                <a:tab algn="l" pos="5083200"/>
                <a:tab algn="l" pos="5997600"/>
                <a:tab algn="l" pos="6912000"/>
                <a:tab algn="l" pos="7826400"/>
                <a:tab algn="l" pos="8740800"/>
                <a:tab algn="l" pos="965520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n-go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511200"/>
                <a:tab algn="l" pos="1425600"/>
                <a:tab algn="l" pos="2340000"/>
                <a:tab algn="l" pos="3254400"/>
                <a:tab algn="l" pos="4168800"/>
                <a:tab algn="l" pos="5083200"/>
                <a:tab algn="l" pos="5997600"/>
                <a:tab algn="l" pos="6912000"/>
                <a:tab algn="l" pos="7826400"/>
                <a:tab algn="l" pos="8740800"/>
                <a:tab algn="l" pos="965520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scussion on list regarding applicability to SONET/SDH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11200"/>
                <a:tab algn="l" pos="1425600"/>
                <a:tab algn="l" pos="2340000"/>
                <a:tab algn="l" pos="3254400"/>
                <a:tab algn="l" pos="4168800"/>
                <a:tab algn="l" pos="5083200"/>
                <a:tab algn="l" pos="5997600"/>
                <a:tab algn="l" pos="6912000"/>
                <a:tab algn="l" pos="7826400"/>
                <a:tab algn="l" pos="8740800"/>
                <a:tab algn="l" pos="965520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w working group draft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11200"/>
                <a:tab algn="l" pos="1425600"/>
                <a:tab algn="l" pos="2340000"/>
                <a:tab algn="l" pos="3254400"/>
                <a:tab algn="l" pos="4168800"/>
                <a:tab algn="l" pos="5083200"/>
                <a:tab algn="l" pos="5997600"/>
                <a:tab algn="l" pos="6912000"/>
                <a:tab algn="l" pos="7826400"/>
                <a:tab algn="l" pos="8740800"/>
                <a:tab algn="l" pos="965520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raft-ietf-pwe3-mpls-tp-ms-p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11200"/>
                <a:tab algn="l" pos="1425600"/>
                <a:tab algn="l" pos="2340000"/>
                <a:tab algn="l" pos="3254400"/>
                <a:tab algn="l" pos="4168800"/>
                <a:tab algn="l" pos="5083200"/>
                <a:tab algn="l" pos="5997600"/>
                <a:tab algn="l" pos="6912000"/>
                <a:tab algn="l" pos="7826400"/>
                <a:tab algn="l" pos="8740800"/>
                <a:tab algn="l" pos="965520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raft-ietf-pwe3-pw-typed-wc-fe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11200"/>
                <a:tab algn="l" pos="1425600"/>
                <a:tab algn="l" pos="2340000"/>
                <a:tab algn="l" pos="3254400"/>
                <a:tab algn="l" pos="4168800"/>
                <a:tab algn="l" pos="5083200"/>
                <a:tab algn="l" pos="5997600"/>
                <a:tab algn="l" pos="6912000"/>
                <a:tab algn="l" pos="7826400"/>
                <a:tab algn="l" pos="8740800"/>
                <a:tab algn="l" pos="965520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11200"/>
                <a:tab algn="l" pos="1425600"/>
                <a:tab algn="l" pos="2340000"/>
                <a:tab algn="l" pos="3254400"/>
                <a:tab algn="l" pos="4168800"/>
                <a:tab algn="l" pos="5083200"/>
                <a:tab algn="l" pos="5997600"/>
                <a:tab algn="l" pos="6912000"/>
                <a:tab algn="l" pos="7826400"/>
                <a:tab algn="l" pos="8740800"/>
                <a:tab algn="l" pos="965520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11200"/>
                <a:tab algn="l" pos="1425600"/>
                <a:tab algn="l" pos="2340000"/>
                <a:tab algn="l" pos="3254400"/>
                <a:tab algn="l" pos="4168800"/>
                <a:tab algn="l" pos="5083200"/>
                <a:tab algn="l" pos="5997600"/>
                <a:tab algn="l" pos="6912000"/>
                <a:tab algn="l" pos="7826400"/>
                <a:tab algn="l" pos="8740800"/>
                <a:tab algn="l" pos="965520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11200"/>
                <a:tab algn="l" pos="1425600"/>
                <a:tab algn="l" pos="2340000"/>
                <a:tab algn="l" pos="3254400"/>
                <a:tab algn="l" pos="4168800"/>
                <a:tab algn="l" pos="5083200"/>
                <a:tab algn="l" pos="5997600"/>
                <a:tab algn="l" pos="6912000"/>
                <a:tab algn="l" pos="7826400"/>
                <a:tab algn="l" pos="8740800"/>
                <a:tab algn="l" pos="965520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2T14:31:09Z</dcterms:created>
  <dc:creator>Danny McPherson</dc:creator>
  <dc:description/>
  <dc:language>en-US</dc:language>
  <cp:lastModifiedBy>David A Sinicrope  </cp:lastModifiedBy>
  <dcterms:modified xsi:type="dcterms:W3CDTF">2011-07-26T19:16:59Z</dcterms:modified>
  <cp:revision>127</cp:revision>
  <dc:subject/>
  <dc:title>PWE3 WG Document Status</dc:title>
</cp:coreProperties>
</file>