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2F87E6-3971-4202-A6A2-581F32CF0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F14F89-65B8-48F6-9383-578420F2C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CBC443-3947-4FD3-82A8-DE26E0D38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5EE24F-B325-4358-A320-C6E391753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9E1B4B-4F83-4F1D-ACA4-AE5F9053B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987013-B0B0-4B72-9856-BF33CFD12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0FDAEA-63DD-41FA-AB06-F3119D5C5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880195-FCAE-48D8-9E2E-62CBFB32A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869824-BF09-44A9-BE79-73FA695AA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B905AA-CFEB-406D-8E05-990ED3E8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6F4A-B2D1-4E6F-8AA1-3FEEF9096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633F-724E-4FC1-B56C-07B1C810F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F445-48F8-45A2-80B2-E25A914DC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8745-D213-42DA-A9AA-825CBA4A4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B504-BD04-435A-A278-BFE5BEC92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59C3-730E-4D0F-9192-F04A0F2C3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1CA1-BC5E-4752-9E89-216BC63C1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F981-E370-4BDE-94D4-4B07C35DA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A57C-4145-4C96-BF3B-43E77BCD2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9F4A-E94A-477B-823D-723B142B7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8B40-A493-4978-B1A4-CB949206C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E5E8-94C8-465C-AAD2-666903992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F1AFDB-D97F-4162-8977-3047408B0BE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08000" y="6094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WE3 Agenda – Tues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. 15:20-18: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1700280"/>
            <a:ext cx="91440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min - Agenda bash, WG Agenda and Status - Andy Malis and Matthew Boc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 A Unified Control Channel for Pseudowires - Tom Nade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Targeted LDP Hello Reduction - Tom Nadeau/Gil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CP extension for the MSP application - Hongjie Ha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min - PW Endpoint Fast Failure Protection - Yimin S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Pseudowire Communities - Pranjal Kumar Dut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Definition of P2MP PW TLV for LSP-Ping Mechanisms - Sami Bout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LDP extensions for Explicit Pseudowire to transport LSP mapping – Ping P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MPLS-TP Linear Protection Applicability to MS-PW - Daniel Coh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in - LDP Extensions for Proactive OAM Configuration of Dynamic MPLS-TP PW - Fei Zha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10 min - MPLS LSP PW status refresh reduction for Static Pseudowires - Luca Marti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85800" y="220176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WE3 WG Stat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TF-8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y Malis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ndrew.g.malis@verizon.co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thew Bocci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atthew.Bocci@alcatel-lucen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retary: David Sinicrope David.Sinicrope@ericsson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and Mile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000" y="1483920"/>
            <a:ext cx="4174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PWE3 WG started, organize editing te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Hold interim meeting, including discussion of priority of service-specific documents and consider pruning some delive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Accept drafts of service-specific documents as WG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PW Requirements Document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TDM Circuit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ATM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Ethernet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Fragmentation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TDM Requirements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SONET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TDM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Frame Relay Documents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FCS retention Las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Multi-Segment PW Requirements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VCCV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PWE3 Services MIBs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PPP/HDLC PW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Wildcard FEC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TDM Signaling 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5003640" y="1476360"/>
            <a:ext cx="38894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- Multi-Segment Architecture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     - Basic Pseudowire MIBs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PW OAM Mapping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Multi-Segment PW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PW Protection and Restoration Requirements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PW Protection and Restoration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Generic Associated Channel Header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PW Protection and Restoration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Fiber Channel Encap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- Multipath PW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ne 2011 - Packet PW Requirements /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ne 2011 - P2MP Requirements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ne 2011 – PW Status signalling in static/MPLS-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ly 2011 - Dynamic MS PW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- Enhanced PW O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– Signaling extensions for MPLS-TP O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- Multisegment PW MI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- Security Considerations L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– Congestion Consid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t 2011 - P2MP PW Signaling (rootinitiat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 2011 – P2MP PW Signaling (leaf initiat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FCs since last IET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C6240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P MI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pwe3-oam-msg-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uth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pwe3-fc-en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uth48 (held in rfc-ed queue with miss-r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pwe3-p2mp-pw-requir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t though WG LC, but needed editorial work before progressing to IESG. Editors have now uploaded new v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waiting shepherd’s review (And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pwe3-mpls-eth-oam-iw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group last call prior to last IET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s appointed expert reviewers and document shepherd (Matthe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s to address comments before prog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85800" y="1773360"/>
            <a:ext cx="77724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pwe3-dynamic-ms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 on list to split out explicit route TLV and create new WG 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 draft ready for L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pwe3-ldp-aii-reach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iting for Dynamic MS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pwe3-fat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IESG (awaiting go-ahead from Adri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W redundancy draf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redunda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redundancy-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d last call last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versions now submitted: many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ast call before progr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mpls-tp-gal-in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t WG last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comments on list on relationship to new VCCV mode and EC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s to address comments before draft can prog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cument Status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packet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y for WG last ca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p2mp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static-pw-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d following last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-PE bypass mode limited applic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Stew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cbit-nego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Status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ic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on list regarding applicability to SONET/SD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working group draf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mpls-tp-ms-p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pwe3-pw-typed-wc-f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31:09Z</dcterms:created>
  <dc:creator>Danny McPherson</dc:creator>
  <dc:description/>
  <dc:language>en-US</dc:language>
  <cp:lastModifiedBy>David A Sinicrope  </cp:lastModifiedBy>
  <dcterms:modified xsi:type="dcterms:W3CDTF">2011-07-26T19:16:59Z</dcterms:modified>
  <cp:revision>127</cp:revision>
  <dc:subject/>
  <dc:title>PWE3 WG Document Status</dc:title>
</cp:coreProperties>
</file>