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F01-2C2A-414C-8B3C-E874A1F3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745-9339-49DF-85FC-1DB0A5A5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D47-BC5E-45F4-A844-A20620FC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039-6709-437A-8664-8C03F85A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80B-8EC5-405D-8B5B-FCC3DC0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4C7-A802-4289-A965-260F781C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935-0DC3-4D65-BDCD-378B5FF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A7B-2D81-4E4D-A3F5-7344BBE2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8D2-AC45-4B0C-A3EA-67EBAC4F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2F1-DE94-43BD-8BF1-B6D18C7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5C0-3BF6-4D13-947D-F39375D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2A2-FB81-4B29-BEED-023653E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B7B-C59C-4CE1-BCF5-2321891A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ols.ietf.org/html/draft-ietf-mpls-tp-cc-cv-rdi-05" TargetMode="External"/><Relationship Id="rId3" Type="http://schemas.openxmlformats.org/officeDocument/2006/relationships/hyperlink" Target="http://tools.ietf.org/html/draft-ietf-mpls-tp-cc-cv-rdi-05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hyperlink" Target="http://tools.ietf.org/html/rfc5085" TargetMode="External"/><Relationship Id="rId8" Type="http://schemas.openxmlformats.org/officeDocument/2006/relationships/hyperlink" Target="http://tools.ietf.org/html/rfc5085" TargetMode="External"/><Relationship Id="rId9" Type="http://schemas.openxmlformats.org/officeDocument/2006/relationships/hyperlink" Target="http://tools.ietf.org/html/rfc5885" TargetMode="External"/><Relationship Id="rId10" Type="http://schemas.openxmlformats.org/officeDocument/2006/relationships/hyperlink" Target="http://tools.ietf.org/html/rfc5885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ccamp-rsvp-te-mpls-tp-oam-ext-05" TargetMode="External"/><Relationship Id="rId2" Type="http://schemas.openxmlformats.org/officeDocument/2006/relationships/hyperlink" Target="http://tools.ietf.org/html/draft-ietf-ccamp-rsvp-te-mpls-tp-oam-ext-05" TargetMode="External"/><Relationship Id="rId3" Type="http://schemas.openxmlformats.org/officeDocument/2006/relationships/hyperlink" Target="http://tools.ietf.org/html/draft-ietf-ccamp-rsvp-te-mpls-tp-oam-ext-05" TargetMode="External"/><Relationship Id="rId4" Type="http://schemas.openxmlformats.org/officeDocument/2006/relationships/hyperlink" Target="http://tools.ietf.org/html/draft-ietf-mpls-lsp-ping-mpls-tp-oam-conf-01" TargetMode="External"/><Relationship Id="rId5" Type="http://schemas.openxmlformats.org/officeDocument/2006/relationships/hyperlink" Target="http://tools.ietf.org/html/draft-ietf-mpls-lsp-ping-mpls-tp-oam-conf-01" TargetMode="External"/><Relationship Id="rId6" Type="http://schemas.openxmlformats.org/officeDocument/2006/relationships/hyperlink" Target="http://tools.ietf.org/html/draft-ietf-mpls-lsp-ping-mpls-tp-oam-conf-01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232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P Extensions for MPLS-TP PW Proactive OAM Configu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-zhang-mpls-tp-pw-oam-config-0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89409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E3/MPLS WG, IETF 81t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314440" y="458640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i Zhang                Bo 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isa Bellagamba    Attila tak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uehui Dai              Min Xi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09680" y="-360"/>
            <a:ext cx="618480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5"/>
          <p:cNvSpPr/>
          <p:nvPr/>
        </p:nvSpPr>
        <p:spPr>
          <a:xfrm>
            <a:off x="0" y="5205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 two bits “C” “V”  in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S-TP PW OAM Capability TL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5"/>
          <p:cNvSpPr/>
          <p:nvPr/>
        </p:nvSpPr>
        <p:spPr>
          <a:xfrm>
            <a:off x="0" y="3146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PLS-TP PW OAM capability negotiation is done by  the Initialization message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only two bits unused in the CV field of  the VCCV parameter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440" y="861840"/>
            <a:ext cx="8020080" cy="175284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434880" y="244620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": CC  supported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[CC-CV-RD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”:  CV supported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[CC-CV-RD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22320" y="4105440"/>
            <a:ext cx="715320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5110200"/>
            <a:ext cx="279576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5581800"/>
            <a:ext cx="7724880" cy="127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41840" y="5135400"/>
            <a:ext cx="12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[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RFC5085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3880" y="5891040"/>
            <a:ext cx="12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[RFC5885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9000" y="152280"/>
            <a:ext cx="61848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5"/>
          <p:cNvSpPr/>
          <p:nvPr/>
        </p:nvSpPr>
        <p:spPr>
          <a:xfrm>
            <a:off x="0" y="6825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both the two T-PEs can support the CC or CV function defined in [CC-CV-RDI], the BFD configuration procedure is adop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 or V flag of MPLS-TP PW OAM Capability TLV MUST be 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 or V flag of MPLS-TP PW OAM Configuration TLV MAY b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FD Configuration sub-TLV MAY be carr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5"/>
          <p:cNvSpPr/>
          <p:nvPr/>
        </p:nvSpPr>
        <p:spPr>
          <a:xfrm>
            <a:off x="0" y="4203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vised MPLS-TP PW OAM Configuration T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compact 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raft-ietf-mpls-lsp-ping-mpls-tp-oam-conf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47880" y="4869000"/>
            <a:ext cx="6153120" cy="198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5"/>
          <p:cNvSpPr/>
          <p:nvPr/>
        </p:nvSpPr>
        <p:spPr>
          <a:xfrm>
            <a:off x="0" y="2184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t least one of  the two T-PEs do not support the CC or CV operation,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[RFC588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will be   perform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 and V flags of MPLS-TP PW OAM Configuration TLV MUST NOT be 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FD Configuration sub-TLV MUST NOT be carr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5"/>
          <p:cNvSpPr/>
          <p:nvPr/>
        </p:nvSpPr>
        <p:spPr>
          <a:xfrm>
            <a:off x="0" y="3443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escribed behavior ensures full compatibility with the existing implemen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 Gre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tth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uca for the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080" y="299880"/>
            <a:ext cx="71118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707840"/>
            <a:ext cx="914400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/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in parallel with the related work done in MPLS-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draft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etf-ccamp-rsvp-te-mpls-tp-oam-ex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etf-mpls-lsp-ping-mpls-tp-oam-conf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6160" y="4649760"/>
            <a:ext cx="59943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opted as a WG document?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te</cp:lastModifiedBy>
  <dcterms:modified xsi:type="dcterms:W3CDTF">2011-07-22T06:21:12Z</dcterms:modified>
  <cp:revision>9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37343711</vt:lpwstr>
  </property>
</Properties>
</file>