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E8A-D963-49B0-86BE-09DE795D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7B9-2001-4199-AE8E-66BD744B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6B3-5F6B-48BC-BA05-A0A5A82F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626-9722-45E4-8A39-A612CD30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B19-1D4C-48EB-8785-901F813E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432-0BA0-4EA7-A085-E81DB7CD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70C-EE1A-4CB6-82B0-4F63247D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6C1-E1C3-41E3-AC87-5FE1BAE6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700-4E09-4A77-BEEB-FCEFBFBD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162-3080-4568-8F6E-0B93A545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C5D-1784-43FA-B9CA-3A4D9AF3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B1C-5F06-4732-B27A-17C0F60C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B434-5F84-49BA-A962-7D7F825D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ols.ietf.org/html/draft-ietf-mpls-tp-cc-cv-rdi-05" TargetMode="External"/><Relationship Id="rId3" Type="http://schemas.openxmlformats.org/officeDocument/2006/relationships/hyperlink" Target="http://tools.ietf.org/html/draft-ietf-mpls-tp-cc-cv-rdi-05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hyperlink" Target="http://tools.ietf.org/html/rfc5085" TargetMode="External"/><Relationship Id="rId8" Type="http://schemas.openxmlformats.org/officeDocument/2006/relationships/hyperlink" Target="http://tools.ietf.org/html/rfc5085" TargetMode="External"/><Relationship Id="rId9" Type="http://schemas.openxmlformats.org/officeDocument/2006/relationships/hyperlink" Target="http://tools.ietf.org/html/rfc5885" TargetMode="External"/><Relationship Id="rId10" Type="http://schemas.openxmlformats.org/officeDocument/2006/relationships/hyperlink" Target="http://tools.ietf.org/html/rfc5885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ccamp-rsvp-te-mpls-tp-oam-ext-05" TargetMode="External"/><Relationship Id="rId2" Type="http://schemas.openxmlformats.org/officeDocument/2006/relationships/hyperlink" Target="http://tools.ietf.org/html/draft-ietf-ccamp-rsvp-te-mpls-tp-oam-ext-05" TargetMode="External"/><Relationship Id="rId3" Type="http://schemas.openxmlformats.org/officeDocument/2006/relationships/hyperlink" Target="http://tools.ietf.org/html/draft-ietf-ccamp-rsvp-te-mpls-tp-oam-ext-05" TargetMode="External"/><Relationship Id="rId4" Type="http://schemas.openxmlformats.org/officeDocument/2006/relationships/hyperlink" Target="http://tools.ietf.org/html/draft-ietf-mpls-lsp-ping-mpls-tp-oam-conf-01" TargetMode="External"/><Relationship Id="rId5" Type="http://schemas.openxmlformats.org/officeDocument/2006/relationships/hyperlink" Target="http://tools.ietf.org/html/draft-ietf-mpls-lsp-ping-mpls-tp-oam-conf-01" TargetMode="External"/><Relationship Id="rId6" Type="http://schemas.openxmlformats.org/officeDocument/2006/relationships/hyperlink" Target="http://tools.ietf.org/html/draft-ietf-mpls-lsp-ping-mpls-tp-oam-conf-01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8232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P Extensions for MPLS-TP PW Proactive OAM Configu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raft-zhang-mpls-tp-pw-oam-config-0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894096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WE3/MPLS WG, IETF 81th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b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314440" y="4586400"/>
            <a:ext cx="47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i Zhang                Bo W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isa Bellagamba    Attila tak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uehui Dai              Min Xi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09680" y="-360"/>
            <a:ext cx="618480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5"/>
          <p:cNvSpPr/>
          <p:nvPr/>
        </p:nvSpPr>
        <p:spPr>
          <a:xfrm>
            <a:off x="0" y="5205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 two bits “C” “V”  in the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S-TP PW OAM Capability TL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5"/>
          <p:cNvSpPr/>
          <p:nvPr/>
        </p:nvSpPr>
        <p:spPr>
          <a:xfrm>
            <a:off x="0" y="3146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PLS-TP PW OAM capability negotiation is done by  the Initialization message ex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 are only two bits unused in the CV field of  the VCCV parameter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440" y="861840"/>
            <a:ext cx="8020080" cy="175284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434880" y="244620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": CC  supported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[CC-CV-RD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”:  CV supported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[CC-CV-RD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922320" y="4105440"/>
            <a:ext cx="7153200" cy="106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5110200"/>
            <a:ext cx="279576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5581800"/>
            <a:ext cx="7724880" cy="127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41840" y="5135400"/>
            <a:ext cx="12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[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RFC5085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43880" y="5891040"/>
            <a:ext cx="12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[RFC5885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9000" y="152280"/>
            <a:ext cx="61848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ward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5"/>
          <p:cNvSpPr/>
          <p:nvPr/>
        </p:nvSpPr>
        <p:spPr>
          <a:xfrm>
            <a:off x="0" y="6825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both the two T-PEs can support the CC or CV function defined in [CC-CV-RDI], the BFD configuration procedure is adop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 or V flag of MPLS-TP PW OAM Capability TLV MUST be 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 or V flag of MPLS-TP PW OAM Configuration TLV MAY be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BFD Configuration sub-TLV MAY be carr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5"/>
          <p:cNvSpPr/>
          <p:nvPr/>
        </p:nvSpPr>
        <p:spPr>
          <a:xfrm>
            <a:off x="0" y="4203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vised MPLS-TP PW OAM Configuration T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compact 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mpls-lsp-ping-mpls-tp-oam-conf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47880" y="4869000"/>
            <a:ext cx="6153120" cy="198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5"/>
          <p:cNvSpPr/>
          <p:nvPr/>
        </p:nvSpPr>
        <p:spPr>
          <a:xfrm>
            <a:off x="0" y="2184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t least one of  the two T-PEs do not support the CC or CV operation,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[RFC588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will be   perform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 and V flags of MPLS-TP PW OAM Configuration TLV MUST NOT be 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BFD Configuration sub-TLV MUST NOT be carr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5"/>
          <p:cNvSpPr/>
          <p:nvPr/>
        </p:nvSpPr>
        <p:spPr>
          <a:xfrm>
            <a:off x="0" y="3443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escribed behavior ensures full compatibility with the existing implemen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s Gre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tth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uca for the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080" y="299880"/>
            <a:ext cx="71118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707840"/>
            <a:ext cx="914400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/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in parallel with the related work done in MPLS-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draft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etf-ccamp-rsvp-te-mpls-tp-oam-ext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raft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etf-mpls-lsp-ping-mpls-tp-oam-conf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6160" y="4649760"/>
            <a:ext cx="59943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opted as a WG document?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te</cp:lastModifiedBy>
  <dcterms:modified xsi:type="dcterms:W3CDTF">2011-07-22T06:21:12Z</dcterms:modified>
  <cp:revision>9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7343711</vt:lpwstr>
  </property>
</Properties>
</file>