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347-F5AE-47AE-B26C-F3E94927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5F1-0B29-4F76-827E-EADFDDB8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60C-4978-4B3A-844B-CC61588E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FDB-D9FF-4DB3-8373-F398DBF3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05F-92EA-4081-9113-4BEF9C35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49B-4B24-4BC3-A7E5-75D58F4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2F9-B922-4EF7-9892-7F8719C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B5D-FD08-490D-BA82-3FD0AF8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6F0-56F1-463B-BB84-15179963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8EB-84EE-4BFA-BADE-6F25B4D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FAB-ED98-47EA-9E54-5102A127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707-B037-4C3F-877A-CABD021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80F0-79AF-4D9A-AB43-C1581D3C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9160" y="145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eudowire Communitie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raft-pkwok-pwe3-pw-communities-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l Kw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eric Joun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791-5228-4F40-B8BE-4C09401AEA4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ethod to simplify provisioning dynamic Pseudow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 in policy administration  during dynamic multi-segment pseudowire (Dyn MS-PW) set-up across various S-PEs with minimal over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889-4063-4A2A-AE10-1E05479C5F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0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spans across multiple administrative domains. For security reasons strict access control is required at S-PEs. One way is to define policies at S-PEs based on SAII/TAII but adds complexity, administrative overheads, configuration mist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requires each S-PE to choose a unidirectional PSN tunnel to bind to a PW. T-PEs may require to signal the preference of PSN tunnels at S-PEs. Signaling each of the various types of PSN tunnel selection criteria adds significant burden to LDP messaging proced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924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5B8-AD9B-4053-A738-57415CF160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W community” attribute  as a 32 bit identifier carried in an Interface Parameters Sub-TL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W community represents a template that has set of rules defined locally by a T-PE or S-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-PE or S-PE can define its own set of rules and it is upto the administrative domain(s) to maintain congruities among PW community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932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EC3-169E-42F7-B16D-42EFD32F24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cont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generic method and any complex rules can be mapped to specific PW commun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idered as “Coloring” of PWs so that PW set-up decisions can be based on identity of th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is different from PW Grouping ID . It is not necessary that PW Grouping and PW communities be cor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4880" y="60580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061-BD5F-494D-9017-7BBD777019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discussions/feedbacks in mailing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4880" y="60958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A34-3D75-458C-89BF-505714EED1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07-25T04:18:58Z</dcterms:modified>
  <cp:revision>105</cp:revision>
  <dc:subject/>
  <dc:title>OAM for L2 VPN Networks Using CFM and VCCV</dc:title>
</cp:coreProperties>
</file>