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BE4F-86CE-4D41-B78C-2E5757243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D55D-407A-4FBE-A747-7DCC63CAB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8A5E-4CC3-4BFF-9908-5E8436123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C1EE-8C06-49CF-A716-565D0B53F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8937-D177-4D3F-9810-6D43E7DAA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840B-3410-4C65-BD10-73095ECC8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387F-F20C-4536-81D1-460C22734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F2B7-A0F7-41AF-9C48-77A922A4C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4470-7BB8-4CAC-AE7D-FF790E043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6685-1A06-49B5-8E70-BE312076C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C1EE-C76B-4DC1-B296-FE98ADCA6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4D2C-DC48-4A41-8463-C3E0B7B43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E35D7-212D-4177-9958-7D375B31D2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49160" y="1458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seudowire Communities</a:t>
            </a:r>
            <a:br>
              <a:rPr sz="3600"/>
            </a:br>
            <a:br>
              <a:rPr sz="3600"/>
            </a:br>
            <a:r>
              <a:rPr b="0" lang="en-US" sz="2000" spc="-1" strike="noStrike">
                <a:solidFill>
                  <a:srgbClr val="0033cc"/>
                </a:solidFill>
                <a:latin typeface="Times New Roman"/>
              </a:rPr>
              <a:t>draft-pkwok-pwe3-pw-communities-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2971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ul Kw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anjal Dut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ederic Joun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109320" y="6245280"/>
            <a:ext cx="258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ft-pkwok-pwe3-pw-communities-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52040" y="5859360"/>
            <a:ext cx="87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ETF-8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EDFF-E0F8-43AA-AC2E-250738ADDFCD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5 July 20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64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ic method to simplify provisioning dynamic Pseudowi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 in policy administration  during dynamic multi-segment pseudowire (Dyn MS-PW) set-up across various S-PEs with minimal overh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52040" y="5859360"/>
            <a:ext cx="87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ETF-8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109320" y="6245280"/>
            <a:ext cx="258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ft-pkwok-pwe3-pw-communities-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3F9F-5E22-4B7E-A04E-C9B4E8A1290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5 July 20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64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oblem State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508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 MS-PW spans across multiple administrative domains. For security reasons strict access control is required at S-PEs. One way is to define policies at S-PEs based on SAII/TAII but adds complexity, administrative overheads, configuration mistak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 MS-PW requires each S-PE to choose a unidirectional PSN tunnel to bind to a PW. T-PEs may require to signal the preference of PSN tunnels at S-PEs. Signaling each of the various types of PSN tunnel selection criteria adds significant burden to LDP messaging procedur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52040" y="5859360"/>
            <a:ext cx="87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ETF-8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279240" y="6195960"/>
            <a:ext cx="258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ft-pkwok-pwe3-pw-communities-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CCB3-23FC-49C5-9F69-08E5A60A93C7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5 July 20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10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54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“PW community” attribute  as a 32 bit identifier carried in an Interface Parameters Sub-TLV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W community represents a template that has set of rules defined locally by a T-PE or S-P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T-PE or S-PE can define its own set of rules and it is upto the administrative domain(s) to maintain congruities among PW community ru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52040" y="5859360"/>
            <a:ext cx="87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ETF-8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109320" y="6195960"/>
            <a:ext cx="258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ft-pkwok-pwe3-pw-communities-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903D-E91C-428C-A20B-1AFA3F2D9132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5 July 20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ution contd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498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y generic method and any complex rules can be mapped to specific PW communiti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considered as “Coloring” of PWs so that PW set-up decisions can be based on identity of the grou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cept is different from PW Grouping ID . It is not necessary that PW Grouping and PW communities be correl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52040" y="5859360"/>
            <a:ext cx="87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ETF-8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34880" y="6058080"/>
            <a:ext cx="258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ft-pkwok-pwe3-pw-communities-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EE98-B683-4937-8C96-1CF8953D269C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5 July 20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quest discussions/feedbacks in mailing li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G Statu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52040" y="5859360"/>
            <a:ext cx="87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ETF-8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34880" y="6095880"/>
            <a:ext cx="258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ft-pkwok-pwe3-pw-communities-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F3A0-D0C4-47AF-9FF6-2A86862D9C39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5 July 20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30T14:27:40Z</dcterms:created>
  <dc:creator>Olen L. Stokes, Jr</dc:creator>
  <dc:description/>
  <dc:language>en-US</dc:language>
  <cp:lastModifiedBy>pranjald</cp:lastModifiedBy>
  <dcterms:modified xsi:type="dcterms:W3CDTF">2011-07-25T04:18:58Z</dcterms:modified>
  <cp:revision>105</cp:revision>
  <dc:subject/>
  <dc:title>OAM for L2 VPN Networks Using CFM and VCCV</dc:title>
</cp:coreProperties>
</file>