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498-BF8C-4095-989D-4FACF2F7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A0A-C6F0-420A-A70C-683879A5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4B9-889B-4D6F-80AA-441F13E0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4EF-7356-4A39-9C77-BBACA920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551-AB1B-4B2F-951F-88DDC1B1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A00-5A74-4A9D-AA6F-1D7AB4F2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764-E6C5-4519-B430-9D103C03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05A-7878-4AE1-A5AA-18AE125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2EC-C417-4926-A8D7-B93DD59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CD6-32D6-46F6-8361-BA99DA6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DED-F492-450C-8AB5-51C746B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C87-91E5-4507-B886-CF3AB3E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0AE4-F19B-4B93-9DF3-8F2C9D7C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88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-LDP Hello Reduction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-pdutta-mpls-tldp-hello-reduce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Na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les H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FC1-CC54-49AC-85D0-EF0CD1B7EE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-version was presented in IETF-74 in MPLS 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all feedbacks received from WG in revision -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 from Informational to Standards Track as per suggestions from MPLS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40D-03A9-4615-BBA9-80363A2769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Targeted LDP (T-LDP) session maintenance in scaled T-LDP environment (e.g in mobilility backhauls with Pseudowires/VPLS deployment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EAE-6D63-4419-8838-BA2539C55C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establishment T-LDP hellos become redundant. Session Keepalives are sufficient to maintain T-LDP adjac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aled T-LDP environment , T-LDP Hellos are overheads after the session establishment if BFD etc. are used for tracking neighbor livel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AA1-920B-4340-AF02-D0D9F1E0F8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P Hellos can cause DoS attacks leading to losing of established adjacencies. It is important to avoid dependency of hellos as far as possi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C62-68D1-423F-AB8E-152AF66A53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-LDP peering LSRs starts exchan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LDP hellos with “configured” hello timeouts as part of extended dis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is established, each LSR starts sending Hello Timeout of value 0xFFFF, which is infinite as per RFC 503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peering LSRs start advertising Hello Timeout of 0xFFFF, then negotiated timeout falls back to 0xFFF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B0A-E997-463B-A1C4-904ADF4455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LDP session fails, both LSRs start transmitting T-LDP Hellos with the “configured” timeout values ag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DE2-1E14-4941-8804-A7A5DEE3BE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is very simple and uses existing provisions of RFC 5036 . Backward compatible with LSRs not implementing the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1B5-B2B3-4257-B5DE-163B722F2C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, feedbacks in PWE3 + MPLS mailing l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h working group consensus on the T-LDP hello reduc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899-2760-466F-82A4-28C4CA0110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l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07-25T03:24:03Z</dcterms:modified>
  <cp:revision>52</cp:revision>
  <dc:subject/>
  <dc:title>OAM for L2 VPN Networks Using CFM and VCCV</dc:title>
</cp:coreProperties>
</file>