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88A-C24C-4938-8838-70C9F4E8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06-FFF9-40D2-91A2-552D708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CC0-CD2E-4D77-9D1B-76897158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BF6-3513-492A-922A-4481CAC4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64B-6ED9-496A-9679-98161F0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131-6452-4DCC-9407-38FAD1F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EF6-5D6C-4043-8BB3-BE95961F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81C-1F0B-4C0C-8E9F-86DA359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450-9D28-4EDE-B328-DD62F69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B6E-CFC8-4A28-9012-4983F24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F4C-2A98-42EE-A89F-8B154D0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98F-9ECE-4235-8306-7AEB2B1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D033-F383-413C-B790-E361C4B1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88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-LDP Hello Reduction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-pdutta-mpls-tldp-hello-reduce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Na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les H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B4E-0D9C-4BBF-90CA-5C6856E284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-version was presented in IETF-74 in MPLS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feedbacks received from WG in revision -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 from Informational to Standards Track as per suggestions from MPLS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109-CF70-46BB-BBC5-04645C0BB5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argeted LDP (T-LDP) session maintenance in scaled T-LDP environment (e.g in mobilility backhauls with Pseudowires/VPLS deployment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DCA-C1CA-422F-9809-D9EC617339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establishment T-LDP hellos become redundant. Session Keepalives are sufficient to maintain T-LDP adjac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aled T-LDP environment , T-LDP Hellos are overheads after the session establishment if BFD etc. are used for tracking neighbor livel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F7-A890-4A0C-896D-406605DC89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P Hellos can cause DoS attacks leading to losing of established adjacencies. It is important to avoid dependency of hellos as far as possi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A0C-F88D-4341-96C1-C2AB119258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-LDP peering LSRs starts exchan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LDP hellos with “configured” hello timeouts as part of extended dis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is established, each LSR starts sending Hello Timeout of value 0xFFFF, which is infinite as per RFC 50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peering LSRs start advertising Hello Timeout of 0xFFFF, then negotiated timeout falls back to 0xFFF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BBA-3C33-4860-B561-90F8AB587C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LDP session fails, both LSRs start transmitting T-LDP Hellos with the “configured” timeout values ag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E72-151C-490A-ABE7-96B913212A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is very simple and uses existing provisions of RFC 5036 . Backward compatible with LSRs not implementing the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C2A-A87C-4042-A7D8-552CB0926A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, feedbacks in PWE3 + MPLS mailing l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h working group consensus on the T-LDP hello reduc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F37-52FD-440A-BC26-09F3522AC0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07-25T03:24:03Z</dcterms:modified>
  <cp:revision>52</cp:revision>
  <dc:subject/>
  <dc:title>OAM for L2 VPN Networks Using CFM and VCCV</dc:title>
</cp:coreProperties>
</file>