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4000" y="25992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4000" y="25992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4000" y="25992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4000" y="25992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10920" y="1413000"/>
            <a:ext cx="7777080" cy="1666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FrutigerNext LT Medium"/>
              </a:rPr>
              <a:t>Click to edit the title text format</a:t>
            </a:r>
            <a:endParaRPr b="1" lang="en-US" sz="43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39" name=""/>
          <p:cNvSpPr/>
          <p:nvPr/>
        </p:nvSpPr>
        <p:spPr>
          <a:xfrm>
            <a:off x="717480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www.huawei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929360" cy="870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1960" y="1341000"/>
            <a:ext cx="7929720" cy="482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cheng-behave-cgn-cfg-radius-ext-00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50920" y="4335480"/>
            <a:ext cx="7929360" cy="1830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an Cheng (dean.cheng@huawei.com)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ETF Quebec City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1052640"/>
            <a:ext cx="741708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 fontScale="76000"/>
          </a:bodyPr>
          <a:p>
            <a:pPr marL="227880" indent="-22788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RADIUS Extens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f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CGN Configurations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     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  <a:ea typeface="华文细黑"/>
                <a:hlinkClick r:id="rId1"/>
              </a:rPr>
              <a:t>draft-cheng-behave-cgn-cfg-radius-ext-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956720" y="6308640"/>
            <a:ext cx="9363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utigerNext LT Regular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532720" y="6308640"/>
            <a:ext cx="3603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 fontScale="66000"/>
          </a:bodyPr>
          <a:p>
            <a:pPr marL="197640" indent="-19764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8000" y="-171720"/>
            <a:ext cx="87120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FrutigerNext LT Medium"/>
              </a:rPr>
              <a:t>Change NAT44 TCP/UDP Port Mapping via RADIUS</a:t>
            </a:r>
            <a:endParaRPr b="0" lang="en-US" sz="28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73" name=""/>
          <p:cNvSpPr/>
          <p:nvPr/>
        </p:nvSpPr>
        <p:spPr>
          <a:xfrm>
            <a:off x="6084720" y="847800"/>
            <a:ext cx="1727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08000" y="1143000"/>
            <a:ext cx="763560" cy="846000"/>
            <a:chOff x="108000" y="1143000"/>
            <a:chExt cx="763560" cy="846000"/>
          </a:xfrm>
        </p:grpSpPr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108000" y="1143000"/>
              <a:ext cx="546120" cy="35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438120" y="1498320"/>
              <a:ext cx="71640" cy="2890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7" name="" descr=""/>
            <p:cNvPicPr/>
            <p:nvPr/>
          </p:nvPicPr>
          <p:blipFill>
            <a:blip r:embed="rId2"/>
            <a:stretch/>
          </p:blipFill>
          <p:spPr>
            <a:xfrm>
              <a:off x="293760" y="1714320"/>
              <a:ext cx="577800" cy="27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8" name=""/>
          <p:cNvGrpSpPr/>
          <p:nvPr/>
        </p:nvGrpSpPr>
        <p:grpSpPr>
          <a:xfrm>
            <a:off x="3274920" y="1189080"/>
            <a:ext cx="504720" cy="360000"/>
            <a:chOff x="3274920" y="1189080"/>
            <a:chExt cx="504720" cy="360000"/>
          </a:xfrm>
        </p:grpSpPr>
        <p:sp>
          <p:nvSpPr>
            <p:cNvPr id="379" name=""/>
            <p:cNvSpPr/>
            <p:nvPr/>
          </p:nvSpPr>
          <p:spPr>
            <a:xfrm>
              <a:off x="3274920" y="1189080"/>
              <a:ext cx="504720" cy="36000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274920" y="1282320"/>
              <a:ext cx="504720" cy="2667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274920" y="1189080"/>
              <a:ext cx="503280" cy="181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95520" y="1221480"/>
              <a:ext cx="306720" cy="111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82560" y="1219680"/>
              <a:ext cx="304920" cy="10728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476520" y="1405080"/>
              <a:ext cx="120240" cy="1303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70760" y="1401120"/>
              <a:ext cx="120240" cy="13068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274920" y="1189080"/>
              <a:ext cx="504720" cy="36000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274920" y="1282320"/>
              <a:ext cx="504720" cy="2667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74920" y="1189080"/>
              <a:ext cx="503280" cy="181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395520" y="1221480"/>
              <a:ext cx="306720" cy="111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382560" y="1219680"/>
              <a:ext cx="304920" cy="10728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476520" y="1405080"/>
              <a:ext cx="120240" cy="1303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70760" y="1401120"/>
              <a:ext cx="120240" cy="13068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2987640" y="1577880"/>
            <a:ext cx="12970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NAT44/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49720" y="981000"/>
            <a:ext cx="7189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B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6443640" y="1273320"/>
            <a:ext cx="627120" cy="7156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7020000" y="17002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39640" y="206064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804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08000" y="907920"/>
            <a:ext cx="7189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564000" y="472428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532720" y="6308640"/>
            <a:ext cx="611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 marL="299880" indent="-29988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11280" y="2811600"/>
            <a:ext cx="280836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Internal IP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Port Map (a: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564000" y="1916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708360" y="3500280"/>
            <a:ext cx="3311640" cy="548640"/>
            <a:chOff x="3708360" y="3500280"/>
            <a:chExt cx="3311640" cy="548640"/>
          </a:xfrm>
        </p:grpSpPr>
        <p:sp>
          <p:nvSpPr>
            <p:cNvPr id="405" name=""/>
            <p:cNvSpPr/>
            <p:nvPr/>
          </p:nvSpPr>
          <p:spPr>
            <a:xfrm>
              <a:off x="3851280" y="3500280"/>
              <a:ext cx="25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708360" y="3645000"/>
              <a:ext cx="3311640" cy="40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CoA Requ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buClr>
                  <a:srgbClr val="000000"/>
                </a:buClr>
                <a:buFont typeface="FrutigerNext LT Regular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CGN-Port-Forwarding-Ma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2411280" y="4251240"/>
            <a:ext cx="280836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Internal IP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Port Map (a:Y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3708360" y="4830840"/>
            <a:ext cx="3311640" cy="548280"/>
            <a:chOff x="3708360" y="4830840"/>
            <a:chExt cx="3311640" cy="548280"/>
          </a:xfrm>
        </p:grpSpPr>
        <p:sp>
          <p:nvSpPr>
            <p:cNvPr id="409" name=""/>
            <p:cNvSpPr/>
            <p:nvPr/>
          </p:nvSpPr>
          <p:spPr>
            <a:xfrm>
              <a:off x="3851280" y="4830840"/>
              <a:ext cx="25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708360" y="4975200"/>
              <a:ext cx="3311640" cy="40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CoA Respo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buClr>
                  <a:srgbClr val="000000"/>
                </a:buClr>
                <a:buFont typeface="FrutigerNext LT Regular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CGN-Port-Forwarding-Ma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Box 41"/>
          <p:cNvSpPr/>
          <p:nvPr/>
        </p:nvSpPr>
        <p:spPr>
          <a:xfrm>
            <a:off x="7308720" y="1776240"/>
            <a:ext cx="1366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User profi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Username pw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IPv4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Internal 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External 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237440" y="1798560"/>
            <a:ext cx="136692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0" y="6308640"/>
            <a:ext cx="1152360" cy="1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RADI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403280" y="6308640"/>
            <a:ext cx="1584360" cy="1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PPPoE/DHC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4920" y="-2736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FrutigerNext LT Medium"/>
              </a:rPr>
              <a:t>       </a:t>
            </a:r>
            <a:r>
              <a:rPr b="0" lang="en-US" sz="3200" spc="-1" strike="noStrike">
                <a:solidFill>
                  <a:srgbClr val="990000"/>
                </a:solidFill>
                <a:latin typeface="FrutigerNext LT Medium"/>
              </a:rPr>
              <a:t>CGN-Forwarding-Port-Map Attribute</a:t>
            </a:r>
            <a:endParaRPr b="0" lang="en-US" sz="3200" spc="-1" strike="noStrike">
              <a:solidFill>
                <a:srgbClr val="990000"/>
              </a:solidFill>
              <a:latin typeface="FrutigerNext LT Medium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-181080" y="652320"/>
          <a:ext cx="9396360" cy="57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652320"/>
                    <a:ext cx="9396360" cy="57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"/>
          <p:cNvSpPr/>
          <p:nvPr/>
        </p:nvSpPr>
        <p:spPr>
          <a:xfrm>
            <a:off x="468360" y="2708280"/>
            <a:ext cx="7488360" cy="39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ype - TB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ength – Depending on the value of the AF field, the length could b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8, 12 or 24 octe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F (Address Family)- 2 bi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: no internal IP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: The internal address is an IPv4 addr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: The internal address is an IPv6 addr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: Unus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served – set to zero by sender and ignored by receiv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nal Port – The internal port for the CGN mapp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Port – The external port for the CGN mapp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nal IP address – if exists, contains the internal IPv4 or IPv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ress for the CGN mapp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497800" y="6237360"/>
            <a:ext cx="611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 marL="299880" indent="-29988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marL="647640"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Next Step …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82160" cy="419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icit review and assistance from RADEXT WG on the RADIUS elements in the draft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ose as a WG document in BEHAVE WG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22" name=""/>
          <p:cNvSpPr/>
          <p:nvPr/>
        </p:nvSpPr>
        <p:spPr>
          <a:xfrm>
            <a:off x="8532720" y="6308640"/>
            <a:ext cx="61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3120" bIns="331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0920" y="43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marL="647640"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                   </a:t>
            </a: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Motivation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907920"/>
            <a:ext cx="9036000" cy="5616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enario (in a broadband network)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r configuration is stored on a RADIUS server (user profile)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r’s broadband connection terminates at a BNG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NG (e.g. NAT44) can be co-located on a BNG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to solve 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w to leverage the existing RADIUS based infrastructure in broadband network to configure &amp; manage subscriber based CGN parameters?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ution proposed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-configure the CGN related parameters on the RADIUS server as part of the user profile. This information is propagated to the BNG/CGN by RADIUS messages exchange between BNG and RADIUS server.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GN related user parameters are sent from BNG to RADIUS server.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7" name=""/>
          <p:cNvSpPr/>
          <p:nvPr/>
        </p:nvSpPr>
        <p:spPr>
          <a:xfrm>
            <a:off x="8532720" y="6308640"/>
            <a:ext cx="3603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 fontScale="66000"/>
          </a:bodyPr>
          <a:p>
            <a:pPr marL="197640" indent="-19764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920" y="-35280"/>
            <a:ext cx="90360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FrutigerNext LT Medium"/>
              </a:rPr>
              <a:t>Configure NAT44 TCP/UDP Session Limit via RADIUS</a:t>
            </a:r>
            <a:endParaRPr b="0" lang="en-US" sz="28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9" name=""/>
          <p:cNvSpPr/>
          <p:nvPr/>
        </p:nvSpPr>
        <p:spPr>
          <a:xfrm>
            <a:off x="6084720" y="847800"/>
            <a:ext cx="1727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852720" y="2471760"/>
            <a:ext cx="2519640" cy="292680"/>
            <a:chOff x="3852720" y="2471760"/>
            <a:chExt cx="2519640" cy="292680"/>
          </a:xfrm>
        </p:grpSpPr>
        <p:sp>
          <p:nvSpPr>
            <p:cNvPr id="161" name=""/>
            <p:cNvSpPr/>
            <p:nvPr/>
          </p:nvSpPr>
          <p:spPr>
            <a:xfrm>
              <a:off x="4211640" y="2471760"/>
              <a:ext cx="187308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Access Requ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52720" y="2471760"/>
              <a:ext cx="25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757080" y="2174760"/>
            <a:ext cx="2519640" cy="294120"/>
            <a:chOff x="757080" y="2174760"/>
            <a:chExt cx="2519640" cy="294120"/>
          </a:xfrm>
        </p:grpSpPr>
        <p:sp>
          <p:nvSpPr>
            <p:cNvPr id="164" name=""/>
            <p:cNvSpPr/>
            <p:nvPr/>
          </p:nvSpPr>
          <p:spPr>
            <a:xfrm>
              <a:off x="1260360" y="2176200"/>
              <a:ext cx="187344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Service Requ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57080" y="2174760"/>
              <a:ext cx="25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08000" y="1143000"/>
            <a:ext cx="763560" cy="846000"/>
            <a:chOff x="108000" y="1143000"/>
            <a:chExt cx="763560" cy="84600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108000" y="1143000"/>
              <a:ext cx="546120" cy="35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438120" y="1498320"/>
              <a:ext cx="71640" cy="2890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293760" y="1714320"/>
              <a:ext cx="577800" cy="27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0" name=""/>
          <p:cNvGrpSpPr/>
          <p:nvPr/>
        </p:nvGrpSpPr>
        <p:grpSpPr>
          <a:xfrm>
            <a:off x="3274920" y="1189080"/>
            <a:ext cx="504720" cy="360000"/>
            <a:chOff x="3274920" y="1189080"/>
            <a:chExt cx="504720" cy="360000"/>
          </a:xfrm>
        </p:grpSpPr>
        <p:sp>
          <p:nvSpPr>
            <p:cNvPr id="171" name=""/>
            <p:cNvSpPr/>
            <p:nvPr/>
          </p:nvSpPr>
          <p:spPr>
            <a:xfrm>
              <a:off x="3274920" y="1189080"/>
              <a:ext cx="504720" cy="36000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74920" y="1282320"/>
              <a:ext cx="504720" cy="2667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4920" y="1189080"/>
              <a:ext cx="503280" cy="181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95520" y="1221480"/>
              <a:ext cx="306720" cy="111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82560" y="1219680"/>
              <a:ext cx="304920" cy="10728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76520" y="1405080"/>
              <a:ext cx="120240" cy="1303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70760" y="1401120"/>
              <a:ext cx="120240" cy="13068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74920" y="1189080"/>
              <a:ext cx="504720" cy="36000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4920" y="1282320"/>
              <a:ext cx="504720" cy="2667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74920" y="1189080"/>
              <a:ext cx="503280" cy="181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95520" y="1221480"/>
              <a:ext cx="306720" cy="111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82560" y="1219680"/>
              <a:ext cx="304920" cy="10728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76520" y="1405080"/>
              <a:ext cx="120240" cy="1303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70760" y="1401120"/>
              <a:ext cx="120240" cy="13068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987640" y="1577880"/>
            <a:ext cx="12970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NAT44/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49720" y="981000"/>
            <a:ext cx="7189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B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6443640" y="1273320"/>
            <a:ext cx="627120" cy="715680"/>
          </a:xfrm>
          <a:prstGeom prst="rect">
            <a:avLst/>
          </a:prstGeom>
          <a:ln w="0">
            <a:noFill/>
          </a:ln>
        </p:spPr>
      </p:pic>
      <p:sp>
        <p:nvSpPr>
          <p:cNvPr id="188" name="TextBox 41"/>
          <p:cNvSpPr/>
          <p:nvPr/>
        </p:nvSpPr>
        <p:spPr>
          <a:xfrm>
            <a:off x="7308720" y="1700280"/>
            <a:ext cx="1584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User profi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Username pw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IPv4 addres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CGN TCP/UDP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Session Lim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237440" y="1722600"/>
            <a:ext cx="1366920" cy="93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020000" y="17002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06920" y="3048120"/>
            <a:ext cx="324144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Access-Ac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CGN-Session-Limit (TCP/UDP por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51280" y="297648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30200" y="3703680"/>
            <a:ext cx="187344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Service Gra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(other paramet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26920" y="359244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24360" y="539424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2060640"/>
            <a:ext cx="0" cy="43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04000" y="2060640"/>
            <a:ext cx="0" cy="43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8000" y="907920"/>
            <a:ext cx="7189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64000" y="191628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64000" y="535320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6308640"/>
            <a:ext cx="1152360" cy="1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RADI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403280" y="6308640"/>
            <a:ext cx="1584360" cy="1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PPPoE/DHC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532720" y="6308640"/>
            <a:ext cx="3603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 fontScale="66000"/>
          </a:bodyPr>
          <a:p>
            <a:pPr marL="197640" indent="-19764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08360" y="5499000"/>
            <a:ext cx="331164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Account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CGN-Session-Limit (TCP/UDP por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11280" y="4292640"/>
            <a:ext cx="281016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(NAT44 external 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allocation and IPv4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assign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8000" y="-171720"/>
            <a:ext cx="87120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FrutigerNext LT Medium"/>
              </a:rPr>
              <a:t>Change NAT44 TCP/UDP Session Limit via RADIUS</a:t>
            </a:r>
            <a:endParaRPr b="0" lang="en-US" sz="28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07" name=""/>
          <p:cNvSpPr/>
          <p:nvPr/>
        </p:nvSpPr>
        <p:spPr>
          <a:xfrm>
            <a:off x="6084720" y="847800"/>
            <a:ext cx="1727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08000" y="1143000"/>
            <a:ext cx="763560" cy="846000"/>
            <a:chOff x="108000" y="1143000"/>
            <a:chExt cx="763560" cy="846000"/>
          </a:xfrm>
        </p:grpSpPr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108000" y="1143000"/>
              <a:ext cx="546120" cy="35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438120" y="1498320"/>
              <a:ext cx="71640" cy="2890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2"/>
            <a:stretch/>
          </p:blipFill>
          <p:spPr>
            <a:xfrm>
              <a:off x="293760" y="1714320"/>
              <a:ext cx="577800" cy="27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"/>
          <p:cNvGrpSpPr/>
          <p:nvPr/>
        </p:nvGrpSpPr>
        <p:grpSpPr>
          <a:xfrm>
            <a:off x="3274920" y="1189080"/>
            <a:ext cx="504720" cy="360000"/>
            <a:chOff x="3274920" y="1189080"/>
            <a:chExt cx="504720" cy="360000"/>
          </a:xfrm>
        </p:grpSpPr>
        <p:sp>
          <p:nvSpPr>
            <p:cNvPr id="213" name=""/>
            <p:cNvSpPr/>
            <p:nvPr/>
          </p:nvSpPr>
          <p:spPr>
            <a:xfrm>
              <a:off x="3274920" y="1189080"/>
              <a:ext cx="504720" cy="36000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74920" y="1282320"/>
              <a:ext cx="504720" cy="2667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74920" y="1189080"/>
              <a:ext cx="503280" cy="181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95520" y="1221480"/>
              <a:ext cx="306720" cy="111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82560" y="1219680"/>
              <a:ext cx="304920" cy="10728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76520" y="1405080"/>
              <a:ext cx="120240" cy="1303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470760" y="1401120"/>
              <a:ext cx="120240" cy="13068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74920" y="1189080"/>
              <a:ext cx="504720" cy="36000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74920" y="1282320"/>
              <a:ext cx="504720" cy="2667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74920" y="1189080"/>
              <a:ext cx="503280" cy="181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95520" y="1221480"/>
              <a:ext cx="306720" cy="111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82560" y="1219680"/>
              <a:ext cx="304920" cy="10728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76520" y="1405080"/>
              <a:ext cx="120240" cy="1303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470760" y="1401120"/>
              <a:ext cx="120240" cy="13068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2987640" y="1577880"/>
            <a:ext cx="12970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NAT44/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9720" y="981000"/>
            <a:ext cx="7189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B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6443640" y="1273320"/>
            <a:ext cx="627120" cy="715680"/>
          </a:xfrm>
          <a:prstGeom prst="rect">
            <a:avLst/>
          </a:prstGeom>
          <a:ln w="0">
            <a:noFill/>
          </a:ln>
        </p:spPr>
      </p:pic>
      <p:sp>
        <p:nvSpPr>
          <p:cNvPr id="230" name="TextBox 41"/>
          <p:cNvSpPr/>
          <p:nvPr/>
        </p:nvSpPr>
        <p:spPr>
          <a:xfrm>
            <a:off x="7308720" y="1700280"/>
            <a:ext cx="1584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User profi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Username pw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IPv4 addres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CGN TCP/UDP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Session Lim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37440" y="1722600"/>
            <a:ext cx="1366920" cy="93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20000" y="17002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206064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04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8000" y="907920"/>
            <a:ext cx="7189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564000" y="472428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532720" y="6308640"/>
            <a:ext cx="3603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 fontScale="66000"/>
          </a:bodyPr>
          <a:p>
            <a:pPr marL="197640" indent="-19764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11280" y="2811600"/>
            <a:ext cx="2808360" cy="1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TCP/UDP Port Limit (102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64000" y="1916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51280" y="350028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08360" y="3645000"/>
            <a:ext cx="331164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CoA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CGN-Session-Limit (TCP/UDP por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1280" y="4251240"/>
            <a:ext cx="2808360" cy="1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TCP/UDP Port Limit (204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4920" y="-2736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         </a:t>
            </a:r>
            <a:r>
              <a:rPr b="0" lang="en-US" sz="3200" spc="-1" strike="noStrike">
                <a:solidFill>
                  <a:srgbClr val="990000"/>
                </a:solidFill>
                <a:latin typeface="FrutigerNext LT Medium"/>
              </a:rPr>
              <a:t>CGN-Session-Limit Attribute</a:t>
            </a:r>
            <a:endParaRPr b="0" lang="en-US" sz="3200" spc="-1" strike="noStrike">
              <a:solidFill>
                <a:srgbClr val="990000"/>
              </a:solidFill>
              <a:latin typeface="FrutigerNext LT Medium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-468360" y="620640"/>
          <a:ext cx="8820360" cy="669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8360" y="620640"/>
                    <a:ext cx="8820360" cy="669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324000" y="2276640"/>
            <a:ext cx="8496000" cy="46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ype - TB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ength – 6 oct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 (3 bit)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: The limit as specified is applied to the sum of TCP ports, U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rts and ICMP identifi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: The limit as specified is applied to the sum of TCP 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nd UDP por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: The limit as specified is applied to TCP por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: The limit as specified is applied to UDP por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: The limit as specified is applied to ICMP identifi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5-7: Not use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served – set to zero by sender and ignored by receiv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ssion Limit - This field contains the maximum number that is imposed to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tal number of TCP ports, or UDP ports, or the sum of the tw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r ICMP Identifiers, or the sum of the three, depending on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lue in the Session Type field, that the specific user can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uring CGN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532720" y="6308640"/>
            <a:ext cx="3603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 fontScale="66000"/>
          </a:bodyPr>
          <a:p>
            <a:pPr marL="197640" indent="-19764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2000" y="36000"/>
            <a:ext cx="871236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FrutigerNext LT Medium"/>
              </a:rPr>
              <a:t>Report NAT44 TCP/UDP Port Allocation Range via RADIUS</a:t>
            </a:r>
            <a:endParaRPr b="0" lang="en-US" sz="2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49" name=""/>
          <p:cNvSpPr/>
          <p:nvPr/>
        </p:nvSpPr>
        <p:spPr>
          <a:xfrm>
            <a:off x="6084720" y="847800"/>
            <a:ext cx="1727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852720" y="2276640"/>
            <a:ext cx="2519640" cy="292680"/>
            <a:chOff x="3852720" y="2276640"/>
            <a:chExt cx="2519640" cy="292680"/>
          </a:xfrm>
        </p:grpSpPr>
        <p:sp>
          <p:nvSpPr>
            <p:cNvPr id="251" name=""/>
            <p:cNvSpPr/>
            <p:nvPr/>
          </p:nvSpPr>
          <p:spPr>
            <a:xfrm>
              <a:off x="4211640" y="2276640"/>
              <a:ext cx="187308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Access Requ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52720" y="2276640"/>
              <a:ext cx="25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757080" y="2133720"/>
            <a:ext cx="2519640" cy="293760"/>
            <a:chOff x="757080" y="2133720"/>
            <a:chExt cx="2519640" cy="293760"/>
          </a:xfrm>
        </p:grpSpPr>
        <p:sp>
          <p:nvSpPr>
            <p:cNvPr id="254" name=""/>
            <p:cNvSpPr/>
            <p:nvPr/>
          </p:nvSpPr>
          <p:spPr>
            <a:xfrm>
              <a:off x="1260360" y="2134800"/>
              <a:ext cx="187344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Service Requ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7080" y="2133720"/>
              <a:ext cx="25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08000" y="1143000"/>
            <a:ext cx="763560" cy="846000"/>
            <a:chOff x="108000" y="1143000"/>
            <a:chExt cx="763560" cy="846000"/>
          </a:xfrm>
        </p:grpSpPr>
        <p:pic>
          <p:nvPicPr>
            <p:cNvPr id="257" name="" descr=""/>
            <p:cNvPicPr/>
            <p:nvPr/>
          </p:nvPicPr>
          <p:blipFill>
            <a:blip r:embed="rId1"/>
            <a:stretch/>
          </p:blipFill>
          <p:spPr>
            <a:xfrm>
              <a:off x="108000" y="1143000"/>
              <a:ext cx="546120" cy="35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438120" y="1498320"/>
              <a:ext cx="71640" cy="2890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9" name="" descr=""/>
            <p:cNvPicPr/>
            <p:nvPr/>
          </p:nvPicPr>
          <p:blipFill>
            <a:blip r:embed="rId2"/>
            <a:stretch/>
          </p:blipFill>
          <p:spPr>
            <a:xfrm>
              <a:off x="293760" y="1714320"/>
              <a:ext cx="577800" cy="27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0" name=""/>
          <p:cNvGrpSpPr/>
          <p:nvPr/>
        </p:nvGrpSpPr>
        <p:grpSpPr>
          <a:xfrm>
            <a:off x="3274920" y="1189080"/>
            <a:ext cx="504720" cy="360000"/>
            <a:chOff x="3274920" y="1189080"/>
            <a:chExt cx="504720" cy="360000"/>
          </a:xfrm>
        </p:grpSpPr>
        <p:sp>
          <p:nvSpPr>
            <p:cNvPr id="261" name=""/>
            <p:cNvSpPr/>
            <p:nvPr/>
          </p:nvSpPr>
          <p:spPr>
            <a:xfrm>
              <a:off x="3274920" y="1189080"/>
              <a:ext cx="504720" cy="36000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74920" y="1282320"/>
              <a:ext cx="504720" cy="2667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74920" y="1189080"/>
              <a:ext cx="503280" cy="181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395520" y="1221480"/>
              <a:ext cx="306720" cy="111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382560" y="1219680"/>
              <a:ext cx="304920" cy="10728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476520" y="1405080"/>
              <a:ext cx="120240" cy="1303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70760" y="1401120"/>
              <a:ext cx="120240" cy="13068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74920" y="1189080"/>
              <a:ext cx="504720" cy="36000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74920" y="1282320"/>
              <a:ext cx="504720" cy="2667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74920" y="1189080"/>
              <a:ext cx="503280" cy="181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95520" y="1221480"/>
              <a:ext cx="306720" cy="111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82560" y="1219680"/>
              <a:ext cx="304920" cy="10728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76520" y="1405080"/>
              <a:ext cx="120240" cy="1303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70760" y="1401120"/>
              <a:ext cx="120240" cy="13068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2987640" y="1577880"/>
            <a:ext cx="12970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NAT44/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49720" y="981000"/>
            <a:ext cx="7189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B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6443640" y="1273320"/>
            <a:ext cx="627120" cy="715680"/>
          </a:xfrm>
          <a:prstGeom prst="rect">
            <a:avLst/>
          </a:prstGeom>
          <a:ln w="0">
            <a:noFill/>
          </a:ln>
        </p:spPr>
      </p:pic>
      <p:sp>
        <p:nvSpPr>
          <p:cNvPr id="278" name="TextBox 41"/>
          <p:cNvSpPr/>
          <p:nvPr/>
        </p:nvSpPr>
        <p:spPr>
          <a:xfrm>
            <a:off x="7308720" y="1700280"/>
            <a:ext cx="1584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User profi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Username pw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IPv4 addres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CGN TCP/UDP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Session Lim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237440" y="1722600"/>
            <a:ext cx="1366920" cy="93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20000" y="17002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851280" y="2651040"/>
            <a:ext cx="2519280" cy="243360"/>
            <a:chOff x="3851280" y="2651040"/>
            <a:chExt cx="2519280" cy="243360"/>
          </a:xfrm>
        </p:grpSpPr>
        <p:sp>
          <p:nvSpPr>
            <p:cNvPr id="282" name=""/>
            <p:cNvSpPr/>
            <p:nvPr/>
          </p:nvSpPr>
          <p:spPr>
            <a:xfrm>
              <a:off x="4210200" y="2708280"/>
              <a:ext cx="201744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Access-Acce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51280" y="2651040"/>
              <a:ext cx="25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26920" y="2925720"/>
            <a:ext cx="2519640" cy="278280"/>
            <a:chOff x="826920" y="2925720"/>
            <a:chExt cx="2519640" cy="278280"/>
          </a:xfrm>
        </p:grpSpPr>
        <p:sp>
          <p:nvSpPr>
            <p:cNvPr id="285" name=""/>
            <p:cNvSpPr/>
            <p:nvPr/>
          </p:nvSpPr>
          <p:spPr>
            <a:xfrm>
              <a:off x="1273320" y="3017880"/>
              <a:ext cx="187308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Service Gran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26920" y="2925720"/>
              <a:ext cx="25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539640" y="206064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04000" y="20797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08000" y="907920"/>
            <a:ext cx="7189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564000" y="551808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6308640"/>
            <a:ext cx="1152360" cy="1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RADI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03280" y="6308640"/>
            <a:ext cx="1584360" cy="1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PPPoE/DHC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532720" y="6308640"/>
            <a:ext cx="3603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 fontScale="66000"/>
          </a:bodyPr>
          <a:p>
            <a:pPr marL="197640" indent="-19764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564000" y="5589720"/>
            <a:ext cx="3311640" cy="508680"/>
            <a:chOff x="3564000" y="5589720"/>
            <a:chExt cx="3311640" cy="508680"/>
          </a:xfrm>
        </p:grpSpPr>
        <p:sp>
          <p:nvSpPr>
            <p:cNvPr id="295" name=""/>
            <p:cNvSpPr/>
            <p:nvPr/>
          </p:nvSpPr>
          <p:spPr>
            <a:xfrm>
              <a:off x="3708360" y="5589720"/>
              <a:ext cx="25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64000" y="5694480"/>
              <a:ext cx="3311640" cy="40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Account Requ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buClr>
                  <a:srgbClr val="000000"/>
                </a:buClr>
                <a:buFont typeface="FrutigerNext LT Regular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CGN-Session-Range for de-allo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2556000" y="3573360"/>
            <a:ext cx="237492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CGN allocates a TCP/UD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port range for the 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64000" y="204300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127080" y="3357720"/>
            <a:ext cx="7037280" cy="0"/>
            <a:chOff x="127080" y="3357720"/>
            <a:chExt cx="7037280" cy="0"/>
          </a:xfrm>
        </p:grpSpPr>
        <p:sp>
          <p:nvSpPr>
            <p:cNvPr id="300" name=""/>
            <p:cNvSpPr/>
            <p:nvPr/>
          </p:nvSpPr>
          <p:spPr>
            <a:xfrm>
              <a:off x="3203640" y="335772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372360" y="335772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27080" y="335772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564000" y="403848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780000" y="4076640"/>
            <a:ext cx="3311280" cy="477000"/>
            <a:chOff x="3780000" y="4076640"/>
            <a:chExt cx="3311280" cy="477000"/>
          </a:xfrm>
        </p:grpSpPr>
        <p:sp>
          <p:nvSpPr>
            <p:cNvPr id="305" name=""/>
            <p:cNvSpPr/>
            <p:nvPr/>
          </p:nvSpPr>
          <p:spPr>
            <a:xfrm>
              <a:off x="3905280" y="4076640"/>
              <a:ext cx="25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80000" y="4149720"/>
              <a:ext cx="3311280" cy="40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Account Requ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buClr>
                  <a:srgbClr val="000000"/>
                </a:buClr>
                <a:buFont typeface="FrutigerNext LT Regular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CGN-Session-Range for allo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6804000" y="4005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9640" y="4005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536920" y="5046840"/>
            <a:ext cx="289872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CGN de-allocates a TCP/UDP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port range for the 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08000" y="4830840"/>
            <a:ext cx="7037280" cy="0"/>
            <a:chOff x="108000" y="4830840"/>
            <a:chExt cx="7037280" cy="0"/>
          </a:xfrm>
        </p:grpSpPr>
        <p:sp>
          <p:nvSpPr>
            <p:cNvPr id="311" name=""/>
            <p:cNvSpPr/>
            <p:nvPr/>
          </p:nvSpPr>
          <p:spPr>
            <a:xfrm>
              <a:off x="3184560" y="483084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53280" y="483084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08000" y="483084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6804000" y="5734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87440" y="5734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10920" y="-2736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        </a:t>
            </a:r>
            <a:r>
              <a:rPr b="0" lang="en-US" sz="3200" spc="-1" strike="noStrike">
                <a:solidFill>
                  <a:srgbClr val="990000"/>
                </a:solidFill>
                <a:latin typeface="FrutigerNext LT Medium"/>
              </a:rPr>
              <a:t>CGN-Session-Range Attribute</a:t>
            </a:r>
            <a:endParaRPr b="0" lang="en-US" sz="3200" spc="-1" strike="noStrike">
              <a:solidFill>
                <a:srgbClr val="990000"/>
              </a:solidFill>
              <a:latin typeface="FrutigerNext LT Medium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-468360" y="692280"/>
          <a:ext cx="968544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8360" y="692280"/>
                    <a:ext cx="968544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324000" y="3500280"/>
            <a:ext cx="8496000" cy="33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ype - TB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ength – (12 plus the length of Local Session ID) octe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-bit Flag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: The specified range is for alloc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: The specified range is for de-alloc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 (Session Type) 2 bi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: The session range is applied to TCP por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: The session range is applied to UDP port ran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: The session range is applied to both TCP and UDP port ran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: The session range is applied to ICMP identifier ran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532720" y="6308640"/>
            <a:ext cx="3603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 fontScale="66000"/>
          </a:bodyPr>
          <a:p>
            <a:pPr marL="197640" indent="-19764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4920" y="-27360"/>
            <a:ext cx="7961400" cy="9349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     </a:t>
            </a:r>
            <a:r>
              <a:rPr b="0" lang="en-US" sz="3200" spc="-1" strike="noStrike">
                <a:solidFill>
                  <a:srgbClr val="990000"/>
                </a:solidFill>
                <a:latin typeface="FrutigerNext LT Medium"/>
              </a:rPr>
              <a:t>CGN-Session-Range Attribute (Cont.)</a:t>
            </a:r>
            <a:endParaRPr b="0" lang="en-US" sz="32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22" name=""/>
          <p:cNvSpPr/>
          <p:nvPr/>
        </p:nvSpPr>
        <p:spPr>
          <a:xfrm>
            <a:off x="324000" y="981000"/>
            <a:ext cx="8496000" cy="56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served – set to zero by sender and ignored by receiv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Session Range Star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his field contains the smallest TCP/UDP Port number or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mallest ICMP identifier number in the session range, wh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tains consecutive TCP/UDP ports or ICMP identifier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pending on the value of Session Typ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Session Range E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his field contains the largest TCP/UDP Port number or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rgest ICMP identifier number in the session range, wh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tains consecutive TCP/UDP ports or ICMP identifier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pending on the value of Session Typ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IPv4 Addres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his field contains the IPv4 address assigned to the associ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scriber to be used in the external rea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ocal Session I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his is an optional field and if presents, it contains a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ssion identifier at the customer premise, such as MAC addre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face ID, VLAN ID, PPP sessions ID, VRF ID,etc.The length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his field equals to the total attribute length minus 12 octe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532720" y="6308640"/>
            <a:ext cx="3603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 fontScale="66000"/>
          </a:bodyPr>
          <a:p>
            <a:pPr marL="197640" indent="-19764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8000" y="-171720"/>
            <a:ext cx="87120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NAT44 Port Forwarding Configuration via RADIUS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25" name=""/>
          <p:cNvSpPr/>
          <p:nvPr/>
        </p:nvSpPr>
        <p:spPr>
          <a:xfrm>
            <a:off x="6084720" y="847800"/>
            <a:ext cx="1727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852720" y="2471760"/>
            <a:ext cx="2519640" cy="292680"/>
            <a:chOff x="3852720" y="2471760"/>
            <a:chExt cx="2519640" cy="292680"/>
          </a:xfrm>
        </p:grpSpPr>
        <p:sp>
          <p:nvSpPr>
            <p:cNvPr id="327" name=""/>
            <p:cNvSpPr/>
            <p:nvPr/>
          </p:nvSpPr>
          <p:spPr>
            <a:xfrm>
              <a:off x="4211640" y="2471760"/>
              <a:ext cx="187308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Access Requ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52720" y="2471760"/>
              <a:ext cx="25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757080" y="2174760"/>
            <a:ext cx="2519640" cy="294120"/>
            <a:chOff x="757080" y="2174760"/>
            <a:chExt cx="2519640" cy="294120"/>
          </a:xfrm>
        </p:grpSpPr>
        <p:sp>
          <p:nvSpPr>
            <p:cNvPr id="330" name=""/>
            <p:cNvSpPr/>
            <p:nvPr/>
          </p:nvSpPr>
          <p:spPr>
            <a:xfrm>
              <a:off x="1260360" y="2176200"/>
              <a:ext cx="187344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Service Requ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57080" y="2174760"/>
              <a:ext cx="25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08000" y="1143000"/>
            <a:ext cx="763560" cy="846000"/>
            <a:chOff x="108000" y="1143000"/>
            <a:chExt cx="763560" cy="846000"/>
          </a:xfrm>
        </p:grpSpPr>
        <p:pic>
          <p:nvPicPr>
            <p:cNvPr id="333" name="" descr=""/>
            <p:cNvPicPr/>
            <p:nvPr/>
          </p:nvPicPr>
          <p:blipFill>
            <a:blip r:embed="rId1"/>
            <a:stretch/>
          </p:blipFill>
          <p:spPr>
            <a:xfrm>
              <a:off x="108000" y="1143000"/>
              <a:ext cx="546120" cy="35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438120" y="1498320"/>
              <a:ext cx="71640" cy="2890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2"/>
            <a:stretch/>
          </p:blipFill>
          <p:spPr>
            <a:xfrm>
              <a:off x="293760" y="1714320"/>
              <a:ext cx="577800" cy="27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6" name=""/>
          <p:cNvGrpSpPr/>
          <p:nvPr/>
        </p:nvGrpSpPr>
        <p:grpSpPr>
          <a:xfrm>
            <a:off x="3274920" y="1189080"/>
            <a:ext cx="504720" cy="360000"/>
            <a:chOff x="3274920" y="1189080"/>
            <a:chExt cx="504720" cy="360000"/>
          </a:xfrm>
        </p:grpSpPr>
        <p:sp>
          <p:nvSpPr>
            <p:cNvPr id="337" name=""/>
            <p:cNvSpPr/>
            <p:nvPr/>
          </p:nvSpPr>
          <p:spPr>
            <a:xfrm>
              <a:off x="3274920" y="1189080"/>
              <a:ext cx="504720" cy="36000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74920" y="1282320"/>
              <a:ext cx="504720" cy="2667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274920" y="1189080"/>
              <a:ext cx="503280" cy="181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95520" y="1221480"/>
              <a:ext cx="306720" cy="111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382560" y="1219680"/>
              <a:ext cx="304920" cy="10728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76520" y="1405080"/>
              <a:ext cx="120240" cy="1303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470760" y="1401120"/>
              <a:ext cx="120240" cy="13068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74920" y="1189080"/>
              <a:ext cx="504720" cy="360000"/>
            </a:xfrm>
            <a:custGeom>
              <a:avLst/>
              <a:gdLst/>
              <a:ahLst/>
              <a:rect l="l" t="t" r="r" b="b"/>
              <a:pathLst>
                <a:path w="536" h="370">
                  <a:moveTo>
                    <a:pt x="0" y="94"/>
                  </a:move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4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8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4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9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2" y="65"/>
                  </a:lnTo>
                  <a:lnTo>
                    <a:pt x="526" y="71"/>
                  </a:lnTo>
                  <a:lnTo>
                    <a:pt x="528" y="75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4" y="91"/>
                  </a:lnTo>
                  <a:lnTo>
                    <a:pt x="534" y="94"/>
                  </a:lnTo>
                  <a:lnTo>
                    <a:pt x="536" y="94"/>
                  </a:lnTo>
                  <a:lnTo>
                    <a:pt x="536" y="106"/>
                  </a:lnTo>
                  <a:lnTo>
                    <a:pt x="536" y="117"/>
                  </a:lnTo>
                  <a:lnTo>
                    <a:pt x="536" y="129"/>
                  </a:lnTo>
                  <a:lnTo>
                    <a:pt x="536" y="141"/>
                  </a:lnTo>
                  <a:lnTo>
                    <a:pt x="534" y="152"/>
                  </a:lnTo>
                  <a:lnTo>
                    <a:pt x="534" y="164"/>
                  </a:lnTo>
                  <a:lnTo>
                    <a:pt x="534" y="175"/>
                  </a:lnTo>
                  <a:lnTo>
                    <a:pt x="534" y="187"/>
                  </a:lnTo>
                  <a:lnTo>
                    <a:pt x="534" y="198"/>
                  </a:lnTo>
                  <a:lnTo>
                    <a:pt x="534" y="210"/>
                  </a:lnTo>
                  <a:lnTo>
                    <a:pt x="534" y="222"/>
                  </a:lnTo>
                  <a:lnTo>
                    <a:pt x="534" y="233"/>
                  </a:lnTo>
                  <a:lnTo>
                    <a:pt x="534" y="245"/>
                  </a:lnTo>
                  <a:lnTo>
                    <a:pt x="534" y="256"/>
                  </a:lnTo>
                  <a:lnTo>
                    <a:pt x="534" y="268"/>
                  </a:lnTo>
                  <a:lnTo>
                    <a:pt x="534" y="279"/>
                  </a:lnTo>
                  <a:lnTo>
                    <a:pt x="534" y="283"/>
                  </a:lnTo>
                  <a:lnTo>
                    <a:pt x="534" y="287"/>
                  </a:lnTo>
                  <a:lnTo>
                    <a:pt x="532" y="293"/>
                  </a:lnTo>
                  <a:lnTo>
                    <a:pt x="528" y="297"/>
                  </a:lnTo>
                  <a:lnTo>
                    <a:pt x="526" y="300"/>
                  </a:lnTo>
                  <a:lnTo>
                    <a:pt x="522" y="304"/>
                  </a:lnTo>
                  <a:lnTo>
                    <a:pt x="516" y="310"/>
                  </a:lnTo>
                  <a:lnTo>
                    <a:pt x="513" y="314"/>
                  </a:lnTo>
                  <a:lnTo>
                    <a:pt x="509" y="318"/>
                  </a:lnTo>
                  <a:lnTo>
                    <a:pt x="501" y="322"/>
                  </a:lnTo>
                  <a:lnTo>
                    <a:pt x="495" y="326"/>
                  </a:lnTo>
                  <a:lnTo>
                    <a:pt x="488" y="329"/>
                  </a:lnTo>
                  <a:lnTo>
                    <a:pt x="480" y="333"/>
                  </a:lnTo>
                  <a:lnTo>
                    <a:pt x="474" y="335"/>
                  </a:lnTo>
                  <a:lnTo>
                    <a:pt x="465" y="339"/>
                  </a:lnTo>
                  <a:lnTo>
                    <a:pt x="455" y="343"/>
                  </a:lnTo>
                  <a:lnTo>
                    <a:pt x="447" y="345"/>
                  </a:lnTo>
                  <a:lnTo>
                    <a:pt x="438" y="349"/>
                  </a:lnTo>
                  <a:lnTo>
                    <a:pt x="426" y="351"/>
                  </a:lnTo>
                  <a:lnTo>
                    <a:pt x="417" y="354"/>
                  </a:lnTo>
                  <a:lnTo>
                    <a:pt x="405" y="356"/>
                  </a:lnTo>
                  <a:lnTo>
                    <a:pt x="394" y="358"/>
                  </a:lnTo>
                  <a:lnTo>
                    <a:pt x="384" y="360"/>
                  </a:lnTo>
                  <a:lnTo>
                    <a:pt x="371" y="364"/>
                  </a:lnTo>
                  <a:lnTo>
                    <a:pt x="359" y="364"/>
                  </a:lnTo>
                  <a:lnTo>
                    <a:pt x="348" y="366"/>
                  </a:lnTo>
                  <a:lnTo>
                    <a:pt x="334" y="366"/>
                  </a:lnTo>
                  <a:lnTo>
                    <a:pt x="323" y="368"/>
                  </a:lnTo>
                  <a:lnTo>
                    <a:pt x="309" y="368"/>
                  </a:lnTo>
                  <a:lnTo>
                    <a:pt x="296" y="370"/>
                  </a:lnTo>
                  <a:lnTo>
                    <a:pt x="282" y="370"/>
                  </a:lnTo>
                  <a:lnTo>
                    <a:pt x="269" y="370"/>
                  </a:lnTo>
                  <a:lnTo>
                    <a:pt x="256" y="370"/>
                  </a:lnTo>
                  <a:lnTo>
                    <a:pt x="240" y="370"/>
                  </a:lnTo>
                  <a:lnTo>
                    <a:pt x="227" y="368"/>
                  </a:lnTo>
                  <a:lnTo>
                    <a:pt x="213" y="368"/>
                  </a:lnTo>
                  <a:lnTo>
                    <a:pt x="202" y="366"/>
                  </a:lnTo>
                  <a:lnTo>
                    <a:pt x="188" y="366"/>
                  </a:lnTo>
                  <a:lnTo>
                    <a:pt x="177" y="364"/>
                  </a:lnTo>
                  <a:lnTo>
                    <a:pt x="163" y="364"/>
                  </a:lnTo>
                  <a:lnTo>
                    <a:pt x="152" y="360"/>
                  </a:lnTo>
                  <a:lnTo>
                    <a:pt x="140" y="358"/>
                  </a:lnTo>
                  <a:lnTo>
                    <a:pt x="129" y="356"/>
                  </a:lnTo>
                  <a:lnTo>
                    <a:pt x="119" y="354"/>
                  </a:lnTo>
                  <a:lnTo>
                    <a:pt x="108" y="351"/>
                  </a:lnTo>
                  <a:lnTo>
                    <a:pt x="96" y="349"/>
                  </a:lnTo>
                  <a:lnTo>
                    <a:pt x="89" y="345"/>
                  </a:lnTo>
                  <a:lnTo>
                    <a:pt x="79" y="343"/>
                  </a:lnTo>
                  <a:lnTo>
                    <a:pt x="69" y="339"/>
                  </a:lnTo>
                  <a:lnTo>
                    <a:pt x="60" y="335"/>
                  </a:lnTo>
                  <a:lnTo>
                    <a:pt x="54" y="333"/>
                  </a:lnTo>
                  <a:lnTo>
                    <a:pt x="46" y="329"/>
                  </a:lnTo>
                  <a:lnTo>
                    <a:pt x="39" y="326"/>
                  </a:lnTo>
                  <a:lnTo>
                    <a:pt x="31" y="322"/>
                  </a:lnTo>
                  <a:lnTo>
                    <a:pt x="27" y="318"/>
                  </a:lnTo>
                  <a:lnTo>
                    <a:pt x="21" y="314"/>
                  </a:lnTo>
                  <a:lnTo>
                    <a:pt x="16" y="310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4" y="297"/>
                  </a:lnTo>
                  <a:lnTo>
                    <a:pt x="2" y="293"/>
                  </a:lnTo>
                  <a:lnTo>
                    <a:pt x="0" y="287"/>
                  </a:lnTo>
                  <a:lnTo>
                    <a:pt x="0" y="283"/>
                  </a:lnTo>
                  <a:lnTo>
                    <a:pt x="0" y="279"/>
                  </a:lnTo>
                  <a:lnTo>
                    <a:pt x="0" y="275"/>
                  </a:lnTo>
                  <a:lnTo>
                    <a:pt x="0" y="274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74920" y="1282320"/>
              <a:ext cx="504720" cy="266760"/>
            </a:xfrm>
            <a:custGeom>
              <a:avLst/>
              <a:gdLst/>
              <a:ahLst/>
              <a:rect l="l" t="t" r="r" b="b"/>
              <a:pathLst>
                <a:path w="536" h="276">
                  <a:moveTo>
                    <a:pt x="534" y="185"/>
                  </a:moveTo>
                  <a:lnTo>
                    <a:pt x="534" y="189"/>
                  </a:lnTo>
                  <a:lnTo>
                    <a:pt x="534" y="193"/>
                  </a:lnTo>
                  <a:lnTo>
                    <a:pt x="532" y="199"/>
                  </a:lnTo>
                  <a:lnTo>
                    <a:pt x="528" y="203"/>
                  </a:lnTo>
                  <a:lnTo>
                    <a:pt x="526" y="206"/>
                  </a:lnTo>
                  <a:lnTo>
                    <a:pt x="522" y="210"/>
                  </a:lnTo>
                  <a:lnTo>
                    <a:pt x="516" y="216"/>
                  </a:lnTo>
                  <a:lnTo>
                    <a:pt x="513" y="220"/>
                  </a:lnTo>
                  <a:lnTo>
                    <a:pt x="509" y="224"/>
                  </a:lnTo>
                  <a:lnTo>
                    <a:pt x="501" y="228"/>
                  </a:lnTo>
                  <a:lnTo>
                    <a:pt x="495" y="232"/>
                  </a:lnTo>
                  <a:lnTo>
                    <a:pt x="488" y="235"/>
                  </a:lnTo>
                  <a:lnTo>
                    <a:pt x="480" y="239"/>
                  </a:lnTo>
                  <a:lnTo>
                    <a:pt x="474" y="241"/>
                  </a:lnTo>
                  <a:lnTo>
                    <a:pt x="465" y="245"/>
                  </a:lnTo>
                  <a:lnTo>
                    <a:pt x="455" y="249"/>
                  </a:lnTo>
                  <a:lnTo>
                    <a:pt x="447" y="251"/>
                  </a:lnTo>
                  <a:lnTo>
                    <a:pt x="438" y="255"/>
                  </a:lnTo>
                  <a:lnTo>
                    <a:pt x="426" y="257"/>
                  </a:lnTo>
                  <a:lnTo>
                    <a:pt x="417" y="260"/>
                  </a:lnTo>
                  <a:lnTo>
                    <a:pt x="405" y="262"/>
                  </a:lnTo>
                  <a:lnTo>
                    <a:pt x="394" y="264"/>
                  </a:lnTo>
                  <a:lnTo>
                    <a:pt x="384" y="266"/>
                  </a:lnTo>
                  <a:lnTo>
                    <a:pt x="371" y="270"/>
                  </a:lnTo>
                  <a:lnTo>
                    <a:pt x="359" y="270"/>
                  </a:lnTo>
                  <a:lnTo>
                    <a:pt x="348" y="272"/>
                  </a:lnTo>
                  <a:lnTo>
                    <a:pt x="334" y="272"/>
                  </a:lnTo>
                  <a:lnTo>
                    <a:pt x="323" y="274"/>
                  </a:lnTo>
                  <a:lnTo>
                    <a:pt x="309" y="274"/>
                  </a:lnTo>
                  <a:lnTo>
                    <a:pt x="296" y="276"/>
                  </a:lnTo>
                  <a:lnTo>
                    <a:pt x="282" y="276"/>
                  </a:lnTo>
                  <a:lnTo>
                    <a:pt x="269" y="276"/>
                  </a:lnTo>
                  <a:lnTo>
                    <a:pt x="256" y="276"/>
                  </a:lnTo>
                  <a:lnTo>
                    <a:pt x="240" y="276"/>
                  </a:lnTo>
                  <a:lnTo>
                    <a:pt x="227" y="274"/>
                  </a:lnTo>
                  <a:lnTo>
                    <a:pt x="213" y="274"/>
                  </a:lnTo>
                  <a:lnTo>
                    <a:pt x="202" y="272"/>
                  </a:lnTo>
                  <a:lnTo>
                    <a:pt x="188" y="272"/>
                  </a:lnTo>
                  <a:lnTo>
                    <a:pt x="177" y="270"/>
                  </a:lnTo>
                  <a:lnTo>
                    <a:pt x="163" y="270"/>
                  </a:lnTo>
                  <a:lnTo>
                    <a:pt x="152" y="266"/>
                  </a:lnTo>
                  <a:lnTo>
                    <a:pt x="140" y="264"/>
                  </a:lnTo>
                  <a:lnTo>
                    <a:pt x="129" y="262"/>
                  </a:lnTo>
                  <a:lnTo>
                    <a:pt x="119" y="260"/>
                  </a:lnTo>
                  <a:lnTo>
                    <a:pt x="108" y="257"/>
                  </a:lnTo>
                  <a:lnTo>
                    <a:pt x="96" y="255"/>
                  </a:lnTo>
                  <a:lnTo>
                    <a:pt x="89" y="251"/>
                  </a:lnTo>
                  <a:lnTo>
                    <a:pt x="79" y="249"/>
                  </a:lnTo>
                  <a:lnTo>
                    <a:pt x="69" y="245"/>
                  </a:lnTo>
                  <a:lnTo>
                    <a:pt x="60" y="241"/>
                  </a:lnTo>
                  <a:lnTo>
                    <a:pt x="54" y="239"/>
                  </a:lnTo>
                  <a:lnTo>
                    <a:pt x="46" y="235"/>
                  </a:lnTo>
                  <a:lnTo>
                    <a:pt x="39" y="232"/>
                  </a:lnTo>
                  <a:lnTo>
                    <a:pt x="31" y="228"/>
                  </a:lnTo>
                  <a:lnTo>
                    <a:pt x="27" y="224"/>
                  </a:lnTo>
                  <a:lnTo>
                    <a:pt x="21" y="220"/>
                  </a:lnTo>
                  <a:lnTo>
                    <a:pt x="16" y="216"/>
                  </a:lnTo>
                  <a:lnTo>
                    <a:pt x="12" y="210"/>
                  </a:lnTo>
                  <a:lnTo>
                    <a:pt x="8" y="206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536" y="0"/>
                  </a:lnTo>
                  <a:lnTo>
                    <a:pt x="536" y="12"/>
                  </a:lnTo>
                  <a:lnTo>
                    <a:pt x="536" y="23"/>
                  </a:lnTo>
                  <a:lnTo>
                    <a:pt x="536" y="35"/>
                  </a:lnTo>
                  <a:lnTo>
                    <a:pt x="536" y="47"/>
                  </a:lnTo>
                  <a:lnTo>
                    <a:pt x="534" y="58"/>
                  </a:lnTo>
                  <a:lnTo>
                    <a:pt x="534" y="70"/>
                  </a:lnTo>
                  <a:lnTo>
                    <a:pt x="534" y="81"/>
                  </a:lnTo>
                  <a:lnTo>
                    <a:pt x="534" y="93"/>
                  </a:lnTo>
                  <a:lnTo>
                    <a:pt x="534" y="104"/>
                  </a:lnTo>
                  <a:lnTo>
                    <a:pt x="534" y="116"/>
                  </a:lnTo>
                  <a:lnTo>
                    <a:pt x="534" y="128"/>
                  </a:lnTo>
                  <a:lnTo>
                    <a:pt x="534" y="139"/>
                  </a:lnTo>
                  <a:lnTo>
                    <a:pt x="534" y="151"/>
                  </a:lnTo>
                  <a:lnTo>
                    <a:pt x="534" y="162"/>
                  </a:lnTo>
                  <a:lnTo>
                    <a:pt x="534" y="174"/>
                  </a:lnTo>
                  <a:lnTo>
                    <a:pt x="534" y="185"/>
                  </a:lnTo>
                  <a:close/>
                </a:path>
              </a:pathLst>
            </a:custGeom>
            <a:solidFill>
              <a:srgbClr val="4d7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274920" y="1189080"/>
              <a:ext cx="503280" cy="181080"/>
            </a:xfrm>
            <a:custGeom>
              <a:avLst/>
              <a:gdLst/>
              <a:ahLst/>
              <a:rect l="l" t="t" r="r" b="b"/>
              <a:pathLst>
                <a:path w="534" h="185">
                  <a:moveTo>
                    <a:pt x="534" y="94"/>
                  </a:moveTo>
                  <a:lnTo>
                    <a:pt x="534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28" y="114"/>
                  </a:lnTo>
                  <a:lnTo>
                    <a:pt x="524" y="117"/>
                  </a:lnTo>
                  <a:lnTo>
                    <a:pt x="520" y="121"/>
                  </a:lnTo>
                  <a:lnTo>
                    <a:pt x="516" y="125"/>
                  </a:lnTo>
                  <a:lnTo>
                    <a:pt x="513" y="129"/>
                  </a:lnTo>
                  <a:lnTo>
                    <a:pt x="507" y="133"/>
                  </a:lnTo>
                  <a:lnTo>
                    <a:pt x="501" y="139"/>
                  </a:lnTo>
                  <a:lnTo>
                    <a:pt x="495" y="141"/>
                  </a:lnTo>
                  <a:lnTo>
                    <a:pt x="488" y="144"/>
                  </a:lnTo>
                  <a:lnTo>
                    <a:pt x="480" y="148"/>
                  </a:lnTo>
                  <a:lnTo>
                    <a:pt x="472" y="152"/>
                  </a:lnTo>
                  <a:lnTo>
                    <a:pt x="465" y="156"/>
                  </a:lnTo>
                  <a:lnTo>
                    <a:pt x="455" y="158"/>
                  </a:lnTo>
                  <a:lnTo>
                    <a:pt x="447" y="162"/>
                  </a:lnTo>
                  <a:lnTo>
                    <a:pt x="436" y="164"/>
                  </a:lnTo>
                  <a:lnTo>
                    <a:pt x="426" y="168"/>
                  </a:lnTo>
                  <a:lnTo>
                    <a:pt x="417" y="170"/>
                  </a:lnTo>
                  <a:lnTo>
                    <a:pt x="405" y="173"/>
                  </a:lnTo>
                  <a:lnTo>
                    <a:pt x="394" y="175"/>
                  </a:lnTo>
                  <a:lnTo>
                    <a:pt x="382" y="177"/>
                  </a:lnTo>
                  <a:lnTo>
                    <a:pt x="371" y="179"/>
                  </a:lnTo>
                  <a:lnTo>
                    <a:pt x="359" y="181"/>
                  </a:lnTo>
                  <a:lnTo>
                    <a:pt x="348" y="183"/>
                  </a:lnTo>
                  <a:lnTo>
                    <a:pt x="334" y="183"/>
                  </a:lnTo>
                  <a:lnTo>
                    <a:pt x="321" y="183"/>
                  </a:lnTo>
                  <a:lnTo>
                    <a:pt x="307" y="185"/>
                  </a:lnTo>
                  <a:lnTo>
                    <a:pt x="296" y="185"/>
                  </a:lnTo>
                  <a:lnTo>
                    <a:pt x="282" y="185"/>
                  </a:lnTo>
                  <a:lnTo>
                    <a:pt x="269" y="185"/>
                  </a:lnTo>
                  <a:lnTo>
                    <a:pt x="254" y="185"/>
                  </a:lnTo>
                  <a:lnTo>
                    <a:pt x="240" y="185"/>
                  </a:lnTo>
                  <a:lnTo>
                    <a:pt x="227" y="185"/>
                  </a:lnTo>
                  <a:lnTo>
                    <a:pt x="213" y="183"/>
                  </a:lnTo>
                  <a:lnTo>
                    <a:pt x="202" y="183"/>
                  </a:lnTo>
                  <a:lnTo>
                    <a:pt x="188" y="183"/>
                  </a:lnTo>
                  <a:lnTo>
                    <a:pt x="177" y="181"/>
                  </a:lnTo>
                  <a:lnTo>
                    <a:pt x="163" y="179"/>
                  </a:lnTo>
                  <a:lnTo>
                    <a:pt x="152" y="177"/>
                  </a:lnTo>
                  <a:lnTo>
                    <a:pt x="140" y="175"/>
                  </a:lnTo>
                  <a:lnTo>
                    <a:pt x="129" y="173"/>
                  </a:lnTo>
                  <a:lnTo>
                    <a:pt x="119" y="170"/>
                  </a:lnTo>
                  <a:lnTo>
                    <a:pt x="108" y="168"/>
                  </a:lnTo>
                  <a:lnTo>
                    <a:pt x="96" y="164"/>
                  </a:lnTo>
                  <a:lnTo>
                    <a:pt x="89" y="162"/>
                  </a:lnTo>
                  <a:lnTo>
                    <a:pt x="79" y="158"/>
                  </a:lnTo>
                  <a:lnTo>
                    <a:pt x="69" y="156"/>
                  </a:lnTo>
                  <a:lnTo>
                    <a:pt x="60" y="152"/>
                  </a:lnTo>
                  <a:lnTo>
                    <a:pt x="54" y="148"/>
                  </a:lnTo>
                  <a:lnTo>
                    <a:pt x="46" y="144"/>
                  </a:lnTo>
                  <a:lnTo>
                    <a:pt x="39" y="141"/>
                  </a:lnTo>
                  <a:lnTo>
                    <a:pt x="31" y="139"/>
                  </a:lnTo>
                  <a:lnTo>
                    <a:pt x="27" y="133"/>
                  </a:lnTo>
                  <a:lnTo>
                    <a:pt x="21" y="129"/>
                  </a:lnTo>
                  <a:lnTo>
                    <a:pt x="16" y="125"/>
                  </a:lnTo>
                  <a:lnTo>
                    <a:pt x="12" y="121"/>
                  </a:lnTo>
                  <a:lnTo>
                    <a:pt x="8" y="117"/>
                  </a:lnTo>
                  <a:lnTo>
                    <a:pt x="4" y="114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5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9" y="46"/>
                  </a:lnTo>
                  <a:lnTo>
                    <a:pt x="46" y="42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9" y="31"/>
                  </a:lnTo>
                  <a:lnTo>
                    <a:pt x="79" y="29"/>
                  </a:lnTo>
                  <a:lnTo>
                    <a:pt x="89" y="25"/>
                  </a:lnTo>
                  <a:lnTo>
                    <a:pt x="96" y="21"/>
                  </a:lnTo>
                  <a:lnTo>
                    <a:pt x="108" y="19"/>
                  </a:lnTo>
                  <a:lnTo>
                    <a:pt x="119" y="17"/>
                  </a:lnTo>
                  <a:lnTo>
                    <a:pt x="129" y="13"/>
                  </a:lnTo>
                  <a:lnTo>
                    <a:pt x="140" y="12"/>
                  </a:lnTo>
                  <a:lnTo>
                    <a:pt x="152" y="10"/>
                  </a:lnTo>
                  <a:lnTo>
                    <a:pt x="163" y="8"/>
                  </a:lnTo>
                  <a:lnTo>
                    <a:pt x="177" y="6"/>
                  </a:lnTo>
                  <a:lnTo>
                    <a:pt x="188" y="4"/>
                  </a:lnTo>
                  <a:lnTo>
                    <a:pt x="202" y="2"/>
                  </a:lnTo>
                  <a:lnTo>
                    <a:pt x="213" y="2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1" y="2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59" y="6"/>
                  </a:lnTo>
                  <a:lnTo>
                    <a:pt x="371" y="8"/>
                  </a:lnTo>
                  <a:lnTo>
                    <a:pt x="382" y="10"/>
                  </a:lnTo>
                  <a:lnTo>
                    <a:pt x="394" y="12"/>
                  </a:lnTo>
                  <a:lnTo>
                    <a:pt x="405" y="13"/>
                  </a:lnTo>
                  <a:lnTo>
                    <a:pt x="417" y="17"/>
                  </a:lnTo>
                  <a:lnTo>
                    <a:pt x="426" y="19"/>
                  </a:lnTo>
                  <a:lnTo>
                    <a:pt x="436" y="21"/>
                  </a:lnTo>
                  <a:lnTo>
                    <a:pt x="447" y="25"/>
                  </a:lnTo>
                  <a:lnTo>
                    <a:pt x="455" y="29"/>
                  </a:lnTo>
                  <a:lnTo>
                    <a:pt x="465" y="31"/>
                  </a:lnTo>
                  <a:lnTo>
                    <a:pt x="472" y="35"/>
                  </a:lnTo>
                  <a:lnTo>
                    <a:pt x="480" y="39"/>
                  </a:lnTo>
                  <a:lnTo>
                    <a:pt x="488" y="42"/>
                  </a:lnTo>
                  <a:lnTo>
                    <a:pt x="495" y="46"/>
                  </a:lnTo>
                  <a:lnTo>
                    <a:pt x="501" y="50"/>
                  </a:lnTo>
                  <a:lnTo>
                    <a:pt x="507" y="54"/>
                  </a:lnTo>
                  <a:lnTo>
                    <a:pt x="513" y="58"/>
                  </a:lnTo>
                  <a:lnTo>
                    <a:pt x="516" y="62"/>
                  </a:lnTo>
                  <a:lnTo>
                    <a:pt x="520" y="65"/>
                  </a:lnTo>
                  <a:lnTo>
                    <a:pt x="524" y="71"/>
                  </a:lnTo>
                  <a:lnTo>
                    <a:pt x="528" y="75"/>
                  </a:lnTo>
                  <a:lnTo>
                    <a:pt x="530" y="81"/>
                  </a:lnTo>
                  <a:lnTo>
                    <a:pt x="532" y="85"/>
                  </a:lnTo>
                  <a:lnTo>
                    <a:pt x="534" y="91"/>
                  </a:lnTo>
                  <a:lnTo>
                    <a:pt x="534" y="94"/>
                  </a:lnTo>
                  <a:close/>
                </a:path>
              </a:pathLst>
            </a:custGeom>
            <a:solidFill>
              <a:srgbClr val="7fa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395520" y="1221480"/>
              <a:ext cx="306720" cy="111240"/>
            </a:xfrm>
            <a:custGeom>
              <a:avLst/>
              <a:gdLst/>
              <a:ahLst/>
              <a:rect l="l" t="t" r="r" b="b"/>
              <a:pathLst>
                <a:path w="324" h="113">
                  <a:moveTo>
                    <a:pt x="0" y="58"/>
                  </a:moveTo>
                  <a:lnTo>
                    <a:pt x="161" y="0"/>
                  </a:lnTo>
                  <a:lnTo>
                    <a:pt x="324" y="58"/>
                  </a:lnTo>
                  <a:lnTo>
                    <a:pt x="161" y="113"/>
                  </a:lnTo>
                  <a:lnTo>
                    <a:pt x="0" y="58"/>
                  </a:lnTo>
                  <a:close/>
                  <a:moveTo>
                    <a:pt x="61" y="52"/>
                  </a:moveTo>
                  <a:lnTo>
                    <a:pt x="263" y="52"/>
                  </a:lnTo>
                  <a:lnTo>
                    <a:pt x="161" y="17"/>
                  </a:lnTo>
                  <a:lnTo>
                    <a:pt x="61" y="52"/>
                  </a:lnTo>
                  <a:close/>
                  <a:moveTo>
                    <a:pt x="261" y="63"/>
                  </a:moveTo>
                  <a:lnTo>
                    <a:pt x="63" y="63"/>
                  </a:lnTo>
                  <a:lnTo>
                    <a:pt x="161" y="96"/>
                  </a:lnTo>
                  <a:lnTo>
                    <a:pt x="261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382560" y="1219680"/>
              <a:ext cx="304920" cy="107280"/>
            </a:xfrm>
            <a:custGeom>
              <a:avLst/>
              <a:gdLst/>
              <a:ahLst/>
              <a:rect l="l" t="t" r="r" b="b"/>
              <a:pathLst>
                <a:path w="324" h="110">
                  <a:moveTo>
                    <a:pt x="0" y="56"/>
                  </a:moveTo>
                  <a:lnTo>
                    <a:pt x="161" y="0"/>
                  </a:lnTo>
                  <a:lnTo>
                    <a:pt x="324" y="56"/>
                  </a:lnTo>
                  <a:lnTo>
                    <a:pt x="161" y="110"/>
                  </a:lnTo>
                  <a:lnTo>
                    <a:pt x="0" y="56"/>
                  </a:lnTo>
                  <a:close/>
                  <a:moveTo>
                    <a:pt x="61" y="50"/>
                  </a:moveTo>
                  <a:lnTo>
                    <a:pt x="262" y="50"/>
                  </a:lnTo>
                  <a:lnTo>
                    <a:pt x="161" y="15"/>
                  </a:lnTo>
                  <a:lnTo>
                    <a:pt x="61" y="50"/>
                  </a:lnTo>
                  <a:close/>
                  <a:moveTo>
                    <a:pt x="260" y="60"/>
                  </a:moveTo>
                  <a:lnTo>
                    <a:pt x="63" y="60"/>
                  </a:lnTo>
                  <a:lnTo>
                    <a:pt x="161" y="94"/>
                  </a:lnTo>
                  <a:lnTo>
                    <a:pt x="2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76520" y="1405080"/>
              <a:ext cx="120240" cy="1303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13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6" y="9"/>
                  </a:lnTo>
                  <a:lnTo>
                    <a:pt x="108" y="11"/>
                  </a:lnTo>
                  <a:lnTo>
                    <a:pt x="110" y="13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6"/>
                  </a:lnTo>
                  <a:lnTo>
                    <a:pt x="117" y="30"/>
                  </a:lnTo>
                  <a:lnTo>
                    <a:pt x="117" y="32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3"/>
                  </a:lnTo>
                  <a:lnTo>
                    <a:pt x="110" y="55"/>
                  </a:lnTo>
                  <a:lnTo>
                    <a:pt x="108" y="59"/>
                  </a:lnTo>
                  <a:lnTo>
                    <a:pt x="106" y="59"/>
                  </a:lnTo>
                  <a:lnTo>
                    <a:pt x="104" y="61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0" y="65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4" y="67"/>
                  </a:lnTo>
                  <a:lnTo>
                    <a:pt x="91" y="69"/>
                  </a:lnTo>
                  <a:lnTo>
                    <a:pt x="87" y="69"/>
                  </a:lnTo>
                  <a:lnTo>
                    <a:pt x="8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3" y="75"/>
                  </a:lnTo>
                  <a:lnTo>
                    <a:pt x="87" y="77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4" y="96"/>
                  </a:lnTo>
                  <a:lnTo>
                    <a:pt x="129" y="132"/>
                  </a:lnTo>
                  <a:lnTo>
                    <a:pt x="104" y="132"/>
                  </a:lnTo>
                  <a:lnTo>
                    <a:pt x="87" y="104"/>
                  </a:lnTo>
                  <a:lnTo>
                    <a:pt x="81" y="98"/>
                  </a:lnTo>
                  <a:lnTo>
                    <a:pt x="77" y="94"/>
                  </a:lnTo>
                  <a:lnTo>
                    <a:pt x="75" y="88"/>
                  </a:lnTo>
                  <a:lnTo>
                    <a:pt x="71" y="86"/>
                  </a:lnTo>
                  <a:lnTo>
                    <a:pt x="69" y="82"/>
                  </a:lnTo>
                  <a:lnTo>
                    <a:pt x="66" y="80"/>
                  </a:lnTo>
                  <a:lnTo>
                    <a:pt x="64" y="78"/>
                  </a:lnTo>
                  <a:lnTo>
                    <a:pt x="62" y="77"/>
                  </a:lnTo>
                  <a:lnTo>
                    <a:pt x="60" y="77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4" y="73"/>
                  </a:lnTo>
                  <a:lnTo>
                    <a:pt x="52" y="73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20" y="73"/>
                  </a:lnTo>
                  <a:lnTo>
                    <a:pt x="20" y="132"/>
                  </a:lnTo>
                  <a:lnTo>
                    <a:pt x="0" y="132"/>
                  </a:lnTo>
                  <a:close/>
                  <a:moveTo>
                    <a:pt x="20" y="57"/>
                  </a:moveTo>
                  <a:lnTo>
                    <a:pt x="62" y="57"/>
                  </a:lnTo>
                  <a:lnTo>
                    <a:pt x="64" y="57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3" y="57"/>
                  </a:lnTo>
                  <a:lnTo>
                    <a:pt x="75" y="55"/>
                  </a:lnTo>
                  <a:lnTo>
                    <a:pt x="79" y="55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5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28"/>
                  </a:lnTo>
                  <a:lnTo>
                    <a:pt x="94" y="26"/>
                  </a:lnTo>
                  <a:lnTo>
                    <a:pt x="94" y="25"/>
                  </a:lnTo>
                  <a:lnTo>
                    <a:pt x="92" y="23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6" y="13"/>
                  </a:lnTo>
                  <a:lnTo>
                    <a:pt x="20" y="13"/>
                  </a:lnTo>
                  <a:lnTo>
                    <a:pt x="2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70760" y="1401120"/>
              <a:ext cx="120240" cy="13068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0" y="133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1" y="19"/>
                  </a:lnTo>
                  <a:lnTo>
                    <a:pt x="113" y="21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115" y="29"/>
                  </a:lnTo>
                  <a:lnTo>
                    <a:pt x="117" y="30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3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09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1" y="63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7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0" y="69"/>
                  </a:lnTo>
                  <a:lnTo>
                    <a:pt x="86" y="71"/>
                  </a:lnTo>
                  <a:lnTo>
                    <a:pt x="8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0" y="81"/>
                  </a:lnTo>
                  <a:lnTo>
                    <a:pt x="92" y="82"/>
                  </a:lnTo>
                  <a:lnTo>
                    <a:pt x="94" y="84"/>
                  </a:lnTo>
                  <a:lnTo>
                    <a:pt x="96" y="86"/>
                  </a:lnTo>
                  <a:lnTo>
                    <a:pt x="97" y="88"/>
                  </a:lnTo>
                  <a:lnTo>
                    <a:pt x="99" y="92"/>
                  </a:lnTo>
                  <a:lnTo>
                    <a:pt x="101" y="94"/>
                  </a:lnTo>
                  <a:lnTo>
                    <a:pt x="103" y="96"/>
                  </a:lnTo>
                  <a:lnTo>
                    <a:pt x="128" y="133"/>
                  </a:lnTo>
                  <a:lnTo>
                    <a:pt x="103" y="133"/>
                  </a:lnTo>
                  <a:lnTo>
                    <a:pt x="84" y="106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4" y="90"/>
                  </a:lnTo>
                  <a:lnTo>
                    <a:pt x="71" y="86"/>
                  </a:lnTo>
                  <a:lnTo>
                    <a:pt x="69" y="84"/>
                  </a:lnTo>
                  <a:lnTo>
                    <a:pt x="65" y="82"/>
                  </a:lnTo>
                  <a:lnTo>
                    <a:pt x="63" y="81"/>
                  </a:lnTo>
                  <a:lnTo>
                    <a:pt x="61" y="79"/>
                  </a:lnTo>
                  <a:lnTo>
                    <a:pt x="59" y="77"/>
                  </a:lnTo>
                  <a:lnTo>
                    <a:pt x="57" y="77"/>
                  </a:lnTo>
                  <a:lnTo>
                    <a:pt x="55" y="75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19" y="73"/>
                  </a:lnTo>
                  <a:lnTo>
                    <a:pt x="19" y="133"/>
                  </a:lnTo>
                  <a:lnTo>
                    <a:pt x="0" y="133"/>
                  </a:lnTo>
                  <a:close/>
                  <a:moveTo>
                    <a:pt x="19" y="57"/>
                  </a:moveTo>
                  <a:lnTo>
                    <a:pt x="61" y="57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72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50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4" y="27"/>
                  </a:lnTo>
                  <a:lnTo>
                    <a:pt x="94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0" y="21"/>
                  </a:lnTo>
                  <a:lnTo>
                    <a:pt x="88" y="19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6" y="15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987640" y="1577880"/>
            <a:ext cx="12970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NAT44/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249720" y="981000"/>
            <a:ext cx="7189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B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6443640" y="1273320"/>
            <a:ext cx="627120" cy="715680"/>
          </a:xfrm>
          <a:prstGeom prst="rect">
            <a:avLst/>
          </a:prstGeom>
          <a:ln w="0">
            <a:noFill/>
          </a:ln>
        </p:spPr>
      </p:pic>
      <p:sp>
        <p:nvSpPr>
          <p:cNvPr id="354" name="TextBox 41"/>
          <p:cNvSpPr/>
          <p:nvPr/>
        </p:nvSpPr>
        <p:spPr>
          <a:xfrm>
            <a:off x="7308720" y="1700280"/>
            <a:ext cx="1366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User profi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Username pw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IPv4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Internal 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External 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237440" y="1722600"/>
            <a:ext cx="1366920" cy="93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020000" y="17002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24360" y="3048120"/>
            <a:ext cx="324144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Access-Ac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CGN-Port-Forwarding-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51280" y="297648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30200" y="3703680"/>
            <a:ext cx="187344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Service Gra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(other paramet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26920" y="359244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924360" y="551808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924360" y="5622840"/>
            <a:ext cx="302400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Account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CGN-Port-Forwarding-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39640" y="2060640"/>
            <a:ext cx="0" cy="43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04000" y="2060640"/>
            <a:ext cx="0" cy="43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08000" y="907920"/>
            <a:ext cx="7189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84360" y="4473720"/>
            <a:ext cx="273708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(Create a port map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for the user, and associate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with the internal and ex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IP addre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564000" y="191628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564000" y="535320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572000" y="6308640"/>
            <a:ext cx="1152360" cy="1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RADI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403280" y="6308640"/>
            <a:ext cx="1584360" cy="1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PPPoE/DHC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532720" y="6308640"/>
            <a:ext cx="3603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 fontScale="66000"/>
          </a:bodyPr>
          <a:p>
            <a:pPr marL="197640" indent="-19764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01:40:59Z</dcterms:created>
  <dc:creator> Dean Cheng</dc:creator>
  <dc:description/>
  <dc:language>en-US</dc:language>
  <cp:lastModifiedBy>Dean Cheng</cp:lastModifiedBy>
  <dcterms:modified xsi:type="dcterms:W3CDTF">2011-07-07T17:47:49Z</dcterms:modified>
  <cp:revision>882</cp:revision>
  <dc:subject>MT-MI OSPFv3 for IPv4-Embedded IPv6</dc:subject>
  <dc:title>MT-MI OSPFv3 for IPv4-Embedded IPv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  <property fmtid="{D5CDD505-2E9C-101B-9397-08002B2CF9AE}" pid="3" name="sflag">
    <vt:lpwstr>1310060003</vt:lpwstr>
  </property>
</Properties>
</file>