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6480" y="-36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6480" y="892620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3DE-4B87-4554-B3F7-DD843AB6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76840" y="8926560"/>
            <a:ext cx="296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7FB-C217-482F-95B3-4C7F6FC9E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D7B-374C-4CD5-9B40-04392D0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16A-5A01-4F8F-9B79-0CBF2FE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C36-8A8A-4FD6-B326-E64BF543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6D2-5DBE-4ABD-AF74-7EFCB2CF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13A-965C-42E4-8BD4-177060D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84-1155-43B0-A5DF-FD1C631A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FA7-E726-4BCA-9DD8-AB3BB661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023-8F44-4323-9ADA-809FBFE4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F38-E9AF-40BE-A09A-56AE7C3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0A4-C8A3-4DD9-B02F-407449E0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5A1-CB1F-4776-88F1-9D66F27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D65-DBE6-4EF0-87FD-E974A427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D1CD-C5A3-40EA-8310-0BA421D47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RADIUS attribu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IPv6 access network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radext-ipv6-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en Zorn, Benoit Lourd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jcie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cet Sarikaya, David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ext W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ssues raised in WG-last call resolved a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new attribute added: stateful-ipv6-address-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ful-ipv6-address-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Needed to resolve ambiguity between SLAAC/DHCP-PD and DHCP IA_NA pools, all of which have different sc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This Attribute contains the name of an assigned pool that SHOULD be used to select an IPv6 address for the user.  If a NAS does not support address pools, the NAS MUST ignore this Attribute.  A summaryof the Stateful-IPv6-Address-Pool Attribute format is show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0                   1    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0 1 2 3 4 5 6 7 8 9 0 1 2 3 4 5 6 7 8 9 0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+-+-+-+-+-+-+-+-+-+-+-+-+-+-+-+-+-+-+-+-+-+-+-+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|     Type      |    Length     |     Str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+-+-+-+-+-+-+-+-+-+-+-+-+-+-+-+-+-+-+-+-+-+-+-+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quick WG Last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e on to IESG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jciech Dec</cp:lastModifiedBy>
  <dcterms:modified xsi:type="dcterms:W3CDTF">2011-07-25T07:32:08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8024631</vt:lpwstr>
  </property>
</Properties>
</file>