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6480" y="-36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6480" y="892620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72F9-ABB7-423B-AEC9-FA744A9F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76840" y="8926560"/>
            <a:ext cx="296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AEB8-32CF-4522-B015-FC1C138C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545-D77E-471A-AFBD-44B0686E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858-1743-4E5A-BC85-0069663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DE6-5756-4EC3-B0E3-1F2E2EF5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9FF-A294-4E75-ADFB-29E54360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DC6-E3E8-4C2D-A08B-FDCCA9D3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472-6DC8-4BF2-929D-525A843A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650-D0E7-4CB9-B901-6C9539C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D40-7D07-494F-B0B2-103B3950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7AF-B502-4F22-9118-5C95B41B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5D3-3A92-4363-A76C-18BA34D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064-4642-426C-B08B-EEF541C3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D61-AD5C-47CE-81F2-7D73D6B3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EA60-7F48-459C-8C20-51AAD84CA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6 RADIUS attribu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IPv6 access network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radext-ipv6-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en Zorn, Benoit Lourd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jcie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cet Sarikaya, David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ext W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ssues raised in WG-last call resolved a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new attribute added: stateful-ipv6-address-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ful-ipv6-address-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Needed to resolve ambiguity between SLAAC/DHCP-PD and DHCP IA_NA pools, all of which have different sc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This Attribute contains the name of an assigned pool that SHOULD be used to select an IPv6 address for the user.  If a NAS does not support address pools, the NAS MUST ignore this Attribute.  A summaryof the Stateful-IPv6-Address-Pool Attribute format is shown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0                   1    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0 1 2 3 4 5 6 7 8 9 0 1 2 3 4 5 6 7 8 9 0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+-+-+-+-+-+-+-+-+-+-+-+-+-+-+-+-+-+-+-+-+-+-+-+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|     Type      |    Length     |     Str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+-+-+-+-+-+-+-+-+-+-+-+-+-+-+-+-+-+-+-+-+-+-+-+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quick WG Last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e on to IESG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jciech Dec</cp:lastModifiedBy>
  <dcterms:modified xsi:type="dcterms:W3CDTF">2011-07-25T07:32:08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8024631</vt:lpwstr>
  </property>
</Properties>
</file>