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31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819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09872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379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1900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21212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9444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7676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" name=""/>
          <p:cNvSpPr/>
          <p:nvPr/>
        </p:nvSpPr>
        <p:spPr>
          <a:xfrm>
            <a:off x="10247040" y="8852040"/>
            <a:ext cx="141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chin"/>
                <a:ea typeface="Cochin"/>
              </a:rPr>
              <a:t>RADEXT - IETF 81</a:t>
            </a:r>
            <a:endParaRPr b="0" lang="en-US" sz="1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80964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198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76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5372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4282bi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- IETF 81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8" name=""/>
          <p:cNvSpPr/>
          <p:nvPr/>
        </p:nvSpPr>
        <p:spPr>
          <a:xfrm>
            <a:off x="5197320" y="6743880"/>
            <a:ext cx="2594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Alan DeKok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  <a:ea typeface="Cochin"/>
              </a:rPr>
              <a:t>FreeRADIUS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74360" y="253800"/>
            <a:ext cx="11442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What’s wrong with 4282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Realms are ASCII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38744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EAP and RADIUS are UTF-8 clean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Bidi recommendations are unworkable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Unassigned code points are prohibited!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No one implements Section 2.4 req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52920" indent="-65124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anonicalization is at proxies?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How to fix i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2" name=""/>
          <p:cNvSpPr/>
          <p:nvPr/>
        </p:nvSpPr>
        <p:spPr>
          <a:xfrm>
            <a:off x="1270080" y="276876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Leave i18n issues to other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Define realm as a FQDN within DN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Solves the registry problem, too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Push canonicalization to the edge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68580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Not to intermediate proxie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Issue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4" name=""/>
          <p:cNvSpPr/>
          <p:nvPr/>
        </p:nvSpPr>
        <p:spPr>
          <a:xfrm>
            <a:off x="1270080" y="276876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Home servers can do canonicalization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Supplicants find this difficul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DNS lookups using realm name are still problematic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Questions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6" name=""/>
          <p:cNvSpPr/>
          <p:nvPr/>
        </p:nvSpPr>
        <p:spPr>
          <a:xfrm>
            <a:off x="1270080" y="276876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Draft is expired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29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  <a:ea typeface="Cochin"/>
              </a:rPr>
              <a:t>Draft will make progress once other work is finished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