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63216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1" marL="97524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2" marL="130824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3" marL="164160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4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5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6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3000"/>
          </a:bodyPr>
          <a:p>
            <a:pPr marL="53100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1" marL="81900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2" marL="109872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3" marL="137916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4" marL="166716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5" marL="166716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6" marL="166716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81900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1" marL="121212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2" marL="159444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3" marL="197676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4" marL="236988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5" marL="236988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6" marL="236988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" name=""/>
          <p:cNvSpPr/>
          <p:nvPr/>
        </p:nvSpPr>
        <p:spPr>
          <a:xfrm>
            <a:off x="10247040" y="8852040"/>
            <a:ext cx="141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chin"/>
                <a:ea typeface="Cochin"/>
              </a:rPr>
              <a:t>RADEXT - IETF 81</a:t>
            </a:r>
            <a:endParaRPr b="0" lang="en-US" sz="1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80964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1" marL="119808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2" marL="157608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3" marL="195372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4" marL="234216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5" marL="234216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6" marL="234216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63216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1" marL="97524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2" marL="130824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3" marL="164160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4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5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6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RADIUS Over DTLS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RADEXT - IETF 81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8" name=""/>
          <p:cNvSpPr/>
          <p:nvPr/>
        </p:nvSpPr>
        <p:spPr>
          <a:xfrm>
            <a:off x="5197320" y="6743880"/>
            <a:ext cx="25945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  <a:ea typeface="Cochin"/>
              </a:rPr>
              <a:t>Alan DeKok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  <a:ea typeface="Cochin"/>
              </a:rPr>
              <a:t>FreeRADIUS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hanges since IETF 80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None, sorry.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Changes from draft-dekok-radext-dtls-02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1" marL="14605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Name / date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1" marL="14605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TATUS -&gt; RFC 5997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1" marL="14605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Removed RFC 5378 disclaimer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Open Issues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Need to re-sync with RTLS draft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marL="14605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Double-check consistency, etc.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Would like review from Stig Venaas (radsecproxy)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Implementations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1" marL="14605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RadSecProxy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marL="14605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Jradius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marL="14605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FreeRADIUS (ongoing, expected Q3. 2011)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Questions?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1" marL="14605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Draft will make more progress once other documents are finished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