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31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819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09872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379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1900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21212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9444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7676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" name=""/>
          <p:cNvSpPr/>
          <p:nvPr/>
        </p:nvSpPr>
        <p:spPr>
          <a:xfrm>
            <a:off x="10247040" y="8852040"/>
            <a:ext cx="141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chin"/>
                <a:ea typeface="Cochin"/>
              </a:rPr>
              <a:t>RADEXT - IETF 81</a:t>
            </a:r>
            <a:endParaRPr b="0" lang="en-US" sz="1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80964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198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76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5372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Extended Attribut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- IETF 81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8" name=""/>
          <p:cNvSpPr/>
          <p:nvPr/>
        </p:nvSpPr>
        <p:spPr>
          <a:xfrm>
            <a:off x="5168160" y="6743880"/>
            <a:ext cx="26524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Alan DeKok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FreeRADIU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Avi Lior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Bridgewater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Flag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1 bit of “C” for Continuation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ame meaning as existing ext-attrs / WiMAX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7 bits of “reserved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We have no idea what to do with thes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It’s likely that these will never be used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Additional not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99324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4{1-6}.26 are VSAs, with fixed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4576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llows for many more </a:t>
            </a:r>
            <a:r>
              <a:rPr b="1" lang="en-US" sz="3600" spc="-1" strike="noStrike">
                <a:solidFill>
                  <a:srgbClr val="000000"/>
                </a:solidFill>
                <a:latin typeface="Cochin"/>
              </a:rPr>
              <a:t>standardized</a:t>
            </a: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 VSA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9324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4{1-6}.{241-255} are reserved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9324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No “experimental” or “implementation-specific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4576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ey have not been usefu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93240" indent="-678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Detailed instructions for IANA are included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97308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wo interoperable implementations: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1660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In FreeRADIUS “master” branch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marL="184788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http://git.freeradius.org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1660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IEA Softwar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marL="184788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chin"/>
              </a:rPr>
              <a:t>http://www.iea-software.com/products/radlogin4.cfm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marL="97308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BSD licensed library will be released this year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73080" indent="-66492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Looking for more!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Summary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~1.5K new attributes (many 1000’s with TLVs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Grouping via TLVs (proven to work in SDOs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tandard way to have “long” attrs (to 4K of data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Vendors have ~1.5K new VSAs to work with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draft includes simple test encoder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Helps with interoperability check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Questions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0" name=""/>
          <p:cNvSpPr/>
          <p:nvPr/>
        </p:nvSpPr>
        <p:spPr>
          <a:xfrm>
            <a:off x="1270080" y="276876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Who has read the draft?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Any feedback?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Who will implement it soon?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Motivation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discussions have been long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We need a solution soon (i.e. within 2-3 years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Other proposals were complex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ttribute audit shows the needs to be simpl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One Octet of Change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42960" y="6603840"/>
          <a:ext cx="10083960" cy="1866960"/>
        </p:xfrm>
        <a:graphic>
          <a:graphicData uri="http://schemas.openxmlformats.org/drawingml/2006/table">
            <a:tbl>
              <a:tblPr/>
              <a:tblGrid>
                <a:gridCol w="2521080"/>
                <a:gridCol w="2520720"/>
                <a:gridCol w="2521080"/>
                <a:gridCol w="2521080"/>
              </a:tblGrid>
              <a:tr h="186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Ext-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Value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..252 oct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49440" y="3162240"/>
          <a:ext cx="10083600" cy="1866960"/>
        </p:xfrm>
        <a:graphic>
          <a:graphicData uri="http://schemas.openxmlformats.org/drawingml/2006/table">
            <a:tbl>
              <a:tblPr/>
              <a:tblGrid>
                <a:gridCol w="2501640"/>
                <a:gridCol w="2539800"/>
                <a:gridCol w="5042160"/>
              </a:tblGrid>
              <a:tr h="186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Value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..252 oct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2122200" y="2438280"/>
            <a:ext cx="114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Now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5" name=""/>
          <p:cNvSpPr/>
          <p:nvPr/>
        </p:nvSpPr>
        <p:spPr>
          <a:xfrm>
            <a:off x="1788480" y="5867280"/>
            <a:ext cx="4211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Extended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hat’s pretty much it.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teal” one octet from “Value” for extended type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llocate 4 attributes of this format (241..244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56*4 =~ 1K new attribute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hould be enough for the forseeable futur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Grouping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lexible grouping by defining a TLV data typ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lready in WiMAX, 3GPP2, and other SDOs / vendors.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ode is widely deployed in production systems 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41440" y="6388200"/>
          <a:ext cx="10185480" cy="2082600"/>
        </p:xfrm>
        <a:graphic>
          <a:graphicData uri="http://schemas.openxmlformats.org/drawingml/2006/table">
            <a:tbl>
              <a:tblPr/>
              <a:tblGrid>
                <a:gridCol w="3394800"/>
                <a:gridCol w="3395520"/>
                <a:gridCol w="3395160"/>
              </a:tblGrid>
              <a:tr h="20826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TLV-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TLV-Lengt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Value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..253 oct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LV Properti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an carry any existing or future data type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Including TLVs.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Multiple TLVs can be carried in one Ext-Attr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Nested </a:t>
            </a:r>
            <a:r>
              <a:rPr b="0" i="1" lang="en-US" sz="3600" spc="-1" strike="noStrike">
                <a:solidFill>
                  <a:srgbClr val="000000"/>
                </a:solidFill>
                <a:latin typeface="Cochi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 concatenated 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Nesting is limited only by TLV-Length field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53 / 3 =~ 80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Practicalities show a depth of 5 is sufficien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Naming: Not just 8 bit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We need to name the new attribute types.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Use OID style “dotted number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41.{1-255}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41.1 “This-Is-A-New-attr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Versu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1 “User-Name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chin"/>
              </a:rPr>
              <a:t>Naming applies only for the IANA registry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LV Naming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Leverage the same “dotted number” notation!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241.1.2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IUS Attr 241, of type “ext-attr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Extended Attr 1, data type “tlv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LV 2, data type “integer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llows for ~250 fields in a struc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Extends type space past 1K attribute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“</a:t>
            </a: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Long” Attribut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Leverage the Ext-Type format, and add “flags”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Allocate 2 attributes of this type (245, 246)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marL="6858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238400" y="6858000"/>
          <a:ext cx="10096200" cy="2019240"/>
        </p:xfrm>
        <a:graphic>
          <a:graphicData uri="http://schemas.openxmlformats.org/drawingml/2006/table">
            <a:tbl>
              <a:tblPr/>
              <a:tblGrid>
                <a:gridCol w="2018880"/>
                <a:gridCol w="2019240"/>
                <a:gridCol w="2019600"/>
                <a:gridCol w="2019240"/>
                <a:gridCol w="2019240"/>
              </a:tblGrid>
              <a:tr h="2026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Ext-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Fla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 oct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Value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chin"/>
                          <a:ea typeface="ヒラギノ明朝 ProN W3"/>
                        </a:rPr>
                        <a:t>1..251 oct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chin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1333800" y="5931000"/>
            <a:ext cx="677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Extended format with flag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