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E00B-559B-4663-AE0E-01785FC45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5D04-A4A3-45FC-B3C1-1BFFD4BE2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465A-0AF4-46AF-B0EC-BA3455916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should allow for reading sensor data from 20 sensors within 10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45A8-20FC-459A-B328-37EC22FF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ing RPL’s locally independent operation (discovery, maintenance, RIPPLE algorithm) with the deterministic, centralized management and paradigm according to which process automation wireless networks are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 considerations – how does discovery and maintenance of DODAG and routes affect the life of the battery life which as all of you know, is crucial in process automation instr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and global DODAG repair -&gt; route integrity and a continuous guarantee of path diversity is crucial for process automation wireless field devices given that various latencies (typically quite strict) need to be guarant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72FE-1E59-4E21-BA9C-70635BA5B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flow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lass: 0-5, per RFC5673, 3.1 [Note: 3 bits suffices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=Emergency action; 1=Closed-loop regulatory control; 2=Closed-loop supervisory control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=Open-loop control; 4=Alerting; 5=Logging and downloading / uploading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ity: Periodic, Cyclic, Acyclic [Note: 2 bits suffices for specifying the class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eriodi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: 1-250 ms, 1-250 0,25 s intervals, 1-250 m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permissible delivery jitter (% of period to 200%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fraction of periodic transmission slots used (%) [Note: 3 bits should suffice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ycli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 repetition interval: 1-250 ms, 1-250 0,25 s intervals, 1-250 m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permissible transmission jitter (% of min repetition interval to 200%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fraction of cyclic transmission slots used (%) [Note: 8 bits should suffice, in 0,5% increments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cycli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 expected repetition interval: 1-250 ms, 1-250 0,25 s intervals, 1-250 m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permissible transmission jitter (% of min expected repetition interval to 200%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Note: If the concept of a mean applies, the flow is cyclic, not acyclic. *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(relative to most flows with same service class and period): ++ / + / 0 / - [Note: 2 bits suffices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class: peer-to-peer (P2P), publish-subscribe (P2MP), source-sink (MP2MP) [Note: 2 bits suffices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/* Note: In most cases, P2MP is to a single destination, and MP2MP is to a redundant set 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logically equivalent destinations. Intermediary N-cast may be used for either. *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8302-5679-4B1A-8B35-8F7A8ECC7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CFA-DA18-4EF7-B4ED-41842A8E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48A-583E-4CC7-9359-CAE622C0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83A-FAA1-4908-8FE9-1130749C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497-C81A-41A4-BBC7-700D3A33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DFA-E858-4404-8369-E5109AFB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D5C-21E1-4A37-9312-F548EF93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506-B972-4012-BF38-8D0A7FA7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AA7-0CDF-46F2-AB93-2C76E227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2B9-47D6-4618-A97F-3226834B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D47-5CFD-4803-910D-F1F11485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80A-5397-459E-B6C4-4A69FFF8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755-134C-498A-904F-35054934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BF31B78D-DB35-4B33-8360-70A22B43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0 – Roll WG – 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89E01B1A-554C-4EA2-A84F-053950DF5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PL indust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bility statement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TF 81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ft-phinney-rpl-industrial-applicability-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Phin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cal Thub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ert Assim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tstrapping / Link m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A100.11a, WirelessHART, WIA-PA provide secure bootstrap, so a device can find a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hannel? Default, provisioned before or at device installation, initial low capacity; at link level this is ‘out of the bo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 moves rapidly to secure, alternate, scheduled control channel via OTA 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RPL can play over the control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MA channel/slot allocation is ‘chicken &amp; egg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50BEB4C6-9386-47E4-9650-96F955248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go wirel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6504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rocess optimization and more accurate predictive maintenance increase profit; 1% improvement in a refinery with a $1.5B annual profit leads to $40k/day ($15M/yr) more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more and different sensors can be justified economically, if they can be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ire buried in conduit has a high installation and maintenance cost, with long lead times to change, and is difficult to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: wireless sensors in non-critical applications, designed for the industrial environment: temperature, corrosion, intrinsic safety, lack of power sources (particularly when there is no w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ritical control loops, use wireless control room links with controllers located in the field, possibly connected over local w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9FC162B7-7B94-4A3A-808B-F0D3B890E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reless B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04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Hz and 1Hz are common rates for primary process control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ost high-rate wireless devices are 1 hop from a BR, the BRs are transmitting or receiving during most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ocast, which requires two receiving BRs, increases that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placement for collocated BRs is problematic, due to the need to separate the antennae to avoid the near/far problem, where receiver front-ends overload from any nearby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process environments have few places to mount a BR 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a low-cost high-capacity multi-channel shared-antenna BR (which also shares LNA and PA) makes enormous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ch a multi-channel BR can't transmit on any channel while receiving on others (due to the near/far prob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co-scheduling of channels and alignment of time slots in which the BR is active, including alignment of potential Acks in those time s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2C7A16AA-8AB7-4D34-9821-F43AA9743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504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link types, optimized for minimal energy and interference at varying degrees of per-trial communication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use FEC selectively when links suppor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adjust xmit power (e.g. emergency safety message within 1s; required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operating tradeoffs use differe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L separates links by OF/constraints/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D892156F-8DE9-42C9-91D1-E66030618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early Ju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ed 00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Phinney,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Technical Advisor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SC 65C (http://iec.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SC 65C/WG 1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SC 65C/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Assimiti, co-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A100.11a co-editor (http://isa.o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cal Thubert, co-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A100.11a co-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/RPL co-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C288A23D-0585-4372-9DE2-AA2D0A04F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speci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ial networks evolved concurrent with I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Control  and Factory Automation goals differ from those of IT – sch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low latency and high cyclic determi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ExxonMobil Baytown refinery near Houston (Texas), 100 hectares (40 sq. miles) with 12 control rooms (CRs)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refining CRs localized to a few hectares each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CRs that span the plant and interact with the other 10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chemical plant adjacent to refin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st plants potentially reap the most profit from small productivity improvements, thus are more willing to innovate (in stages) and to fund proven new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E9622396-7492-456A-91CE-1BEDA6189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 control example: a refin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 and actuator usually close: &lt;1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of critical loops can be wire-interconn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-quality (noisy, intermittent) field power often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room typically 500m to 2km d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red: power + signal carried together on one twisted 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meet intrinsic safety regulations: ~40mW/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25-pair to 100-pair wire bundles in buried cond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reless is most attractive for this long, costly l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requirement is ≥ 5yr battery life for field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ery replacement is often very costly or 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power harvesting strongly des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BEC8FA95-0621-41E9-8AB0-D814B5D46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-critical process control mess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process measurements (value+status): publish/subscribe, published by device on fixed period, subscribed by assigned loop controller(s), which may be local, and by managing devices in remote control ro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loop controller outputs (value+status): also pub/sub, similar to process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ether these last two imply that controllers drive actuators while actuators report their state back to the same contro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larms, network and device alerts: source/sink, multicast to managing devices in remote control room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room commands to field devices: peer/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6AAB77E1-933C-40EB-9024-496332044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sh/subscribe 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interconnect for closed-loop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algorithms are designed to ride through loss of 1-3 successive periodic pub/sub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four successive periodic pub/sub reports not accep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actuator to go into a fallback contro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a system failure by the plant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Baytown example, should happen less than once/year across the entire refi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6ED16FE3-8730-4946-BF58-472182EBD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s mitigation strategies for wirel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ireless pub/su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eer/peer to line-powered router (usually a BR), which takes over any pub/sub multi-destin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devices 1 hop from BR except under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y: Wireless 95% per-message success rate implies up to 7 retries needed for any given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uocast (send once, two scheduled receiver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per-xmt success statistic from 95% to 99.7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s the above to 3 retries max, easing 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last resort, use wire for critical loc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7835B8B6-07C0-4FE0-A8F0-BD54A7038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mized vs. ad-hoc rou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: Exxon used supercomputers of the era for continuous time-critical control loop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ritical control, optimized routing can double network performance vs. ad-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trol impacts directly how much profit is extracted from raw materials (e.g. barrel of o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optimization can use existing plant databases and actual pairwise attenuation/fading as measured in-situ by operat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365F20FE-81D6-4D82-8093-3359D44CA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PL applic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L coexists with optimized routes, for construction of initial suboptimal routes and for repair of optimized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L is adequate for non-production phases (unit startup and shutdown), for emergency rerouting, for non-critical applications, for small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devices (e.g., cranes) may need R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using a reference (optimized) DODAG version from a centralized computer, RPL would provide local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9930C7BB-51D1-483F-B37F-E839E7B96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05:29:50Z</dcterms:created>
  <dc:creator/>
  <dc:description/>
  <cp:keywords/>
  <dc:language>en-US</dc:language>
  <cp:lastModifiedBy/>
  <dcterms:modified xsi:type="dcterms:W3CDTF">2011-07-29T18:26:29Z</dcterms:modified>
  <cp:revision>13</cp:revision>
  <dc:subject>RPL - ROLL</dc:subject>
  <dc:title>RPL (pronounced ripple) Routing Protocol for Low Power and Lossy Networks  IETF 81 status</dc:title>
</cp:coreProperties>
</file>