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4BF-8504-46AC-B90B-E904244E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1AA-4564-44C2-88BD-93C581CD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DD6-89D2-4C1F-BA73-F833307A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should allow for reading sensor data from 20 sensors within 10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47F3-1294-4737-B6CB-90EFF11D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ng RPL’s locally independent operation (discovery, maintenance, RIPPLE algorithm) with the deterministic, centralized management and paradigm according to which process automation wireless networks are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siderations – how does discovery and maintenance of DODAG and routes affect the life of the battery life which as all of you know, is crucial in process automation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and global DODAG repair -&gt; route integrity and a continuous guarantee of path diversity is crucial for process automation wireless field devices given that various latencies (typically quite strict) need to be guarant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F0F3-A69D-444F-BCC2-7292BBF3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flo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lass: 0-5, per RFC5673, 3.1 [Note: 3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=Emergency action; 1=Closed-loop regulatory control; 2=Closed-loop supervisory control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=Open-loop control; 4=Alerting; 5=Logging and downloading / uploading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ity: Periodic, Cyclic, Acyclic [Note: 2 bits suffices for specifying the clas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eriod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delivery jitter (% of period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fraction of periodic transmission slots used (%) [Note: 3 bits should suffice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ycl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repetition interval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transmission jitter (% of min repetition interval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fraction of cyclic transmission slots used (%) [Note: 8 bits should suffice, in 0,5% increment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cycli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expected repetition interval: 1-250 ms, 1-250 0,25 s intervals, 1-250 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permissible transmission jitter (% of min expected repetition interval to 200%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Note: If the concept of a mean applies, the flow is cyclic, not acyclic. *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(relative to most flows with same service class and period): ++ / + / 0 / - [Note: 2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class: peer-to-peer (P2P), publish-subscribe (P2MP), source-sink (MP2MP) [Note: 2 bits suffice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/* Note: In most cases, P2MP is to a single destination, and MP2MP is to a redundant set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logically equivalent destinations. Intermediary N-cast may be used for either. *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1350-ABE2-4B1C-9716-1C0D522B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6C-0B5F-49C1-9FB9-2202F8E8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8F2-55CE-4366-AFF5-02BFD1BC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87-5F07-4C1A-8C8A-9091BEB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07F-5763-4EC4-889F-FF20012D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FA7-90AC-492C-9CCC-42817A0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63F-BACA-4835-8C98-56861A2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341-97C2-4B42-827C-A20DF7B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D1E-2A1B-42CC-A3C9-3A29F6F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686-D3AF-4A06-BFC8-D51471E2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120-50E8-4D36-A214-66D148B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D78-4ADD-4A7F-B0AF-6C4E956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53B-E815-4886-A780-203E60A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FCE703F9-2FF6-4CF4-A6B0-C4CACA53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0 – Roll WG –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3858825D-6466-4903-9FFE-C0E82A53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L indust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bility statemen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TF 81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phinney-rpl-industrial-applicability-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Phin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ert Assim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tstrapping / Link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100.11a, WirelessHART, WIA-PA provide secure bootstrap, so a device can find a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hannel? Default, provisioned before or at device installation, initial low capacity; at link level this is ‘out of the bo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 moves rapidly to secure, alternate, scheduled control channel via OTA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PL can play over the control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A channel/slot allocation is ‘chicken &amp; eg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D986759A-137E-45FA-B3FC-E2D6D6FF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go wirel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rocess optimization and more accurate predictive maintenance increase profit; 1% improvement in a refinery with a $1.5B annual profit leads to $40k/day ($15M/yr) more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more and different sensors can be justified economically, if they can be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ire buried in conduit has a high installation and maintenance cost, with long lead times to change, and is difficult to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: wireless sensors in non-critical applications, designed for the industrial environment: temperature, corrosion, intrinsic safety, lack of power sources (particularly when there is no w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ritical control loops, use wireless control room links with controllers located in the field, possibly connected over local 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A9659FBB-AD02-4A05-9D43-7D1F4600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B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Hz and 1Hz are common rates for primary process control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ost high-rate wireless devices are 1 hop from a BR, the BRs are transmitting or receiving during most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ocast, which requires two receiving BRs, increases tha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placement for collocated BRs is problematic, due to the need to separate the antennae to avoid the near/far problem, where receiver front-ends overload from any nearby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cess environments have few places to mount a BR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a low-cost high-capacity multi-channel shared-antenna BR (which also shares LNA and PA) makes enormous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ch a multi-channel BR can't transmit on any channel while receiving on others (due to the near/far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-scheduling of channels and alignment of time slots in which the BR is active, including alignment of potential Acks in those time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BCE936EF-386D-4962-8D88-C48489FE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504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link types, optimized for minimal energy and interference at varying degrees of per-trial communication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use FEC selectively when links suppo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adjust xmit power (e.g. emergency safety message within 1s; requir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perating tradeoffs use differe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separates links by OF/constraints/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2E822169-71BB-452B-9FA9-7E8D1838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early Ju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 00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Phinney,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Technical Adviso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 (http://iec.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/WG 1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C 65C/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Assimiti, co-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100.11a co-editor (http://isa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Thubert, co-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100.11a co-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/RPL co-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FC329174-2186-4B6C-9435-02BD8760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spe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networks evolved concurrent with 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Control  and Factory Automation goals differ from those of IT – sch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low latency and high cyclic determi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ExxonMobil Baytown refinery near Houston (Texas), 100 hectares (40 sq. miles) with 12 control rooms (CRs)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refining CRs localized to a few hectares each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CRs that span the plant and interact with the other 10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chemical plant adjacent to refin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st plants potentially reap the most profit from small productivity improvements, thus are more willing to innovate (in stages) and to fund proven new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532AC881-1751-4DC7-B230-AB471D00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control example: a refi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and actuator usually close: &lt;1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of critical loops can be wire-interconn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-quality (noisy, intermittent) field power often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room typically 500m to 2km d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d: power + signal carried together on one twisted 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eet intrinsic safety regulations: ~40mW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25-pair to 100-pair wire bundles in buried con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less is most attractive for this long, costly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requirement is ≥ 5yr battery life for fi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ry replacement is often very costly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power harvesting strongly des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C9F7B0D4-57ED-4501-9770-A3295605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-critical process control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process measurements (value+status): publish/subscribe, published by device on fixed period, subscribed by assigned loop controller(s), which may be local, and by managing devices in remote control ro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loop controller outputs (value+status): also pub/sub, similar to process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these last two imply that controllers drive actuators while actuators report their state back to the same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larms, network and device alerts: source/sink, multicast to managing devices in remote control roo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oom commands to field devices: peer/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37B594C6-51E5-436C-AD96-81FAC575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sh/subscribe 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interconnect for closed-loo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lgorithms are designed to ride through loss of 1-3 successive periodic pub/sub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four successive periodic pub/sub reports not accep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actuator to go into a fallback contro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 system failure by the pla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Baytown example, should happen less than once/year across the entire refi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5BB79AC4-E7EA-440D-BB99-BEAFDE07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mitigation strategies for wirel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reless pub/su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eer/peer to line-powered router (usually a BR), which takes over any pub/sub multi-destin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evices 1 hop from BR except under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y: Wireless 95% per-message success rate implies up to 7 retries needed for any given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uocast (send once, two scheduled receiver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per-xmt success statistic from 95% to 99.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above to 3 retries max, easing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last resort, use wire for critical loc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9B461484-A8AB-4EB7-A133-6AAA00D4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ized vs. ad-hoc ro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Exxon used supercomputers of the era for continuous time-critical control loop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ritical control, optimized routing can double network performance vs. ad-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trol impacts directly how much profit is extracted from raw materials (e.g. barrel of o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optimization can use existing plant databases and actual pairwise attenuation/fading as measured in-situ by opera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A37D1327-B75B-409C-9FFC-DEB3567B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PL applic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coexists with optimized routes, for construction of initial suboptimal routes and for repair of optimized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L is adequate for non-production phases (unit startup and shutdown), for emergency rerouting, for non-critical applications, for small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devices (e.g., cranes) may need R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 reference (optimized) DODAG version from a centralized computer, RPL would provide local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#</a:t>
            </a:r>
            <a:fld id="{32C3A1D4-3B83-47BC-8E06-022ACC89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1 – ROLL WG –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05:29:50Z</dcterms:created>
  <dc:creator/>
  <dc:description/>
  <cp:keywords/>
  <dc:language>en-US</dc:language>
  <cp:lastModifiedBy/>
  <dcterms:modified xsi:type="dcterms:W3CDTF">2011-07-29T18:26:29Z</dcterms:modified>
  <cp:revision>13</cp:revision>
  <dc:subject>RPL - ROLL</dc:subject>
  <dc:title>RPL (pronounced ripple) Routing Protocol for Low Power and Lossy Networks  IETF 81 status</dc:title>
</cp:coreProperties>
</file>