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5AB5F2-FAFE-4F31-9B8E-8E7708D16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07234-D602-43CC-8948-A87D767D1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76FDC0-CEBB-4946-9772-E665F26907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1B3BBD-62C2-4F38-A393-8084D4C8E0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BF3BC-FD4A-4DAC-BDC2-6803C4342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403C6-0D43-4D7C-A617-B9B4C2FF6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8AC1E-40AD-4F3C-BFA2-703388ECF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6F7B3-2F6C-46A7-87B8-52900C83B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49B5D-33F1-41A4-83A3-CFE4438C1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32A3E-763B-451B-B914-AF6D1B1EB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8168F-56B4-41CC-97D6-682E0F438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97B14-5949-41ED-B492-7EA4F0E847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496ED-CA37-4F71-9735-308A2192FAC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2130120"/>
            <a:ext cx="84978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outing Area Open Meeting</a:t>
            </a:r>
            <a:br>
              <a:rPr sz="4000"/>
            </a:br>
            <a:br>
              <a:rPr sz="1200"/>
            </a:br>
            <a:r>
              <a:rPr b="0" lang="en-GB" sz="4000" spc="-1" strike="noStrike">
                <a:solidFill>
                  <a:srgbClr val="000000"/>
                </a:solidFill>
                <a:latin typeface="Arial"/>
              </a:rPr>
              <a:t>Qu</a:t>
            </a:r>
            <a:r>
              <a:rPr b="0" lang="en-GB" sz="4000" spc="-1" strike="noStrike">
                <a:solidFill>
                  <a:srgbClr val="000000"/>
                </a:solidFill>
                <a:latin typeface="Arial"/>
                <a:ea typeface="Calibri"/>
              </a:rPr>
              <a:t>é</a:t>
            </a:r>
            <a:r>
              <a:rPr b="0" lang="en-GB" sz="4000" spc="-1" strike="noStrike">
                <a:solidFill>
                  <a:srgbClr val="000000"/>
                </a:solidFill>
                <a:latin typeface="Arial"/>
              </a:rPr>
              <a:t>bec, July 2011</a:t>
            </a:r>
            <a:endParaRPr b="0" lang="en-US" sz="4000" spc="-1" strike="noStrike">
              <a:solidFill>
                <a:srgbClr val="000000"/>
              </a:solidFill>
              <a:latin typeface="Arial"/>
            </a:endParaRPr>
          </a:p>
        </p:txBody>
      </p:sp>
      <p:sp>
        <p:nvSpPr>
          <p:cNvPr id="42" name="PlaceHolder 2"/>
          <p:cNvSpPr>
            <a:spLocks noGrp="1"/>
          </p:cNvSpPr>
          <p:nvPr>
            <p:ph type="subTitle"/>
          </p:nvPr>
        </p:nvSpPr>
        <p:spPr>
          <a:xfrm>
            <a:off x="611280" y="3886200"/>
            <a:ext cx="813744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ea Directors</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rian Farrel &lt;adrian@olddog.co.uk&gt;</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ewart Bryant &lt;stbryant@cisco.com&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1556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Note Well</a:t>
            </a:r>
            <a:endParaRPr b="0" lang="en-US" sz="4000" spc="-1" strike="noStrike">
              <a:solidFill>
                <a:srgbClr val="000000"/>
              </a:solidFill>
              <a:latin typeface="Arial"/>
            </a:endParaRPr>
          </a:p>
        </p:txBody>
      </p:sp>
      <p:sp>
        <p:nvSpPr>
          <p:cNvPr id="44" name="PlaceHolder 2"/>
          <p:cNvSpPr>
            <a:spLocks noGrp="1"/>
          </p:cNvSpPr>
          <p:nvPr>
            <p:ph/>
          </p:nvPr>
        </p:nvSpPr>
        <p:spPr>
          <a:xfrm>
            <a:off x="457200" y="765000"/>
            <a:ext cx="8229600" cy="59040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IETF plenary session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IESG, or any member thereof on behalf of the IESG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IETF mailing list, including the IETF list itself, any working group or design team list, or any other list functioning under IETF auspices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IETF working group or portion thereof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IAB or any member thereof on behalf of the IAB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FC Editor or the Internet-Drafts function </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IETF Contributions are subject to the rules of RFC 5378 and RFC 3979 (updated by RFC 4879).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ease consult RFC 5378 and RFC 3979 for detail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articipant in any IETF activity is deemed to accept all IETF rules of process, as documented in Best Current Practices RFCs and IESG Statement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articipant in any IETF activity acknowledges that written, audio and video records of meetings may be made and may be available to the publi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ote Also…</a:t>
            </a:r>
            <a:endParaRPr b="0" lang="en-US" sz="4400" spc="-1" strike="noStrike">
              <a:solidFill>
                <a:srgbClr val="000000"/>
              </a:solidFill>
              <a:latin typeface="Arial"/>
            </a:endParaRPr>
          </a:p>
        </p:txBody>
      </p:sp>
      <p:sp>
        <p:nvSpPr>
          <p:cNvPr id="46" name="PlaceHolder 2"/>
          <p:cNvSpPr>
            <a:spLocks noGrp="1"/>
          </p:cNvSpPr>
          <p:nvPr>
            <p:ph/>
          </p:nvPr>
        </p:nvSpPr>
        <p:spPr>
          <a:xfrm>
            <a:off x="468360" y="1268280"/>
            <a:ext cx="8229600" cy="4525920"/>
          </a:xfrm>
          <a:prstGeom prst="rect">
            <a:avLst/>
          </a:prstGeom>
          <a:noFill/>
          <a:ln w="0">
            <a:noFill/>
          </a:ln>
        </p:spPr>
        <p:txBody>
          <a:bodyPr anchor="t">
            <a:normAutofit fontScale="92000"/>
          </a:bodyPr>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ease state your name clearly before speaking at the microphone</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dio streams and jabber </a:t>
            </a:r>
            <a:endParaRPr b="0" lang="en-US" sz="24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ttp://tools.ietf.org/agenda/81/</a:t>
            </a:r>
            <a:endParaRPr b="0" lang="en-US" sz="20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eting at rtgarea@jabber.ietf.org</a:t>
            </a:r>
            <a:endParaRPr b="0" lang="en-US" sz="20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uting Area mailing list</a:t>
            </a:r>
            <a:endParaRPr b="0" lang="en-US" sz="24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uting-discussion@ietf.org</a:t>
            </a:r>
            <a:endParaRPr b="0" lang="en-US" sz="20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uting Area wiki</a:t>
            </a:r>
            <a:endParaRPr b="0" lang="en-US" sz="24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ttp://trac.tools.ietf.org/area/rtg/trac/wiki/WikiStart</a:t>
            </a:r>
            <a:endParaRPr b="0" lang="en-US" sz="20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uth in advertising</a:t>
            </a:r>
            <a:endParaRPr b="0" lang="en-US" sz="24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rian is now funded by Juniper Networks</a:t>
            </a:r>
            <a:endParaRPr b="0" lang="en-US" sz="20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lue Sheets</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n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5920"/>
            <a:ext cx="8229600" cy="86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oday’s Agenda</a:t>
            </a:r>
            <a:endParaRPr b="0" lang="en-US" sz="4400" spc="-1" strike="noStrike">
              <a:solidFill>
                <a:srgbClr val="000000"/>
              </a:solidFill>
              <a:latin typeface="Arial"/>
            </a:endParaRPr>
          </a:p>
        </p:txBody>
      </p:sp>
      <p:sp>
        <p:nvSpPr>
          <p:cNvPr id="48" name="PlaceHolder 2"/>
          <p:cNvSpPr>
            <a:spLocks noGrp="1"/>
          </p:cNvSpPr>
          <p:nvPr>
            <p:ph/>
          </p:nvPr>
        </p:nvSpPr>
        <p:spPr>
          <a:xfrm>
            <a:off x="250920" y="981000"/>
            <a:ext cx="864216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ministrivia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king Group Repor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reenTE: Power-Aware Traffic Engineering (Beichuan Zha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pen Discussion / Any Other bus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orking Group Reports</a:t>
            </a:r>
            <a:endParaRPr b="0" lang="en-US" sz="4400" spc="-1" strike="noStrike">
              <a:solidFill>
                <a:srgbClr val="000000"/>
              </a:solidFill>
              <a:latin typeface="Arial"/>
            </a:endParaRPr>
          </a:p>
        </p:txBody>
      </p:sp>
      <p:sp>
        <p:nvSpPr>
          <p:cNvPr id="50" name="PlaceHolder 2"/>
          <p:cNvSpPr>
            <a:spLocks noGrp="1"/>
          </p:cNvSpPr>
          <p:nvPr>
            <p:ph/>
          </p:nvPr>
        </p:nvSpPr>
        <p:spPr>
          <a:xfrm>
            <a:off x="457200" y="981000"/>
            <a:ext cx="3898800" cy="4525920"/>
          </a:xfrm>
          <a:prstGeom prst="rect">
            <a:avLst/>
          </a:prstGeom>
          <a:noFill/>
          <a:ln w="0">
            <a:noFill/>
          </a:ln>
        </p:spPr>
        <p:txBody>
          <a:bodyPr anchor="t">
            <a:normAutofit fontScale="83000"/>
          </a:bodyPr>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BoFs this time</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FD </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CAMP </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S </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R </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IS </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RP</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2VPN</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3VPN </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ET </a:t>
            </a:r>
            <a:endParaRPr b="0" lang="en-US" sz="3200" spc="-1" strike="noStrike">
              <a:solidFill>
                <a:srgbClr val="000000"/>
              </a:solidFill>
              <a:latin typeface="Arial"/>
            </a:endParaRPr>
          </a:p>
        </p:txBody>
      </p:sp>
      <p:sp>
        <p:nvSpPr>
          <p:cNvPr id="51" name="Rectangle 4"/>
          <p:cNvSpPr/>
          <p:nvPr/>
        </p:nvSpPr>
        <p:spPr>
          <a:xfrm>
            <a:off x="4788000" y="981000"/>
            <a:ext cx="36097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PL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MPLS-TP</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P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WE3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TGW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D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RRP</a:t>
            </a:r>
            <a:endParaRPr b="0" lang="en-US" sz="3200" spc="-1" strike="noStrike">
              <a:solidFill>
                <a:srgbClr val="000000"/>
              </a:solidFill>
              <a:latin typeface="Arial"/>
            </a:endParaRPr>
          </a:p>
        </p:txBody>
      </p:sp>
      <p:sp>
        <p:nvSpPr>
          <p:cNvPr id="52" name="Rectangle 1"/>
          <p:cNvSpPr/>
          <p:nvPr/>
        </p:nvSpPr>
        <p:spPr>
          <a:xfrm>
            <a:off x="5148360" y="6237360"/>
            <a:ext cx="1295280" cy="43164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5T13:00:00Z</dcterms:created>
  <dc:creator>Adrian Farrel</dc:creator>
  <dc:description/>
  <dc:language>en-US</dc:language>
  <cp:lastModifiedBy>Adrian Farrel</cp:lastModifiedBy>
  <dcterms:modified xsi:type="dcterms:W3CDTF">2011-07-28T17:20:22Z</dcterms:modified>
  <cp:revision>57</cp:revision>
  <dc:subject/>
  <dc:title>RoutingAreaOpenMeeting</dc:title>
</cp:coreProperties>
</file>