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draft-kini-mpls-frr-ldp-01  |  IETF 81 Quebec City  |  July 24 - 29, 2011  |  Page </a:t>
            </a:r>
            <a:fld id="{FC7BB716-063E-4A5A-822B-9C855DA10B2E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 (17)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3480" y="2112840"/>
            <a:ext cx="835164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MPLS Fast Re-route using extensions to LDP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draft-kini-mpls-frr-ldp-01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Authors: Sriganesh Kini &amp; Srikanth Narayanan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IETF 81 Quebec City, July 2011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9740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ode failure protection fast re-routed traffic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4600" y="1370160"/>
            <a:ext cx="436680" cy="438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920" y="136512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8080" y="137628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38720" y="252108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8800" y="13651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6040" y="251316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6" idx="4"/>
            <a:endCxn id="260" idx="0"/>
          </p:cNvCxnSpPr>
          <p:nvPr/>
        </p:nvCxnSpPr>
        <p:spPr>
          <a:xfrm>
            <a:off x="2728800" y="1803240"/>
            <a:ext cx="7200" cy="7102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2" name=""/>
          <p:cNvCxnSpPr>
            <a:stCxn id="255" idx="2"/>
            <a:endCxn id="256" idx="6"/>
          </p:cNvCxnSpPr>
          <p:nvPr/>
        </p:nvCxnSpPr>
        <p:spPr>
          <a:xfrm flipH="1" flipV="1">
            <a:off x="2945520" y="1583640"/>
            <a:ext cx="469080" cy="54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3" name=""/>
          <p:cNvCxnSpPr>
            <a:stCxn id="255" idx="6"/>
            <a:endCxn id="257" idx="2"/>
          </p:cNvCxnSpPr>
          <p:nvPr/>
        </p:nvCxnSpPr>
        <p:spPr>
          <a:xfrm>
            <a:off x="3851280" y="1589040"/>
            <a:ext cx="497520" cy="72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4" name=""/>
          <p:cNvCxnSpPr>
            <a:stCxn id="259" idx="6"/>
            <a:endCxn id="256" idx="2"/>
          </p:cNvCxnSpPr>
          <p:nvPr/>
        </p:nvCxnSpPr>
        <p:spPr>
          <a:xfrm>
            <a:off x="1095120" y="1584000"/>
            <a:ext cx="141516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5" name=""/>
          <p:cNvCxnSpPr>
            <a:stCxn id="260" idx="6"/>
            <a:endCxn id="266" idx="2"/>
          </p:cNvCxnSpPr>
          <p:nvPr/>
        </p:nvCxnSpPr>
        <p:spPr>
          <a:xfrm>
            <a:off x="2952720" y="2731680"/>
            <a:ext cx="480240" cy="118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67" name=""/>
          <p:cNvCxnSpPr>
            <a:stCxn id="258" idx="0"/>
            <a:endCxn id="257" idx="4"/>
          </p:cNvCxnSpPr>
          <p:nvPr/>
        </p:nvCxnSpPr>
        <p:spPr>
          <a:xfrm flipV="1">
            <a:off x="4557240" y="1813680"/>
            <a:ext cx="10440" cy="7074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2371680" y="493704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st re-routed traffic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59" idx="5"/>
            <a:endCxn id="256" idx="3"/>
          </p:cNvCxnSpPr>
          <p:nvPr/>
        </p:nvCxnSpPr>
        <p:spPr>
          <a:xfrm>
            <a:off x="1031760" y="1739520"/>
            <a:ext cx="1542240" cy="10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70" name=""/>
          <p:cNvCxnSpPr>
            <a:stCxn id="260" idx="1"/>
            <a:endCxn id="256" idx="3"/>
          </p:cNvCxnSpPr>
          <p:nvPr/>
        </p:nvCxnSpPr>
        <p:spPr>
          <a:xfrm flipH="1" flipV="1">
            <a:off x="2572920" y="1739520"/>
            <a:ext cx="7200" cy="8373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71" name=""/>
          <p:cNvCxnSpPr>
            <a:stCxn id="260" idx="5"/>
            <a:endCxn id="266" idx="3"/>
          </p:cNvCxnSpPr>
          <p:nvPr/>
        </p:nvCxnSpPr>
        <p:spPr>
          <a:xfrm>
            <a:off x="2889360" y="2887200"/>
            <a:ext cx="606960" cy="118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72" name=""/>
          <p:cNvCxnSpPr>
            <a:stCxn id="266" idx="5"/>
            <a:endCxn id="258" idx="3"/>
          </p:cNvCxnSpPr>
          <p:nvPr/>
        </p:nvCxnSpPr>
        <p:spPr>
          <a:xfrm flipV="1">
            <a:off x="3805200" y="2894760"/>
            <a:ext cx="597600" cy="39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432240" y="2523960"/>
            <a:ext cx="436320" cy="4384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66" idx="6"/>
            <a:endCxn id="258" idx="2"/>
          </p:cNvCxnSpPr>
          <p:nvPr/>
        </p:nvCxnSpPr>
        <p:spPr>
          <a:xfrm flipV="1">
            <a:off x="3868560" y="2739240"/>
            <a:ext cx="470880" cy="39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74" name=""/>
          <p:cNvCxnSpPr>
            <a:stCxn id="258" idx="1"/>
            <a:endCxn id="257" idx="3"/>
          </p:cNvCxnSpPr>
          <p:nvPr/>
        </p:nvCxnSpPr>
        <p:spPr>
          <a:xfrm flipV="1">
            <a:off x="4401720" y="1750320"/>
            <a:ext cx="10440" cy="83412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>
            <a:off x="662040" y="5110200"/>
            <a:ext cx="1510560" cy="1008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76" name=""/>
          <p:cNvCxnSpPr/>
          <p:nvPr/>
        </p:nvCxnSpPr>
        <p:spPr>
          <a:xfrm>
            <a:off x="2882880" y="1739880"/>
            <a:ext cx="7200" cy="72252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</a:ln>
        </p:spPr>
      </p:cxnSp>
      <p:sp>
        <p:nvSpPr>
          <p:cNvPr id="277" name=""/>
          <p:cNvSpPr/>
          <p:nvPr/>
        </p:nvSpPr>
        <p:spPr>
          <a:xfrm>
            <a:off x="5238720" y="1420920"/>
            <a:ext cx="357660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RR traffic paths to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when node N fail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R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R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R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2863440" y="2435400"/>
            <a:ext cx="702360" cy="1800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5757840" y="3857760"/>
            <a:ext cx="2847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or entire network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8585a"/>
                </a:solidFill>
                <a:uFillTx/>
                <a:latin typeface="Arial"/>
              </a:rPr>
              <a:t>No ‘new’ labels needed in the network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6 additional label advertisements need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RLG failure protection example 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46640" y="228924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30440" y="13669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44840" y="31813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1400" y="319716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8800" y="13651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7200" y="22813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2" idx="3"/>
            <a:endCxn id="286" idx="0"/>
          </p:cNvCxnSpPr>
          <p:nvPr/>
        </p:nvCxnSpPr>
        <p:spPr>
          <a:xfrm flipH="1">
            <a:off x="2745720" y="1741320"/>
            <a:ext cx="748440" cy="5407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88" name=""/>
          <p:cNvCxnSpPr>
            <a:stCxn id="281" idx="0"/>
            <a:endCxn id="282" idx="5"/>
          </p:cNvCxnSpPr>
          <p:nvPr/>
        </p:nvCxnSpPr>
        <p:spPr>
          <a:xfrm flipH="1" flipV="1">
            <a:off x="3803400" y="1740960"/>
            <a:ext cx="762480" cy="54864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89" name=""/>
          <p:cNvCxnSpPr>
            <a:stCxn id="286" idx="4"/>
            <a:endCxn id="283" idx="1"/>
          </p:cNvCxnSpPr>
          <p:nvPr/>
        </p:nvCxnSpPr>
        <p:spPr>
          <a:xfrm>
            <a:off x="2746440" y="2719080"/>
            <a:ext cx="762480" cy="52596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  <p:cxnSp>
        <p:nvCxnSpPr>
          <p:cNvPr id="290" name=""/>
          <p:cNvCxnSpPr>
            <a:stCxn id="285" idx="6"/>
            <a:endCxn id="282" idx="2"/>
          </p:cNvCxnSpPr>
          <p:nvPr/>
        </p:nvCxnSpPr>
        <p:spPr>
          <a:xfrm>
            <a:off x="1095480" y="1584360"/>
            <a:ext cx="2335680" cy="21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91" name=""/>
          <p:cNvCxnSpPr>
            <a:stCxn id="281" idx="4"/>
            <a:endCxn id="283" idx="7"/>
          </p:cNvCxnSpPr>
          <p:nvPr/>
        </p:nvCxnSpPr>
        <p:spPr>
          <a:xfrm flipH="1">
            <a:off x="3817080" y="2727000"/>
            <a:ext cx="748440" cy="51804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  <p:sp>
        <p:nvSpPr>
          <p:cNvPr id="292" name=""/>
          <p:cNvSpPr/>
          <p:nvPr/>
        </p:nvSpPr>
        <p:spPr>
          <a:xfrm flipH="1">
            <a:off x="2784240" y="1719360"/>
            <a:ext cx="547560" cy="396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85" idx="7"/>
            <a:endCxn id="282" idx="1"/>
          </p:cNvCxnSpPr>
          <p:nvPr/>
        </p:nvCxnSpPr>
        <p:spPr>
          <a:xfrm>
            <a:off x="1031760" y="1428840"/>
            <a:ext cx="2463120" cy="21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94" name=""/>
          <p:cNvCxnSpPr>
            <a:stCxn id="282" idx="4"/>
            <a:endCxn id="286" idx="7"/>
          </p:cNvCxnSpPr>
          <p:nvPr/>
        </p:nvCxnSpPr>
        <p:spPr>
          <a:xfrm flipH="1">
            <a:off x="2899800" y="1804680"/>
            <a:ext cx="749880" cy="5403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95" name=""/>
          <p:cNvCxnSpPr>
            <a:stCxn id="286" idx="5"/>
            <a:endCxn id="283" idx="0"/>
          </p:cNvCxnSpPr>
          <p:nvPr/>
        </p:nvCxnSpPr>
        <p:spPr>
          <a:xfrm>
            <a:off x="2900160" y="2655720"/>
            <a:ext cx="764280" cy="52632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668160" y="228924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81" idx="3"/>
            <a:endCxn id="283" idx="0"/>
          </p:cNvCxnSpPr>
          <p:nvPr/>
        </p:nvCxnSpPr>
        <p:spPr>
          <a:xfrm flipH="1">
            <a:off x="3663720" y="2663640"/>
            <a:ext cx="746640" cy="51804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98" name=""/>
          <p:cNvCxnSpPr>
            <a:stCxn id="282" idx="4"/>
            <a:endCxn id="281" idx="1"/>
          </p:cNvCxnSpPr>
          <p:nvPr/>
        </p:nvCxnSpPr>
        <p:spPr>
          <a:xfrm>
            <a:off x="3649680" y="1804680"/>
            <a:ext cx="761040" cy="5482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99" name=""/>
          <p:cNvCxnSpPr>
            <a:stCxn id="284" idx="6"/>
            <a:endCxn id="283" idx="2"/>
          </p:cNvCxnSpPr>
          <p:nvPr/>
        </p:nvCxnSpPr>
        <p:spPr>
          <a:xfrm flipV="1">
            <a:off x="1107720" y="3400200"/>
            <a:ext cx="2337480" cy="165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00" name=""/>
          <p:cNvCxnSpPr>
            <a:stCxn id="296" idx="4"/>
            <a:endCxn id="284" idx="0"/>
          </p:cNvCxnSpPr>
          <p:nvPr/>
        </p:nvCxnSpPr>
        <p:spPr>
          <a:xfrm>
            <a:off x="887040" y="2727000"/>
            <a:ext cx="3960" cy="4705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01" name=""/>
          <p:cNvCxnSpPr>
            <a:stCxn id="285" idx="4"/>
            <a:endCxn id="296" idx="0"/>
          </p:cNvCxnSpPr>
          <p:nvPr/>
        </p:nvCxnSpPr>
        <p:spPr>
          <a:xfrm>
            <a:off x="878040" y="1803240"/>
            <a:ext cx="10080" cy="4867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02" name=""/>
          <p:cNvCxnSpPr>
            <a:stCxn id="284" idx="5"/>
            <a:endCxn id="283" idx="3"/>
          </p:cNvCxnSpPr>
          <p:nvPr/>
        </p:nvCxnSpPr>
        <p:spPr>
          <a:xfrm flipV="1">
            <a:off x="1044360" y="3555720"/>
            <a:ext cx="2463840" cy="165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03" name=""/>
          <p:cNvCxnSpPr>
            <a:stCxn id="285" idx="5"/>
            <a:endCxn id="296" idx="7"/>
          </p:cNvCxnSpPr>
          <p:nvPr/>
        </p:nvCxnSpPr>
        <p:spPr>
          <a:xfrm>
            <a:off x="1031400" y="1739880"/>
            <a:ext cx="10440" cy="61344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04" name=""/>
          <p:cNvCxnSpPr>
            <a:stCxn id="296" idx="5"/>
            <a:endCxn id="284" idx="7"/>
          </p:cNvCxnSpPr>
          <p:nvPr/>
        </p:nvCxnSpPr>
        <p:spPr>
          <a:xfrm>
            <a:off x="1041120" y="2664000"/>
            <a:ext cx="3960" cy="59760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 flipV="1">
            <a:off x="1228680" y="1695600"/>
            <a:ext cx="2695680" cy="17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29520" bIns="-2952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33720" y="1697040"/>
            <a:ext cx="619200" cy="403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89240" y="1789200"/>
            <a:ext cx="3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32119"/>
                </a:solidFill>
                <a:latin typeface="Arial"/>
              </a:rPr>
              <a:t>S-d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33600" y="1335240"/>
            <a:ext cx="3576600" cy="3706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RLG (link P-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, link R-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)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stination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, R are PLR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 is merge poin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 advertises its shortest path LSP label (S-d) to P and R for failure against SRL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71680" y="518148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raffic flow over shortest path LS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10" name=""/>
          <p:cNvCxnSpPr/>
          <p:nvPr/>
        </p:nvCxnSpPr>
        <p:spPr>
          <a:xfrm>
            <a:off x="662040" y="5354640"/>
            <a:ext cx="1510560" cy="100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11" name=""/>
          <p:cNvCxnSpPr>
            <a:stCxn id="305" idx="0"/>
          </p:cNvCxnSpPr>
          <p:nvPr/>
        </p:nvCxnSpPr>
        <p:spPr>
          <a:xfrm flipH="1">
            <a:off x="1226880" y="1714320"/>
            <a:ext cx="2160" cy="57204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3480" y="77400"/>
            <a:ext cx="799452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RLG failure protection fast re-routed traffic 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6640" y="228924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30440" y="13669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44840" y="31813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1400" y="319716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8800" y="13651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27200" y="22813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4" idx="3"/>
            <a:endCxn id="318" idx="0"/>
          </p:cNvCxnSpPr>
          <p:nvPr/>
        </p:nvCxnSpPr>
        <p:spPr>
          <a:xfrm flipH="1">
            <a:off x="2745720" y="1741320"/>
            <a:ext cx="748440" cy="5407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20" name=""/>
          <p:cNvCxnSpPr>
            <a:stCxn id="313" idx="0"/>
            <a:endCxn id="314" idx="5"/>
          </p:cNvCxnSpPr>
          <p:nvPr/>
        </p:nvCxnSpPr>
        <p:spPr>
          <a:xfrm flipH="1" flipV="1">
            <a:off x="3803400" y="1740960"/>
            <a:ext cx="762480" cy="54864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21" name=""/>
          <p:cNvCxnSpPr>
            <a:stCxn id="318" idx="4"/>
            <a:endCxn id="315" idx="1"/>
          </p:cNvCxnSpPr>
          <p:nvPr/>
        </p:nvCxnSpPr>
        <p:spPr>
          <a:xfrm>
            <a:off x="2746440" y="2719080"/>
            <a:ext cx="762480" cy="52596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  <p:cxnSp>
        <p:nvCxnSpPr>
          <p:cNvPr id="322" name=""/>
          <p:cNvCxnSpPr>
            <a:stCxn id="317" idx="6"/>
            <a:endCxn id="314" idx="2"/>
          </p:cNvCxnSpPr>
          <p:nvPr/>
        </p:nvCxnSpPr>
        <p:spPr>
          <a:xfrm>
            <a:off x="1095480" y="1584360"/>
            <a:ext cx="2335680" cy="21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23" name=""/>
          <p:cNvCxnSpPr>
            <a:stCxn id="313" idx="4"/>
            <a:endCxn id="315" idx="7"/>
          </p:cNvCxnSpPr>
          <p:nvPr/>
        </p:nvCxnSpPr>
        <p:spPr>
          <a:xfrm flipH="1">
            <a:off x="3817080" y="2727000"/>
            <a:ext cx="748440" cy="518040"/>
          </a:xfrm>
          <a:prstGeom prst="straightConnector1">
            <a:avLst/>
          </a:prstGeom>
          <a:ln w="12600">
            <a:solidFill>
              <a:srgbClr val="e32119"/>
            </a:solidFill>
            <a:miter/>
          </a:ln>
        </p:spPr>
      </p:cxnSp>
      <p:cxnSp>
        <p:nvCxnSpPr>
          <p:cNvPr id="324" name=""/>
          <p:cNvCxnSpPr>
            <a:stCxn id="317" idx="7"/>
            <a:endCxn id="314" idx="1"/>
          </p:cNvCxnSpPr>
          <p:nvPr/>
        </p:nvCxnSpPr>
        <p:spPr>
          <a:xfrm>
            <a:off x="1031760" y="1428840"/>
            <a:ext cx="2463120" cy="21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25" name=""/>
          <p:cNvCxnSpPr>
            <a:stCxn id="314" idx="4"/>
            <a:endCxn id="318" idx="7"/>
          </p:cNvCxnSpPr>
          <p:nvPr/>
        </p:nvCxnSpPr>
        <p:spPr>
          <a:xfrm flipH="1">
            <a:off x="2899800" y="1804680"/>
            <a:ext cx="749880" cy="5403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668160" y="228924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14" idx="4"/>
            <a:endCxn id="313" idx="1"/>
          </p:cNvCxnSpPr>
          <p:nvPr/>
        </p:nvCxnSpPr>
        <p:spPr>
          <a:xfrm>
            <a:off x="3649680" y="1804680"/>
            <a:ext cx="761040" cy="5482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28" name=""/>
          <p:cNvCxnSpPr>
            <a:stCxn id="316" idx="6"/>
            <a:endCxn id="315" idx="2"/>
          </p:cNvCxnSpPr>
          <p:nvPr/>
        </p:nvCxnSpPr>
        <p:spPr>
          <a:xfrm flipV="1">
            <a:off x="1107720" y="3400200"/>
            <a:ext cx="2337480" cy="165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29" name=""/>
          <p:cNvCxnSpPr>
            <a:stCxn id="326" idx="4"/>
            <a:endCxn id="316" idx="0"/>
          </p:cNvCxnSpPr>
          <p:nvPr/>
        </p:nvCxnSpPr>
        <p:spPr>
          <a:xfrm>
            <a:off x="887040" y="2727000"/>
            <a:ext cx="3960" cy="4705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30" name=""/>
          <p:cNvCxnSpPr>
            <a:stCxn id="317" idx="4"/>
            <a:endCxn id="326" idx="0"/>
          </p:cNvCxnSpPr>
          <p:nvPr/>
        </p:nvCxnSpPr>
        <p:spPr>
          <a:xfrm>
            <a:off x="878040" y="1803240"/>
            <a:ext cx="10080" cy="48672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331" name=""/>
          <p:cNvCxnSpPr>
            <a:stCxn id="316" idx="5"/>
            <a:endCxn id="315" idx="3"/>
          </p:cNvCxnSpPr>
          <p:nvPr/>
        </p:nvCxnSpPr>
        <p:spPr>
          <a:xfrm flipV="1">
            <a:off x="1044360" y="3555720"/>
            <a:ext cx="2463840" cy="165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32" name=""/>
          <p:cNvCxnSpPr>
            <a:stCxn id="317" idx="5"/>
            <a:endCxn id="326" idx="7"/>
          </p:cNvCxnSpPr>
          <p:nvPr/>
        </p:nvCxnSpPr>
        <p:spPr>
          <a:xfrm>
            <a:off x="1031400" y="1739880"/>
            <a:ext cx="10440" cy="61344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333" name=""/>
          <p:cNvCxnSpPr>
            <a:stCxn id="326" idx="5"/>
            <a:endCxn id="316" idx="7"/>
          </p:cNvCxnSpPr>
          <p:nvPr/>
        </p:nvCxnSpPr>
        <p:spPr>
          <a:xfrm>
            <a:off x="1041120" y="2664000"/>
            <a:ext cx="3960" cy="59760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4065480" y="2849400"/>
            <a:ext cx="247680" cy="27972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0320" bIns="4032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86200" y="2824200"/>
            <a:ext cx="247680" cy="27936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9960" bIns="39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71680" y="522612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st re-routed traffic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37" name=""/>
          <p:cNvCxnSpPr/>
          <p:nvPr/>
        </p:nvCxnSpPr>
        <p:spPr>
          <a:xfrm>
            <a:off x="662040" y="5398560"/>
            <a:ext cx="1510560" cy="1044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338" name=""/>
          <p:cNvCxnSpPr>
            <a:stCxn id="318" idx="6"/>
          </p:cNvCxnSpPr>
          <p:nvPr/>
        </p:nvCxnSpPr>
        <p:spPr>
          <a:xfrm flipV="1">
            <a:off x="2963520" y="1956960"/>
            <a:ext cx="687960" cy="54360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339" name=""/>
          <p:cNvCxnSpPr>
            <a:stCxn id="313" idx="2"/>
          </p:cNvCxnSpPr>
          <p:nvPr/>
        </p:nvCxnSpPr>
        <p:spPr>
          <a:xfrm flipH="1" flipV="1">
            <a:off x="3649320" y="1966320"/>
            <a:ext cx="697680" cy="54180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340" name=""/>
          <p:cNvCxnSpPr>
            <a:stCxn id="314" idx="3"/>
          </p:cNvCxnSpPr>
          <p:nvPr/>
        </p:nvCxnSpPr>
        <p:spPr>
          <a:xfrm flipH="1" flipV="1">
            <a:off x="1202760" y="1720440"/>
            <a:ext cx="2291400" cy="2088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</a:ln>
        </p:spPr>
      </p:cxnSp>
      <p:sp>
        <p:nvSpPr>
          <p:cNvPr id="341" name=""/>
          <p:cNvSpPr/>
          <p:nvPr/>
        </p:nvSpPr>
        <p:spPr>
          <a:xfrm>
            <a:off x="5238720" y="1420920"/>
            <a:ext cx="357660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RR traffic paths to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when SRLG fail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Q, M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Q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Q, M, 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Q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R, Q, M, 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, Q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Q, M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, Q,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 R, Q, M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S, N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342" name=""/>
          <p:cNvCxnSpPr/>
          <p:nvPr/>
        </p:nvCxnSpPr>
        <p:spPr>
          <a:xfrm flipH="1">
            <a:off x="1184040" y="1712520"/>
            <a:ext cx="33840" cy="65628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perational detail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er-nexthop protection can reduce number of BSP LSP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at happens when a shortest-path LSP is not available for tunneling 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plicit routing for BSP LSP using extensions to LD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rotocol Extens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ailure Element TLV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unneled FEC TLV (when label stacking not used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ackup Path Vector TLV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arison with other approach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DP over RSV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ess OpEx (managing one less protocol). Simplicity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ess protocol stat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ulti-path on backu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FA &amp; Not-via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ull coverag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-uses MPLS FRR infrastruct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 IP address management issu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nalyze applicabilit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Questions/Comment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Motivation and Goal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DP LSPs are widely deploy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Goal of sub 50msec recovery for traffic on routed paths (IGP shortest path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ull coverage need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olution should be self-contained. It should be independent of other protocols and mechanisms such as IP-FRR, RSVP-TE, IGP convergence etc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olution characteristic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ocal repair mechanism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omputation intensive tasks are performed much before the actual failure (during steady state)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nly PLR reacts to the failure trigger to recover the traffi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ctions at the PLR to recover the traffic are simple (and pre-computed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olution summar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8276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fined for link-state IGP. And for platform label spac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ackup shortest path (BSP) LDP LSP setup before failure whenever LFA does not exis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SP LSP starts at PLR and merges into shortest path LDP LSP tree. Merge point referred to as BSP-MP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st re-route action on detecting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LR label switches to pre-selected BSP LDP LS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tack label to aggregate failures. Use shortest-path LSP from PLR to BSP MP whenever possible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uta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67840" cy="4191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PT for a destin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ailure at PL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des upstream of failure in the SPT is affect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des not upstream of failure in the SPT is not affect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mpute SPT with “failure” excluded – Exclude-SP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lternate path from PLR to destination in Exclude-SPT merges back into SPT @ BSP-MP (not upstream of failure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SP LSP from PLR to BSP-MP protects the traffic under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PT &amp; Exclude-SP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666880"/>
            <a:ext cx="3808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9810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980720" y="26668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371600" y="19810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146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16146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300400"/>
            <a:ext cx="38916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9718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2860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9954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68128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19954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648320" y="26812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8120" y="199548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62864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162864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231444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9862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300400"/>
            <a:ext cx="38916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59560" y="199548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459200" y="268128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850080" y="19954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35680" y="162864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55000" y="162864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45160" y="231444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55000" y="29862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64480" y="230040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polog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733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733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lude-SP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66236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35480" y="4662360"/>
            <a:ext cx="38880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66236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45160" y="466236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4876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466236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16760" y="4662360"/>
            <a:ext cx="389160" cy="4431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876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876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1295280"/>
            <a:ext cx="2057400" cy="1524240"/>
          </a:xfrm>
          <a:prstGeom prst="ellipse">
            <a:avLst/>
          </a:prstGeom>
          <a:noFill/>
          <a:ln w="12600">
            <a:solidFill>
              <a:srgbClr val="58585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565308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97600" y="565308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5867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5653080"/>
            <a:ext cx="388800" cy="442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867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6232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P LS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51814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4097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4018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stream node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6000" y="1812960"/>
            <a:ext cx="830520" cy="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34200" y="1836720"/>
            <a:ext cx="830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159080"/>
            <a:ext cx="0" cy="46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6360" y="4172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ink failure protection exampl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76440" y="1314360"/>
            <a:ext cx="3576600" cy="3286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tect link P-D fail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r Destination </a:t>
            </a: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 is PL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 is merge poin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 advertises label </a:t>
            </a:r>
            <a:r>
              <a:rPr b="1" lang="en-US" sz="1800" spc="-1" strike="noStrike">
                <a:solidFill>
                  <a:srgbClr val="e32119"/>
                </a:solidFill>
                <a:latin typeface="Arial"/>
              </a:rPr>
              <a:t>N-d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to P for the backup shortest-path LS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2119"/>
                </a:solidFill>
                <a:latin typeface="Arial"/>
              </a:rPr>
              <a:t>N-d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is the shortest-path LDP LSP label at N for 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 uses shortest-path LSP from P to N to tunnel label </a:t>
            </a:r>
            <a:r>
              <a:rPr b="1" lang="en-US" sz="1800" spc="-1" strike="noStrike">
                <a:solidFill>
                  <a:srgbClr val="e32119"/>
                </a:solidFill>
                <a:latin typeface="Arial"/>
              </a:rPr>
              <a:t>N-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58800" y="1370160"/>
            <a:ext cx="4081320" cy="3213000"/>
            <a:chOff x="658800" y="1370160"/>
            <a:chExt cx="4081320" cy="3213000"/>
          </a:xfrm>
        </p:grpSpPr>
        <p:sp>
          <p:nvSpPr>
            <p:cNvPr id="150" name=""/>
            <p:cNvSpPr/>
            <p:nvPr/>
          </p:nvSpPr>
          <p:spPr>
            <a:xfrm>
              <a:off x="2471760" y="1370160"/>
              <a:ext cx="43632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77880" y="274176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03440" y="137628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94080" y="4145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8800" y="2732040"/>
              <a:ext cx="43632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84360" y="4145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58585a"/>
                  </a:solidFill>
                  <a:uFillTx/>
                  <a:latin typeface="Arial"/>
                </a:rPr>
                <a:t>D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cxnSp>
        <p:nvCxnSpPr>
          <p:cNvPr id="156" name=""/>
          <p:cNvCxnSpPr>
            <a:stCxn id="151" idx="4"/>
            <a:endCxn id="155" idx="0"/>
          </p:cNvCxnSpPr>
          <p:nvPr/>
        </p:nvCxnSpPr>
        <p:spPr>
          <a:xfrm>
            <a:off x="2697120" y="3179520"/>
            <a:ext cx="7200" cy="96588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grpSp>
        <p:nvGrpSpPr>
          <p:cNvPr id="157" name=""/>
          <p:cNvGrpSpPr/>
          <p:nvPr/>
        </p:nvGrpSpPr>
        <p:grpSpPr>
          <a:xfrm>
            <a:off x="1095120" y="1589040"/>
            <a:ext cx="3427920" cy="2775240"/>
            <a:chOff x="1095120" y="1589040"/>
            <a:chExt cx="3427920" cy="2775240"/>
          </a:xfrm>
        </p:grpSpPr>
        <p:cxnSp>
          <p:nvCxnSpPr>
            <p:cNvPr id="158" name=""/>
            <p:cNvCxnSpPr>
              <a:stCxn id="150" idx="4"/>
              <a:endCxn id="151" idx="0"/>
            </p:cNvCxnSpPr>
            <p:nvPr/>
          </p:nvCxnSpPr>
          <p:spPr>
            <a:xfrm>
              <a:off x="2690640" y="1807920"/>
              <a:ext cx="7200" cy="93420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  <p:cxnSp>
          <p:nvCxnSpPr>
            <p:cNvPr id="159" name=""/>
            <p:cNvCxnSpPr>
              <a:stCxn id="150" idx="6"/>
              <a:endCxn id="152" idx="2"/>
            </p:cNvCxnSpPr>
            <p:nvPr/>
          </p:nvCxnSpPr>
          <p:spPr>
            <a:xfrm>
              <a:off x="2908440" y="1589040"/>
              <a:ext cx="1395720" cy="720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  <p:cxnSp>
          <p:nvCxnSpPr>
            <p:cNvPr id="160" name=""/>
            <p:cNvCxnSpPr>
              <a:stCxn id="154" idx="6"/>
              <a:endCxn id="151" idx="2"/>
            </p:cNvCxnSpPr>
            <p:nvPr/>
          </p:nvCxnSpPr>
          <p:spPr>
            <a:xfrm>
              <a:off x="1095120" y="2951280"/>
              <a:ext cx="1383480" cy="100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  <p:cxnSp>
          <p:nvCxnSpPr>
            <p:cNvPr id="161" name=""/>
            <p:cNvCxnSpPr>
              <a:stCxn id="155" idx="6"/>
              <a:endCxn id="153" idx="2"/>
            </p:cNvCxnSpPr>
            <p:nvPr/>
          </p:nvCxnSpPr>
          <p:spPr>
            <a:xfrm>
              <a:off x="2921040" y="4363560"/>
              <a:ext cx="1373760" cy="108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  <p:cxnSp>
          <p:nvCxnSpPr>
            <p:cNvPr id="162" name=""/>
            <p:cNvCxnSpPr>
              <a:stCxn id="153" idx="0"/>
              <a:endCxn id="152" idx="4"/>
            </p:cNvCxnSpPr>
            <p:nvPr/>
          </p:nvCxnSpPr>
          <p:spPr>
            <a:xfrm flipV="1">
              <a:off x="4513320" y="1814040"/>
              <a:ext cx="10080" cy="2331360"/>
            </a:xfrm>
            <a:prstGeom prst="straightConnector1">
              <a:avLst/>
            </a:prstGeom>
            <a:ln w="12600">
              <a:solidFill>
                <a:srgbClr val="58585a"/>
              </a:solidFill>
              <a:miter/>
            </a:ln>
          </p:spPr>
        </p:cxnSp>
      </p:grpSp>
      <p:sp>
        <p:nvSpPr>
          <p:cNvPr id="163" name=""/>
          <p:cNvSpPr/>
          <p:nvPr/>
        </p:nvSpPr>
        <p:spPr>
          <a:xfrm>
            <a:off x="2860560" y="1878120"/>
            <a:ext cx="0" cy="752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3000" y="2089080"/>
            <a:ext cx="31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32119"/>
                </a:solidFill>
                <a:latin typeface="Arial"/>
              </a:rPr>
              <a:t>N-d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71680" y="493704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raffic flow over shortest path LS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62040" y="1744560"/>
            <a:ext cx="3705120" cy="3375360"/>
            <a:chOff x="662040" y="1744560"/>
            <a:chExt cx="3705120" cy="3375360"/>
          </a:xfrm>
        </p:grpSpPr>
        <p:cxnSp>
          <p:nvCxnSpPr>
            <p:cNvPr id="167" name=""/>
            <p:cNvCxnSpPr/>
            <p:nvPr/>
          </p:nvCxnSpPr>
          <p:spPr>
            <a:xfrm>
              <a:off x="1031760" y="3106800"/>
              <a:ext cx="1510560" cy="10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8" name=""/>
            <p:cNvCxnSpPr/>
            <p:nvPr/>
          </p:nvCxnSpPr>
          <p:spPr>
            <a:xfrm>
              <a:off x="2535120" y="1744560"/>
              <a:ext cx="7200" cy="10612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9" name=""/>
            <p:cNvCxnSpPr/>
            <p:nvPr/>
          </p:nvCxnSpPr>
          <p:spPr>
            <a:xfrm>
              <a:off x="2541600" y="3116160"/>
              <a:ext cx="7200" cy="109296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>
              <a:off x="4357440" y="1751040"/>
              <a:ext cx="10080" cy="2458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1" name=""/>
            <p:cNvCxnSpPr/>
            <p:nvPr/>
          </p:nvCxnSpPr>
          <p:spPr>
            <a:xfrm flipH="1">
              <a:off x="2856960" y="4208040"/>
              <a:ext cx="1500840" cy="1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2" name=""/>
            <p:cNvCxnSpPr/>
            <p:nvPr/>
          </p:nvCxnSpPr>
          <p:spPr>
            <a:xfrm>
              <a:off x="662040" y="5110200"/>
              <a:ext cx="1510560" cy="10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173" name=""/>
          <p:cNvCxnSpPr>
            <a:endCxn id="163" idx="0"/>
          </p:cNvCxnSpPr>
          <p:nvPr/>
        </p:nvCxnSpPr>
        <p:spPr>
          <a:xfrm flipH="1" flipV="1">
            <a:off x="2859840" y="1877760"/>
            <a:ext cx="1266120" cy="216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ink failure protection fast re-routed traffic 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76440" y="1314360"/>
            <a:ext cx="3576600" cy="219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RR traffic paths to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when link P-D fail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N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,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P, M, N,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M, </a:t>
            </a:r>
            <a:r>
              <a:rPr b="0" lang="en-US" sz="2400" spc="-1" strike="noStrike" u="sng">
                <a:solidFill>
                  <a:srgbClr val="f08a00"/>
                </a:solidFill>
                <a:uFillTx/>
                <a:latin typeface="Arial"/>
              </a:rPr>
              <a:t>P, M, N,</a:t>
            </a:r>
            <a:r>
              <a:rPr b="0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 Q,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58800" y="1370160"/>
            <a:ext cx="4081320" cy="3213000"/>
            <a:chOff x="658800" y="1370160"/>
            <a:chExt cx="4081320" cy="3213000"/>
          </a:xfrm>
        </p:grpSpPr>
        <p:sp>
          <p:nvSpPr>
            <p:cNvPr id="177" name=""/>
            <p:cNvSpPr/>
            <p:nvPr/>
          </p:nvSpPr>
          <p:spPr>
            <a:xfrm>
              <a:off x="2471760" y="137016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78240" y="2741760"/>
              <a:ext cx="43632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03800" y="1376280"/>
              <a:ext cx="43632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94080" y="4145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8800" y="2732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8585a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84360" y="4145040"/>
              <a:ext cx="436680" cy="438120"/>
            </a:xfrm>
            <a:prstGeom prst="ellipse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58585a"/>
                  </a:solidFill>
                  <a:uFillTx/>
                  <a:latin typeface="Arial"/>
                </a:rPr>
                <a:t>D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>
            <a:stCxn id="177" idx="4"/>
            <a:endCxn id="178" idx="0"/>
          </p:cNvCxnSpPr>
          <p:nvPr/>
        </p:nvCxnSpPr>
        <p:spPr>
          <a:xfrm>
            <a:off x="2690640" y="1807920"/>
            <a:ext cx="7200" cy="9342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84" name=""/>
          <p:cNvCxnSpPr>
            <a:stCxn id="177" idx="6"/>
            <a:endCxn id="179" idx="2"/>
          </p:cNvCxnSpPr>
          <p:nvPr/>
        </p:nvCxnSpPr>
        <p:spPr>
          <a:xfrm>
            <a:off x="2908440" y="1589040"/>
            <a:ext cx="1395720" cy="72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85" name=""/>
          <p:cNvCxnSpPr>
            <a:stCxn id="181" idx="6"/>
            <a:endCxn id="178" idx="2"/>
          </p:cNvCxnSpPr>
          <p:nvPr/>
        </p:nvCxnSpPr>
        <p:spPr>
          <a:xfrm>
            <a:off x="1095120" y="2951280"/>
            <a:ext cx="1383480" cy="10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86" name=""/>
          <p:cNvCxnSpPr>
            <a:stCxn id="178" idx="4"/>
            <a:endCxn id="182" idx="0"/>
          </p:cNvCxnSpPr>
          <p:nvPr/>
        </p:nvCxnSpPr>
        <p:spPr>
          <a:xfrm>
            <a:off x="2697120" y="3179520"/>
            <a:ext cx="7200" cy="96588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cxnSp>
        <p:nvCxnSpPr>
          <p:cNvPr id="187" name=""/>
          <p:cNvCxnSpPr>
            <a:stCxn id="182" idx="6"/>
            <a:endCxn id="180" idx="2"/>
          </p:cNvCxnSpPr>
          <p:nvPr/>
        </p:nvCxnSpPr>
        <p:spPr>
          <a:xfrm>
            <a:off x="2921040" y="4363560"/>
            <a:ext cx="137376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188" name=""/>
          <p:cNvCxnSpPr>
            <a:stCxn id="180" idx="0"/>
            <a:endCxn id="179" idx="4"/>
          </p:cNvCxnSpPr>
          <p:nvPr/>
        </p:nvCxnSpPr>
        <p:spPr>
          <a:xfrm flipV="1">
            <a:off x="4513320" y="1814040"/>
            <a:ext cx="10080" cy="23313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1031760" y="1744560"/>
            <a:ext cx="3335400" cy="2464200"/>
            <a:chOff x="1031760" y="1744560"/>
            <a:chExt cx="3335400" cy="2464200"/>
          </a:xfrm>
        </p:grpSpPr>
        <p:cxnSp>
          <p:nvCxnSpPr>
            <p:cNvPr id="190" name=""/>
            <p:cNvCxnSpPr/>
            <p:nvPr/>
          </p:nvCxnSpPr>
          <p:spPr>
            <a:xfrm>
              <a:off x="1031760" y="3106800"/>
              <a:ext cx="1510560" cy="10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>
              <a:off x="2535120" y="1744560"/>
              <a:ext cx="7200" cy="10612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H="1">
              <a:off x="4357440" y="1751040"/>
              <a:ext cx="10080" cy="2458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 flipH="1">
              <a:off x="2856960" y="4208040"/>
              <a:ext cx="1500840" cy="1080"/>
            </a:xfrm>
            <a:prstGeom prst="straightConnector1">
              <a:avLst/>
            </a:prstGeom>
            <a:ln w="63360">
              <a:solidFill>
                <a:srgbClr val="00285f"/>
              </a:solidFill>
              <a:prstDash val="sysDot"/>
              <a:miter/>
              <a:tailEnd len="med" type="triangle" w="med"/>
            </a:ln>
          </p:spPr>
        </p:cxnSp>
      </p:grpSp>
      <p:sp>
        <p:nvSpPr>
          <p:cNvPr id="194" name=""/>
          <p:cNvSpPr/>
          <p:nvPr/>
        </p:nvSpPr>
        <p:spPr>
          <a:xfrm>
            <a:off x="2571840" y="3575160"/>
            <a:ext cx="247680" cy="27936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9960" bIns="39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71680" y="4775040"/>
            <a:ext cx="22622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ast re-routed traffi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844360" y="1433520"/>
            <a:ext cx="1522800" cy="1371600"/>
            <a:chOff x="2844360" y="1433520"/>
            <a:chExt cx="1522800" cy="1371600"/>
          </a:xfrm>
        </p:grpSpPr>
        <p:cxnSp>
          <p:nvCxnSpPr>
            <p:cNvPr id="197" name=""/>
            <p:cNvCxnSpPr>
              <a:stCxn id="177" idx="7"/>
              <a:endCxn id="179" idx="1"/>
            </p:cNvCxnSpPr>
            <p:nvPr/>
          </p:nvCxnSpPr>
          <p:spPr>
            <a:xfrm>
              <a:off x="2844360" y="1433520"/>
              <a:ext cx="1523160" cy="7200"/>
            </a:xfrm>
            <a:prstGeom prst="straightConnector1">
              <a:avLst/>
            </a:prstGeom>
            <a:ln w="63360">
              <a:solidFill>
                <a:srgbClr val="ff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78" idx="7"/>
              <a:endCxn id="177" idx="5"/>
            </p:cNvCxnSpPr>
            <p:nvPr/>
          </p:nvCxnSpPr>
          <p:spPr>
            <a:xfrm flipH="1" flipV="1">
              <a:off x="2844360" y="1744200"/>
              <a:ext cx="7200" cy="1061280"/>
            </a:xfrm>
            <a:prstGeom prst="straightConnector1">
              <a:avLst/>
            </a:prstGeom>
            <a:ln w="63360">
              <a:solidFill>
                <a:srgbClr val="ff6600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199" name=""/>
          <p:cNvCxnSpPr/>
          <p:nvPr/>
        </p:nvCxnSpPr>
        <p:spPr>
          <a:xfrm>
            <a:off x="738000" y="4896000"/>
            <a:ext cx="1510200" cy="10080"/>
          </a:xfrm>
          <a:prstGeom prst="straightConnector1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788080" y="3562200"/>
            <a:ext cx="28479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or entire networ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8585a"/>
                </a:solidFill>
                <a:uFillTx/>
                <a:latin typeface="Arial"/>
              </a:rPr>
              <a:t>No ‘new’ labels needed in the networ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2 additional label advertisements need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760" y="5450040"/>
            <a:ext cx="29844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70360" y="2112840"/>
            <a:ext cx="471240" cy="279360"/>
            <a:chOff x="2970360" y="2112840"/>
            <a:chExt cx="471240" cy="279360"/>
          </a:xfrm>
        </p:grpSpPr>
        <p:sp>
          <p:nvSpPr>
            <p:cNvPr id="203" name=""/>
            <p:cNvSpPr/>
            <p:nvPr/>
          </p:nvSpPr>
          <p:spPr>
            <a:xfrm>
              <a:off x="2971800" y="2112840"/>
              <a:ext cx="46980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M-n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0360" y="2254320"/>
              <a:ext cx="469800" cy="13788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N-d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981080" y="2041560"/>
            <a:ext cx="470160" cy="1382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P-d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6840" y="1219320"/>
            <a:ext cx="470160" cy="1378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N-d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19600" y="2646360"/>
            <a:ext cx="469800" cy="1382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Q-d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91200" y="5450040"/>
            <a:ext cx="298440" cy="2998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6"/>
            <a:endCxn id="208" idx="2"/>
          </p:cNvCxnSpPr>
          <p:nvPr/>
        </p:nvCxnSpPr>
        <p:spPr>
          <a:xfrm>
            <a:off x="673200" y="5600520"/>
            <a:ext cx="451872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293840" y="5429160"/>
            <a:ext cx="298440" cy="30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84480" y="5418000"/>
            <a:ext cx="298440" cy="30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17960" y="5423040"/>
            <a:ext cx="298440" cy="29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3800" y="5438880"/>
            <a:ext cx="298440" cy="29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1880" y="6016680"/>
            <a:ext cx="469800" cy="13788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P-d1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31880" y="5722920"/>
            <a:ext cx="471600" cy="417600"/>
            <a:chOff x="1631880" y="5722920"/>
            <a:chExt cx="471600" cy="417600"/>
          </a:xfrm>
        </p:grpSpPr>
        <p:sp>
          <p:nvSpPr>
            <p:cNvPr id="216" name=""/>
            <p:cNvSpPr/>
            <p:nvPr/>
          </p:nvSpPr>
          <p:spPr>
            <a:xfrm>
              <a:off x="1633680" y="5722920"/>
              <a:ext cx="469800" cy="1382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M-n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31880" y="5864400"/>
              <a:ext cx="469800" cy="137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N-d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1880" y="6002280"/>
              <a:ext cx="469800" cy="13824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D-d1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503440" y="5854680"/>
            <a:ext cx="469800" cy="276120"/>
            <a:chOff x="2503440" y="5854680"/>
            <a:chExt cx="469800" cy="276120"/>
          </a:xfrm>
        </p:grpSpPr>
        <p:sp>
          <p:nvSpPr>
            <p:cNvPr id="220" name=""/>
            <p:cNvSpPr/>
            <p:nvPr/>
          </p:nvSpPr>
          <p:spPr>
            <a:xfrm>
              <a:off x="2503440" y="5854680"/>
              <a:ext cx="46980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N-d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3440" y="5992920"/>
              <a:ext cx="469800" cy="13788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D-d1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451320" y="5850000"/>
            <a:ext cx="469800" cy="276120"/>
            <a:chOff x="3451320" y="5850000"/>
            <a:chExt cx="469800" cy="276120"/>
          </a:xfrm>
        </p:grpSpPr>
        <p:sp>
          <p:nvSpPr>
            <p:cNvPr id="223" name=""/>
            <p:cNvSpPr/>
            <p:nvPr/>
          </p:nvSpPr>
          <p:spPr>
            <a:xfrm>
              <a:off x="3451320" y="5850000"/>
              <a:ext cx="46980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Q-d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1320" y="5988240"/>
              <a:ext cx="469800" cy="13788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8585a"/>
                  </a:solidFill>
                  <a:latin typeface="Arial"/>
                </a:rPr>
                <a:t>D-d1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32400" y="5983200"/>
            <a:ext cx="469800" cy="13824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8585a"/>
                </a:solidFill>
                <a:uFillTx/>
                <a:latin typeface="Arial"/>
              </a:rPr>
              <a:t>D-d1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ode failure protection exampl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176440" y="1314360"/>
            <a:ext cx="3576600" cy="3286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de N failu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stination </a:t>
            </a:r>
            <a:r>
              <a:rPr b="1" lang="en-US" sz="24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 is PL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 is merge poin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 advertises label </a:t>
            </a:r>
            <a:r>
              <a:rPr b="1" lang="en-US" sz="2400" spc="-1" strike="noStrike">
                <a:solidFill>
                  <a:srgbClr val="e32119"/>
                </a:solidFill>
                <a:latin typeface="Arial"/>
              </a:rPr>
              <a:t>R-d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to P for the backup shortest-path LS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14600" y="1370160"/>
            <a:ext cx="436680" cy="438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920" y="136512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8080" y="137628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8585a"/>
                </a:solidFill>
                <a:uFillTx/>
                <a:latin typeface="Arial"/>
              </a:rPr>
              <a:t>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8720" y="2521080"/>
            <a:ext cx="43632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" y="136512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6040" y="2513160"/>
            <a:ext cx="436680" cy="43812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9" idx="4"/>
            <a:endCxn id="233" idx="0"/>
          </p:cNvCxnSpPr>
          <p:nvPr/>
        </p:nvCxnSpPr>
        <p:spPr>
          <a:xfrm>
            <a:off x="2728800" y="1803240"/>
            <a:ext cx="7200" cy="7102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35" name=""/>
          <p:cNvCxnSpPr>
            <a:stCxn id="228" idx="2"/>
            <a:endCxn id="229" idx="6"/>
          </p:cNvCxnSpPr>
          <p:nvPr/>
        </p:nvCxnSpPr>
        <p:spPr>
          <a:xfrm flipH="1" flipV="1">
            <a:off x="2945520" y="1583640"/>
            <a:ext cx="469080" cy="54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36" name=""/>
          <p:cNvCxnSpPr>
            <a:stCxn id="228" idx="6"/>
            <a:endCxn id="230" idx="2"/>
          </p:cNvCxnSpPr>
          <p:nvPr/>
        </p:nvCxnSpPr>
        <p:spPr>
          <a:xfrm>
            <a:off x="3851280" y="1589040"/>
            <a:ext cx="497520" cy="72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37" name=""/>
          <p:cNvCxnSpPr>
            <a:stCxn id="232" idx="6"/>
            <a:endCxn id="229" idx="2"/>
          </p:cNvCxnSpPr>
          <p:nvPr/>
        </p:nvCxnSpPr>
        <p:spPr>
          <a:xfrm>
            <a:off x="1095120" y="1584000"/>
            <a:ext cx="1415160" cy="10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38" name=""/>
          <p:cNvCxnSpPr>
            <a:stCxn id="233" idx="6"/>
            <a:endCxn id="239" idx="2"/>
          </p:cNvCxnSpPr>
          <p:nvPr/>
        </p:nvCxnSpPr>
        <p:spPr>
          <a:xfrm>
            <a:off x="2952720" y="2731680"/>
            <a:ext cx="480240" cy="1188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40" name=""/>
          <p:cNvCxnSpPr>
            <a:stCxn id="231" idx="0"/>
            <a:endCxn id="230" idx="4"/>
          </p:cNvCxnSpPr>
          <p:nvPr/>
        </p:nvCxnSpPr>
        <p:spPr>
          <a:xfrm flipV="1">
            <a:off x="4557240" y="1813680"/>
            <a:ext cx="10440" cy="70740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sp>
        <p:nvSpPr>
          <p:cNvPr id="241" name=""/>
          <p:cNvSpPr/>
          <p:nvPr/>
        </p:nvSpPr>
        <p:spPr>
          <a:xfrm flipV="1">
            <a:off x="2846520" y="1841400"/>
            <a:ext cx="0" cy="625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53000" y="2089080"/>
            <a:ext cx="31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32119"/>
                </a:solidFill>
                <a:latin typeface="Arial"/>
              </a:rPr>
              <a:t>R-d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71680" y="4937040"/>
            <a:ext cx="504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raffic flow over shortest path LS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2" idx="5"/>
            <a:endCxn id="229" idx="3"/>
          </p:cNvCxnSpPr>
          <p:nvPr/>
        </p:nvCxnSpPr>
        <p:spPr>
          <a:xfrm>
            <a:off x="1031760" y="1739520"/>
            <a:ext cx="1542240" cy="10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5" name=""/>
          <p:cNvCxnSpPr>
            <a:stCxn id="233" idx="1"/>
            <a:endCxn id="229" idx="3"/>
          </p:cNvCxnSpPr>
          <p:nvPr/>
        </p:nvCxnSpPr>
        <p:spPr>
          <a:xfrm flipH="1" flipV="1">
            <a:off x="2572920" y="1739520"/>
            <a:ext cx="7200" cy="8373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6" name=""/>
          <p:cNvCxnSpPr>
            <a:stCxn id="233" idx="5"/>
            <a:endCxn id="239" idx="3"/>
          </p:cNvCxnSpPr>
          <p:nvPr/>
        </p:nvCxnSpPr>
        <p:spPr>
          <a:xfrm>
            <a:off x="2889360" y="2887200"/>
            <a:ext cx="606960" cy="118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7" name=""/>
          <p:cNvCxnSpPr>
            <a:stCxn id="239" idx="5"/>
            <a:endCxn id="231" idx="3"/>
          </p:cNvCxnSpPr>
          <p:nvPr/>
        </p:nvCxnSpPr>
        <p:spPr>
          <a:xfrm flipV="1">
            <a:off x="3805200" y="2894760"/>
            <a:ext cx="597600" cy="396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8" name=""/>
          <p:cNvCxnSpPr>
            <a:stCxn id="228" idx="5"/>
            <a:endCxn id="230" idx="3"/>
          </p:cNvCxnSpPr>
          <p:nvPr/>
        </p:nvCxnSpPr>
        <p:spPr>
          <a:xfrm>
            <a:off x="3787560" y="1744560"/>
            <a:ext cx="624600" cy="720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>
            <a:off x="662040" y="5110200"/>
            <a:ext cx="1510560" cy="1008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3432240" y="2523960"/>
            <a:ext cx="436320" cy="43848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39" idx="6"/>
            <a:endCxn id="231" idx="2"/>
          </p:cNvCxnSpPr>
          <p:nvPr/>
        </p:nvCxnSpPr>
        <p:spPr>
          <a:xfrm flipV="1">
            <a:off x="3868560" y="2739240"/>
            <a:ext cx="470880" cy="3960"/>
          </a:xfrm>
          <a:prstGeom prst="straightConnector1">
            <a:avLst/>
          </a:prstGeom>
          <a:ln w="12600">
            <a:solidFill>
              <a:srgbClr val="58585a"/>
            </a:solidFill>
            <a:miter/>
          </a:ln>
        </p:spPr>
      </p:cxnSp>
      <p:cxnSp>
        <p:nvCxnSpPr>
          <p:cNvPr id="251" name=""/>
          <p:cNvCxnSpPr>
            <a:stCxn id="229" idx="5"/>
            <a:endCxn id="228" idx="3"/>
          </p:cNvCxnSpPr>
          <p:nvPr/>
        </p:nvCxnSpPr>
        <p:spPr>
          <a:xfrm>
            <a:off x="2882880" y="1739520"/>
            <a:ext cx="596160" cy="540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52" name=""/>
          <p:cNvCxnSpPr>
            <a:stCxn id="231" idx="1"/>
            <a:endCxn id="230" idx="3"/>
          </p:cNvCxnSpPr>
          <p:nvPr/>
        </p:nvCxnSpPr>
        <p:spPr>
          <a:xfrm flipV="1">
            <a:off x="4401720" y="1750320"/>
            <a:ext cx="10440" cy="834120"/>
          </a:xfrm>
          <a:prstGeom prst="straightConnector1">
            <a:avLst/>
          </a:prstGeom>
          <a:ln w="63360">
            <a:solidFill>
              <a:srgbClr val="00285f"/>
            </a:solidFill>
            <a:prstDash val="sysDot"/>
            <a:miter/>
            <a:tailEnd len="med" type="triangle" w="med"/>
          </a:ln>
        </p:spPr>
      </p:cxnSp>
      <p:cxnSp>
        <p:nvCxnSpPr>
          <p:cNvPr id="253" name=""/>
          <p:cNvCxnSpPr>
            <a:stCxn id="241" idx="0"/>
          </p:cNvCxnSpPr>
          <p:nvPr/>
        </p:nvCxnSpPr>
        <p:spPr>
          <a:xfrm flipV="1">
            <a:off x="2846520" y="2442960"/>
            <a:ext cx="768960" cy="2448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Sriganesh Kini</dc:creator>
  <dc:description>00 Uen  Rev PA1</dc:description>
  <cp:keywords/>
  <dc:language>en-US</dc:language>
  <cp:lastModifiedBy>enarsri</cp:lastModifiedBy>
  <dcterms:modified xsi:type="dcterms:W3CDTF">2011-07-27T01:07:07Z</dcterms:modified>
  <cp:revision>273</cp:revision>
  <dc:subject/>
  <dc:title>draft-kini-mpls-frr-ldp-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3-24</vt:lpwstr>
  </property>
  <property fmtid="{D5CDD505-2E9C-101B-9397-08002B2CF9AE}" pid="5" name="DocName">
    <vt:lpwstr>PRESENTATION</vt:lpwstr>
  </property>
  <property fmtid="{D5CDD505-2E9C-101B-9397-08002B2CF9AE}" pid="6" name="DocNo">
    <vt:lpwstr>00 Uen</vt:lpwstr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IETF 81 Quebec City</vt:lpwstr>
  </property>
  <property fmtid="{D5CDD505-2E9C-101B-9397-08002B2CF9AE}" pid="13" name="MiddleFooterField">
    <vt:lpwstr/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Sriganesh Kini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draft-kini-mpls-frr-ldp-01</vt:lpwstr>
  </property>
  <property fmtid="{D5CDD505-2E9C-101B-9397-08002B2CF9AE}" pid="21" name="RightFooterField2">
    <vt:lpwstr>July 24 - 29, 2011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draft-kini-mpls-frr-ldp-01</vt:lpwstr>
  </property>
  <property fmtid="{D5CDD505-2E9C-101B-9397-08002B2CF9AE}" pid="28" name="TotalNumb">
    <vt:bool>1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1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1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0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