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move the slide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810C4-1778-4634-BA01-8C6B436B1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79680-B28D-4715-9967-519BF6BAD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E53-0559-42BA-88CC-9C5A80FD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7BD-A210-47A4-8AB8-2746B68B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2414F-455E-42D3-A074-CBFE4A13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D24D0-DECB-4E59-ADB8-CB2DB73D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5F3B8-164D-4421-907C-14A0BDE9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6A7DF-EA2F-40A2-8241-5BB6255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510EC-D972-44D2-8A95-B930382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73A64-BFB5-4B53-8B7F-9FCEB73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C00DD-B93A-4445-BB66-89B58A97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54D0B-6F00-43AF-9406-10805F3B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41820-A0C1-4759-BD1F-6DA94203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A8192-37DB-4860-A92A-A8FC5C46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17C-33F0-4D8F-8501-6797300D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5E90C-710D-4B2A-95EC-4E8FBDF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D0D6D-0636-411B-978C-25803F73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B4FA9-0B27-4BB4-BF1D-9ADF114B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CBD6A-B540-480E-B4BD-3C99AB99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B4014-6D5D-4A75-8AD2-17B10E4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C5478-9B2B-43A7-9FDF-5FA4BBAE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20613-F2D5-485A-925D-D7F2D85D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6FD79-9960-4E51-BA0E-04D5911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32A86-FAE3-4CB7-8B0E-02C73883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0CAD9-9C52-4F77-B271-7D1073D9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80E-C1C4-4B90-A8D9-00C1E63A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0985D-C229-4C67-85CE-97B1F865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9BF82-69F6-43B2-A001-CA4A2077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C66DC-17CF-41A4-B72B-68225292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E6B4D-0A65-40B3-A3B3-1CE4E0C7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77D4C-24AC-4F71-910D-95ADBA1C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E9530-D576-4DFF-9282-622BA9A9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A9434-6F2F-4CAE-89FD-EE82F6FC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557A7-5545-4DB4-8A3A-30F6AF3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073B1-D0EE-4C1D-961F-5063A712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1BEE2-488B-4E95-8779-D603FFC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988F-6C41-4465-833A-C3CD0192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917A0-75D7-4899-A859-3CB34FF5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D2F09-432A-4532-B8A4-5071AE14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D3949-EB4D-4E76-820A-22066024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F61DB-8ECD-42AC-91C1-3D1282B7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231AC-64DC-4E38-8D30-BE8B908B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40976-1D98-4053-B754-C49FC89D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85823-A231-4357-897B-C051448F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7EA6E-3E8F-43CA-8FEC-606971B1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3E330-0610-4874-8C35-D188B851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84B1D-4191-4703-A17F-99B59DE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4A32-F343-4B7F-B3AC-CE831A60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E993A-C830-4E62-A0C8-F013DA2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8F2CA-C954-4795-A597-F3430AFF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07388-6C69-4BC2-B6AE-C0DF6CD9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008BE-DCF2-4207-9530-53078F33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F4D10-7D2B-438C-9027-08BEB000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B84DA-4AF3-4B84-87DC-C9DD0DA4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9CC21-B930-4AAC-9193-C5B83DC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6DBB9-CB82-449B-B6E9-112D40C9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31CAB-F723-48AE-80D2-18970A05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CC6F1-E9DB-46CD-B036-778E9E66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3F82-EB29-42B8-B475-982EC47F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33428-18BE-4F2F-A2C8-5D972E78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BE233-6019-40BB-A7FE-44A96ABF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641AC-1CEF-4F7A-AF41-09D6452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6A939-AEAA-40EA-8E1D-DFBB6F46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869E6-6DF9-40E9-9552-5F5960E5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03A40-4FEC-4703-AFF4-13FD413B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0D174-3FE5-4309-BA13-ECFA970A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D65A-3ADF-45D8-BA3D-5A3C8C2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96E9-3C43-4840-B1B9-8FEAD08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A88A-2024-43C2-AB52-914B755B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EDDE-DCC5-4694-BF09-94ED1B53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1CB-4E06-410C-A085-22949729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0E97-55F4-497E-87AF-44EC9160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EF86-2EBB-45FE-83F7-B1BF6596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E8C0-4D5B-410A-B2B6-58391395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064B-0300-4531-863B-794BD8D3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0375-80F1-4E88-9D1C-12ECE62D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EBFC-2127-4E48-B513-71DCBAEF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D8C9-2B7B-4605-A224-43836B29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71C1-09D0-49CB-ACE6-86AEFC7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4892-01B4-4A2E-A4BE-3863E122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5B3D-D73E-41DD-BF4C-12A55B76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AB4-89CD-47B6-A01A-6E0ACA46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0176A-6BA4-47F7-8A19-DE353878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B0F9-69FE-4A6E-9F5D-275C9019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FD9A-95F1-4156-8EA1-28CFD191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25DD-C5C0-4F0D-97CC-5D8F1B35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06EA-4CED-4764-A7DC-49C7937C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2A3D-EDC2-4C11-8FD5-B73A466D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5A88-4F4F-4EF5-9FF7-07B37B2D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83F9-371C-4B4C-B3B6-216FF559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D30D-3651-40C4-806D-0D2C6417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1F6D-47C9-4131-9A84-99F20EEA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22A-5C62-4A7B-8375-D14EECD3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8EE8-2C5B-4F6C-A4B9-39878DF7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0136-2786-4159-B702-442336C0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725B-E93A-4E7E-B334-F01A984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0F4F-B9C7-4C55-9D9A-E2A90A4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4C0F-D60A-4E58-92CE-696474AE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C19C-9B14-4CA2-A48D-86DABD37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94FE3-A495-4F8E-B4A4-5C180010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A17F-CC97-4E98-9D89-B8A5E40D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29D2-925F-4D53-8C3A-1D31F4EB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14DA-9DE7-4AD2-BA49-E5B2EC04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062-FD54-497D-B426-9BB2FE04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ED01-1421-4E71-8B65-CB717A75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85A9A-7984-4370-AE0C-F009CA41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143D6-6E74-4E21-BD4F-2A501B2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D9E4-FA76-4D10-94FB-07F3689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A4041-1458-4D7D-BD38-6CDD8048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FA59-6E9A-4620-BB44-6E9CABB7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1338F-47E7-44BA-AB44-D2F13F1C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4E54D-BD88-4539-B006-45DD73B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3D9B-0231-4C5D-A7DC-4830AD20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872AE-BCC6-4E17-8B8B-30A1ECA7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2E5-7FF4-415D-AD36-138A1056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AB3D5-B7B3-4756-AD83-841B2493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1666-C3DB-4F86-A5BF-11308BB6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8458C-C3FB-4567-B003-3E08F355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DD4E0-BD26-4287-8C20-C8DEF424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FE497-BA5A-49F5-9BC2-E60809C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0075-48C3-4BE7-AA8A-50EE2E0C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01392-886C-44FA-BCB1-1A963B62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35E81-AD3D-4424-A0AA-834A0F04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C056A-F1FC-4C81-AAAB-36B69EF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CC12A-9E66-49F6-B339-1B88AD14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1AB-3B72-4618-877C-B1C5990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C07D-C06B-4418-AC9C-EC3C3B8B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3CA9C-DCE4-4DE1-9EBE-3D75EEB6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6DFA-ED73-4C80-9E7D-2AA3DE81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AABC-3A3F-4867-97DE-27C976EB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CA305-19D0-4576-BAD8-076B07D6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D26F-DF66-40ED-B3FA-66846B3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37286-AD44-4987-B1AC-214F365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EEBC3-5929-4D5E-8DEA-FD590D7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674E-5D94-408F-B9E3-6B419FD9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7FF25-F32F-41CE-8204-DFEBA65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CDB-7D93-4A41-A46C-4C43C23D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46CC9-4732-43EE-BA2E-98BC3EC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6DA71-7E3C-427D-B68D-3BB6289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67F2-B929-40B5-972C-607460F6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798C1-94B3-4846-A002-9DB20B72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EA064-B6C3-4450-BC22-1D958461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40F31-36C0-4D33-94FD-888CFFAA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41052-618D-4075-A183-265FC897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92658-7C55-4D73-BA8E-B1B6B0FA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3D75B-9BA0-46AB-B3D4-B7282835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88B86-A0A5-49FC-BCFB-F89E66A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F10-9C79-4771-B279-29B885A3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8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2F10D-08D3-4E04-8D0D-A5A65992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548E5-C10D-4A94-A400-68735006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737DD-33C7-4E15-BD9C-B1F72CE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A3F5F-9270-443F-9170-619A1F7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501DE-793B-47CF-847A-3C3F6E26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96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96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080A-42AD-4101-8EBD-077E9AF3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84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96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84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96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98EAD-B096-4012-BAFE-33091F68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9EC54-2EDF-48CF-83A9-6A6D4BC3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8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6D8FB-D5A0-47CE-BBAB-56FCDF5B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8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EC99B-4B48-4BF7-A577-20AB1239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188E6-BE99-49E6-9F13-24FC25FF8D2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4B379-076C-46F5-AFF2-17A0B1B019EC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6A0C0-E6FD-42D2-A61C-AC8F9CBA9B6D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68804-7FF2-4C08-8B81-022B5F8734EA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1DC4D-3726-482B-A147-8C495A63B900}" type="slidenum">
              <a:rPr b="0" lang="en-US" sz="11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460080" y="7222680"/>
            <a:ext cx="620640" cy="336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8E56F-887B-4BCE-BBB4-25B3E2A30C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9460080" y="7222680"/>
            <a:ext cx="620640" cy="336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0E1CE-E152-4B86-AE38-6DDC1364686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727760" y="71722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4A536-F2FE-402F-88E5-333E4F148C3F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727760" y="71722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B2474-0FD8-4410-B9BA-96099642E644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1580C-3930-429D-8B59-0AF67D063703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451B4-D65E-4D8B-923A-AF5EF1F2032D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33E46-F0CA-4D80-A825-93BEE37B9919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ce2c94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8640" indent="-27864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92720" indent="-3045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2211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072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198880" indent="-243360">
              <a:lnSpc>
                <a:spcPct val="11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923112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6A078-EE8F-42D0-A206-572507333DD8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5" descr="information security.jpg"/>
          <p:cNvPicPr/>
          <p:nvPr/>
        </p:nvPicPr>
        <p:blipFill>
          <a:blip r:embed="rId1"/>
          <a:stretch/>
        </p:blipFill>
        <p:spPr>
          <a:xfrm>
            <a:off x="9360" y="657360"/>
            <a:ext cx="10080720" cy="6323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644400"/>
            <a:ext cx="10080720" cy="25574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6000" spc="-1" strike="noStrike">
                <a:solidFill>
                  <a:srgbClr val="2960fa"/>
                </a:solidFill>
                <a:latin typeface="Comic Sans MS"/>
              </a:rPr>
              <a:t>BGPSEC </a:t>
            </a:r>
            <a:br>
              <a:rPr sz="6000"/>
            </a:br>
            <a:r>
              <a:rPr b="1" lang="en-US" sz="4000" spc="-1" strike="noStrike">
                <a:solidFill>
                  <a:srgbClr val="2960fa"/>
                </a:solidFill>
                <a:latin typeface="Comic Sans MS"/>
              </a:rPr>
              <a:t>Potential</a:t>
            </a:r>
            <a:r>
              <a:rPr b="1" lang="en-US" sz="6000" spc="-1" strike="noStrike">
                <a:solidFill>
                  <a:srgbClr val="2960fa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2960fa"/>
                </a:solidFill>
                <a:latin typeface="Comic Sans MS"/>
              </a:rPr>
              <a:t>Optimizations for </a:t>
            </a:r>
            <a:br>
              <a:rPr sz="4000"/>
            </a:br>
            <a:r>
              <a:rPr b="1" lang="en-US" sz="4000" spc="-1" strike="noStrike">
                <a:solidFill>
                  <a:srgbClr val="2960fa"/>
                </a:solidFill>
                <a:latin typeface="Comic Sans MS"/>
              </a:rPr>
              <a:t>AS-PATH Prepending</a:t>
            </a:r>
            <a:br>
              <a:rPr sz="4000"/>
            </a:br>
            <a:r>
              <a:rPr b="1" lang="en-US" sz="4000" spc="-1" strike="noStrike">
                <a:solidFill>
                  <a:srgbClr val="2960fa"/>
                </a:solidFill>
                <a:latin typeface="Comic Sans MS"/>
              </a:rPr>
              <a:t>and Transparent Route Servers.</a:t>
            </a:r>
            <a:endParaRPr b="1" lang="en-US" sz="40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542" name="Date Placeholder 2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50440" y="3884760"/>
            <a:ext cx="907092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dr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wg / Québec C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t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11.07.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ug Montgomery &lt;doug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st.gov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1440"/>
                <a:tab algn="l" pos="2168640"/>
                <a:tab algn="l" pos="2625840"/>
                <a:tab algn="l" pos="3083040"/>
                <a:tab algn="l" pos="3538440"/>
                <a:tab algn="l" pos="3995640"/>
                <a:tab algn="l" pos="4452840"/>
                <a:tab algn="l" pos="4910040"/>
                <a:tab algn="l" pos="5365800"/>
                <a:tab algn="l" pos="5823000"/>
                <a:tab algn="l" pos="6280200"/>
                <a:tab algn="l" pos="6737400"/>
                <a:tab algn="l" pos="7192800"/>
                <a:tab algn="l" pos="7650000"/>
                <a:tab algn="l" pos="8107200"/>
                <a:tab algn="l" pos="8562960"/>
                <a:tab algn="l" pos="9020160"/>
                <a:tab algn="l" pos="9477360"/>
                <a:tab algn="l" pos="9561600"/>
                <a:tab algn="l" pos="10064880"/>
                <a:tab algn="l" pos="1056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dy Bush &lt;ran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g.com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Slide Number Placeholder 6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7483B-3C83-40A3-AE12-4F2A7438F461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4"/>
          <p:cNvSpPr/>
          <p:nvPr/>
        </p:nvSpPr>
        <p:spPr>
          <a:xfrm>
            <a:off x="417600" y="1407960"/>
            <a:ext cx="917568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Provide cryptographic assurance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Origin AS was authorized by IP holder to announce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Every AS in the AS_Path explicitly authorized the advertisement of the route to the subsequent AS in the AS_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tic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Each AS’s Signature computed over Target AS for the update (forward chaining of path) and previous AS Sig (backward chaining of authoriz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Expire Time &amp; beaconing subject of another presenta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22DBF-5073-49F3-AB6F-8DD2AC0BD32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2960fa"/>
                </a:solidFill>
                <a:latin typeface="Comic Sans MS"/>
              </a:rPr>
              <a:t>bgpsec-00 Level 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5400720" y="3522600"/>
            <a:ext cx="3112920" cy="202572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1 Pa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h(…) Signed by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AS1.rtr-y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1430280" y="3522600"/>
            <a:ext cx="3962520" cy="20257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0 (origin) Pa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h(…) Sign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Key AS0.rtr-x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6099120" y="4211640"/>
            <a:ext cx="70488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7869240" y="4211640"/>
            <a:ext cx="66816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6813720" y="4211640"/>
            <a:ext cx="105552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578400" y="4205160"/>
            <a:ext cx="112860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2141640" y="4205160"/>
            <a:ext cx="71100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2855880" y="4205160"/>
            <a:ext cx="72720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4699080" y="4205160"/>
            <a:ext cx="69372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5400720" y="4205160"/>
            <a:ext cx="69228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8513640" y="4208400"/>
            <a:ext cx="701640" cy="520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1430280" y="4205160"/>
            <a:ext cx="711360" cy="520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35"/>
          <p:cNvCxnSpPr/>
          <p:nvPr/>
        </p:nvCxnSpPr>
        <p:spPr>
          <a:xfrm flipV="1">
            <a:off x="5157720" y="4731480"/>
            <a:ext cx="504000" cy="4676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562" name="Straight Arrow Connector 37"/>
          <p:cNvCxnSpPr/>
          <p:nvPr/>
        </p:nvCxnSpPr>
        <p:spPr>
          <a:xfrm flipV="1">
            <a:off x="8286840" y="4788720"/>
            <a:ext cx="504000" cy="4676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4"/>
          <p:cNvSpPr/>
          <p:nvPr/>
        </p:nvSpPr>
        <p:spPr>
          <a:xfrm>
            <a:off x="417600" y="1312920"/>
            <a:ext cx="9426600" cy="63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GPSEC Path_Signatures attribute elements correspond 1-1 with AS_Path attribut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S_Path attribute umodified, nor is Path data (ASNs) replicated in Path_S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bgpsec-00 – focus on requirements and semantics – purposefully ignore syntax optimizations until we get the first two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ee: draft-sriram-bgpsec-design-choices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6D4D2-7E39-42E7-B891-1831B073991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6000" spc="-1" strike="noStrike">
                <a:solidFill>
                  <a:srgbClr val="2960fa"/>
                </a:solidFill>
                <a:latin typeface="Comic Sans MS"/>
              </a:rPr>
              <a:t>bgpsec-00 Path_Si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357720" y="3711600"/>
            <a:ext cx="1525320" cy="52056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^A0.RtrC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4883040" y="3713040"/>
            <a:ext cx="1190880" cy="52092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517760" y="3711600"/>
            <a:ext cx="711000" cy="52056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2228760" y="3711600"/>
            <a:ext cx="1128960" cy="52056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073920" y="3711600"/>
            <a:ext cx="1527120" cy="52056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^A1.RtrC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7601040" y="3713040"/>
            <a:ext cx="1190520" cy="52092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8837280" y="3627360"/>
            <a:ext cx="960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3741480" y="3313080"/>
            <a:ext cx="4085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GPSEC Path_Signature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3398760" y="4778280"/>
            <a:ext cx="2716200" cy="52092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6114960" y="4778280"/>
            <a:ext cx="2676600" cy="52092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8877960" y="4694400"/>
            <a:ext cx="960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4714200" y="5348160"/>
            <a:ext cx="2812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GP AS_PATH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2268360" y="4778280"/>
            <a:ext cx="1128960" cy="52092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_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Up-Down Arrow 18"/>
          <p:cNvSpPr/>
          <p:nvPr/>
        </p:nvSpPr>
        <p:spPr>
          <a:xfrm>
            <a:off x="4707000" y="4284720"/>
            <a:ext cx="330120" cy="493560"/>
          </a:xfrm>
          <a:prstGeom prst="upDownArrow">
            <a:avLst>
              <a:gd name="adj1" fmla="val 50000"/>
              <a:gd name="adj2" fmla="val 49898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Up-Down Arrow 19"/>
          <p:cNvSpPr/>
          <p:nvPr/>
        </p:nvSpPr>
        <p:spPr>
          <a:xfrm>
            <a:off x="7440480" y="4284720"/>
            <a:ext cx="330480" cy="493560"/>
          </a:xfrm>
          <a:prstGeom prst="upDownArrow">
            <a:avLst>
              <a:gd name="adj1" fmla="val 50000"/>
              <a:gd name="adj2" fmla="val 49844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4"/>
          <p:cNvSpPr/>
          <p:nvPr/>
        </p:nvSpPr>
        <p:spPr>
          <a:xfrm>
            <a:off x="417600" y="1268280"/>
            <a:ext cx="917568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m recent WG discuss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AS_Path Prependin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– current 1-1 correspondence of elements would require repeating signatures when using Path prep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Transparent Route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: - AS_Path does not reflect the actual sequence of AS’s that the update traver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oing Forwa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mportant to separate the requirement, semantics and syntax discussions of how we address these and future enh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Requirement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– ensure BGPSEC doesn’t interfere with some current/proposed use case, or enhance BGPSEC to protect use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epending upon which BGP services / capabilities / uses we are trying to preserve / protect there are numerous ways to spec sol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rawman Approaches in response to recent discussion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09C02-B07C-4FBB-B9E5-FE018FF4C9E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5400" spc="-1" strike="noStrike">
                <a:solidFill>
                  <a:srgbClr val="2960fa"/>
                </a:solidFill>
                <a:latin typeface="Comic Sans MS"/>
              </a:rPr>
              <a:t>Optimizations / Enhanc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14"/>
          <p:cNvSpPr/>
          <p:nvPr/>
        </p:nvSpPr>
        <p:spPr>
          <a:xfrm>
            <a:off x="417600" y="1407960"/>
            <a:ext cx="91756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upport current uses of prepending without incurring expense of repeating Path_Signatur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Use BGPSEC to protect prepended AS’s from mod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tic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epend Count (pCNT) included as input to ASx signature noting how many times ASx appears in the actual AS_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ormally pCNT=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46831-AE6F-4080-8FF5-9FBAD7213FB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4800" spc="-1" strike="noStrike">
                <a:solidFill>
                  <a:srgbClr val="2960fa"/>
                </a:solidFill>
                <a:latin typeface="Comic Sans MS"/>
              </a:rPr>
              <a:t>Prepending Straw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7"/>
          <p:cNvSpPr/>
          <p:nvPr/>
        </p:nvSpPr>
        <p:spPr>
          <a:xfrm>
            <a:off x="5308560" y="4753080"/>
            <a:ext cx="3922920" cy="202572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1 Pa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h(…) Signed by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AS1.rtr-y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544680" y="4753080"/>
            <a:ext cx="4755960" cy="20257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0 (origin) Pa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h(…) Sign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Key AS0.rtr-x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6006960" y="5442120"/>
            <a:ext cx="70488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8562960" y="5429160"/>
            <a:ext cx="668520" cy="520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6721560" y="5442120"/>
            <a:ext cx="105552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2692440" y="5435640"/>
            <a:ext cx="112860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1255680" y="5435640"/>
            <a:ext cx="71136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1969920" y="5435640"/>
            <a:ext cx="72720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4606920" y="5435640"/>
            <a:ext cx="69372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5308560" y="5435640"/>
            <a:ext cx="69228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9231480" y="5429160"/>
            <a:ext cx="701640" cy="520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44680" y="5435640"/>
            <a:ext cx="71100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Straight Arrow Connector 46"/>
          <p:cNvCxnSpPr/>
          <p:nvPr/>
        </p:nvCxnSpPr>
        <p:spPr>
          <a:xfrm flipV="1">
            <a:off x="4606920" y="5962320"/>
            <a:ext cx="962640" cy="52416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603" name="Straight Arrow Connector 47"/>
          <p:cNvCxnSpPr>
            <a:endCxn id="600" idx="2"/>
          </p:cNvCxnSpPr>
          <p:nvPr/>
        </p:nvCxnSpPr>
        <p:spPr>
          <a:xfrm flipV="1">
            <a:off x="8524440" y="5950080"/>
            <a:ext cx="1058040" cy="53676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604" name="Rectangle 8"/>
          <p:cNvSpPr/>
          <p:nvPr/>
        </p:nvSpPr>
        <p:spPr>
          <a:xfrm>
            <a:off x="3726000" y="5435640"/>
            <a:ext cx="88092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7753320" y="5438880"/>
            <a:ext cx="809640" cy="520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4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5400" spc="-1" strike="noStrike">
                <a:solidFill>
                  <a:srgbClr val="2960fa"/>
                </a:solidFill>
                <a:latin typeface="Comic Sans MS"/>
              </a:rPr>
              <a:t>Transparent Route Servers</a:t>
            </a:r>
            <a:endParaRPr b="1" lang="en-US" sz="5400" spc="-1" strike="noStrike">
              <a:solidFill>
                <a:srgbClr val="ce2c94"/>
              </a:solidFill>
              <a:latin typeface="Comic Sans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04360" y="1459080"/>
            <a:ext cx="9069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58480" indent="-258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Ca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-Lateral Peering where sender does                                             not know all the receiv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Server’s AS not included in AS_PATH                                     so as to not contribute to the Path Length                                         for purposes of downstream best path                              compu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8480" indent="-258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GPSEC Iss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GPSEC speaker can’t forward sign to other RS customers – not peering with them directly, may not even explicitly know them, defeats the transmission efficiency of RS architectu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transparency – violates the fundamental service of BGPSEC to provide a cryptographically verified sequence of route authoriz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9460080" y="7223040"/>
            <a:ext cx="62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A30F0-8016-4468-A0AD-10F6DEB1C9A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tretch/>
        </p:blipFill>
        <p:spPr>
          <a:xfrm>
            <a:off x="7000920" y="1719360"/>
            <a:ext cx="2857320" cy="22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14"/>
          <p:cNvSpPr/>
          <p:nvPr/>
        </p:nvSpPr>
        <p:spPr>
          <a:xfrm>
            <a:off x="417600" y="1407960"/>
            <a:ext cx="917568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upport current business/use model of transparent RS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Use BGPSEC to protect / verify the complete AS_PATH (including RS AS) without impacting AS_Path_Length comp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 completely transparent when sending updates to non-BGPSEC pe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tic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RS AS fully participates in BGPSEC to/from its customer AS’s, including explicitly carrying the RS AS# in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Use previously proposed Prepend Count (pCNT=0) to indicate that an AS is operating as a transparent 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GPSEC validates complete AS_PATH, but pCNT=0 hops do not contribute to Path_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When sending to non-BGPSEC peer, RS AS# is stri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309C8-D720-4956-AA09-A2A3AD4AF61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4800" spc="-1" strike="noStrike">
                <a:solidFill>
                  <a:srgbClr val="2960fa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2960fa"/>
                </a:solidFill>
                <a:latin typeface="Comic Sans MS"/>
              </a:rPr>
              <a:t>Translucent” RS Straw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4"/>
          <p:cNvSpPr/>
          <p:nvPr/>
        </p:nvSpPr>
        <p:spPr>
          <a:xfrm>
            <a:off x="417600" y="1407960"/>
            <a:ext cx="91756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 important now … unless we agree on the requirements/seman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we do agree on the basic approach, then we can consider furthe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radeoffs between optimization and minimizing BGPSEC changes to current BGP attributes / behavi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rawman Synt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Extend BGPSEC Path_Signatures Field to carry pCNT for each S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Modify Sig generation / verification procedures to address pC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Modify Path_Length computation on BGPSEC implementations to ignore pCNT=0 ho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dd rules to strip RS AS when sending to non-BGPSEC pe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ate Placeholder 1"/>
          <p:cNvSpPr/>
          <p:nvPr/>
        </p:nvSpPr>
        <p:spPr>
          <a:xfrm>
            <a:off x="0" y="7296120"/>
            <a:ext cx="227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.07.28 sidr-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2"/>
          <p:cNvSpPr/>
          <p:nvPr/>
        </p:nvSpPr>
        <p:spPr>
          <a:xfrm>
            <a:off x="9231480" y="7209000"/>
            <a:ext cx="84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29035-E9D8-4E95-930E-0B1E9223A94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itle 1"/>
          <p:cNvSpPr/>
          <p:nvPr/>
        </p:nvSpPr>
        <p:spPr>
          <a:xfrm>
            <a:off x="0" y="0"/>
            <a:ext cx="10080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4800" spc="-1" strike="noStrike">
                <a:solidFill>
                  <a:srgbClr val="2960fa"/>
                </a:solidFill>
                <a:latin typeface="Comic Sans MS"/>
              </a:rPr>
              <a:t>Further Details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0:26:34Z</dcterms:created>
  <dc:creator>Randy Bush</dc:creator>
  <dc:description/>
  <dc:language>en-US</dc:language>
  <cp:lastModifiedBy>Doug Montgomery</cp:lastModifiedBy>
  <dcterms:modified xsi:type="dcterms:W3CDTF">2011-07-27T13:57:58Z</dcterms:modified>
  <cp:revision>624</cp:revision>
  <dc:subject/>
  <dc:title>An Idealized BGP for Formally Verifiable Routing</dc:title>
</cp:coreProperties>
</file>