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move the slide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EFCD6-370E-4C38-92A1-50BA5BD8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507AE-9C3E-49C5-835E-66D2D9FA7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53-8241-4043-8322-39FC094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618-6D85-4DE5-94C5-78A2E458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95E0E-6A75-4A50-AA80-E5099B6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CFABE-EC51-4660-A4ED-7C0D2A2E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41E9E-C7A9-47CA-94C6-C989599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A49B-FFA8-46E5-BFDF-E92B99B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FDC24-1E96-477F-BD13-321EAF6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C7A6-B513-4B85-BCF3-E9A9F05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BE27-2733-4CD6-98D1-0C3CCDB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9FCE-0A40-4EE4-8807-52877068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E56E-548B-4046-AD75-62FE7B92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BFC8A-40F5-4CC9-BADD-63ECA8C5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0AD-56D4-4875-9DA1-E8B4AEC8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7F2FD-44F0-4F25-8FC4-9BDFCA9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4081-F48A-4A5F-BF40-CB5BF1B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0B37-0DFC-474F-8471-41AE0C1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DD815-F1DF-41DD-BAD9-330EC73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3D18C-A9C5-43FE-A21A-E111306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5B983-0FF8-45AE-95B4-2C2651F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760D2-3A92-47C6-A723-E3B982C6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6F798-1F37-4DB3-9B67-CC23824B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266D6-EC07-44F2-9BA6-5E0F59E6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DBB06-3A73-462A-B34F-BBF3F6EA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F8C-5A93-4FB7-A5C5-3D66AC68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50A00-6907-4685-9C09-976C58B0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A954-E2C9-4ED7-A5E0-A720811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3993-E8E1-4E00-8753-7CF1D04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3A92-8463-4330-9DF9-9893DDA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E0380-BDEC-407F-A43D-ABE5327C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249D-6C18-41C0-B30E-47A398CD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B9958-EA19-41CB-AEC4-65336DA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02EC4-269C-40D1-BD69-B44EAD8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105C3-97A0-4BE3-8B05-8EAC528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2376F-842D-43FD-9BA1-B217A30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3FEC-90B4-44C0-BF8C-5403A26B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A646-4FCE-4517-ACC2-07F98FC1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10EE-AEB6-4F82-A32B-55CB68DF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8E57E-C087-4080-ACAF-258DB604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ABFE-0F4F-4B54-898A-C37F723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E17D-42A8-4C34-A93E-5EE6DC9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1BD14-944A-4AB5-B35F-D28AEA2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0C91B-56A2-4649-BAAB-A66BA86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E6814-1EC8-4596-866D-F5D794D7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B14A2-96E6-467C-89B2-D217104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E5079-1D3B-4C6E-A9CD-CFDB163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28B5-AF1D-44B4-8725-1F0A496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285A0-6D67-46C5-A244-EBBD6F6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A3E9-1771-432F-A113-664114C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424FD-4BF7-4E2E-BEDD-359027A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B6310-744A-4756-B284-FE8DCB87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38BDF-B476-4EF2-BB46-FB1FC1B0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2F7DB-BEF1-4171-B981-3219D71D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13764-C568-4E63-A598-249D19D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9540A-2232-4253-9216-43786B9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4261A-4CF5-465D-8C3D-6AB8D02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39737-BAA7-497A-A580-B3ADC09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AA8B-2EC8-4F0C-94DD-91657CBD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E3D64-6EE7-46EF-B794-8BEE549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B7F71-8B27-410F-8C89-C586045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B00C2-F87E-4D44-A399-87B45E6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6E2B9-65B5-4989-A572-285DA7E0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65706-922E-4374-BA9B-9532A05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4D212-ECC4-497B-8454-6EE0561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34425-C4B4-42EF-9581-CEC1D61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D57-7B28-4439-B0A7-E2BE78A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641-FA08-41F7-8332-2801DE3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4E7-CFC6-4892-97DA-1145D9DE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4149-7F18-4A78-B71E-3AFE681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74A-8635-4086-B8E2-D208C71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CC48-EBB2-40D5-9A98-C1C7704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FDB9-4370-4AC1-9B1C-967587C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067D-0258-415C-9363-4151ADB2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1F3E-BCE3-49F6-ADAD-DB7BEA4C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D3B7-E57D-4D42-B2B9-4CEB9B8F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4080-DD3C-4008-9DCE-70DDE94A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9F7A-98EF-4D99-8B5B-A67D054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0141-9172-4AA9-9CB4-77907FC4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3A1A-2435-4C6F-BF42-60BFE14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A891-DA7F-46AC-831F-B06C6509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B06-AAEF-48F0-96F1-1CF6FF0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228F-07B0-4277-A00E-1BD75E4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4770-4D1F-4A55-BBF4-A807C67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8BE6-A8AF-405F-869E-8B8BAB9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C7CE-9B1D-461D-8831-36728483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7A6D-BECA-466B-9AD6-C932034A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ACB2-5EED-44D5-BC8B-E44F1623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A0C0-9125-4A27-9C34-E6D2F5BD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B4B8-CF41-48F6-B2C8-73B0AA2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0310-0B8D-46F4-AC78-DCE3D031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3DD0-FCAC-4006-830D-B37E1AF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6E1-C336-43AE-AF5D-F9BE674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568D-B6AB-4B0B-88B7-5F046FCA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C89D-16D3-4880-8416-0AD58377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1B21-F1F4-4681-9D90-F6FE1D7A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5DDD-4848-4CE3-B0FE-52BC9D2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1CA2-65DA-43BE-817A-B3C2782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6831-639F-4B66-B849-B7EBB60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4DBC-35C9-4C91-A42A-7261D663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10D0-4BFC-482C-944A-2199A95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0541-F27D-414D-8850-73ADDAF9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7B7F7-7BDE-4180-AE04-CAD159F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89-09AB-4DCA-BB36-8D7D8F8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4BE1-F653-41B2-AE80-89DEBF0A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92FD-E8FC-4FE5-9A76-BF09D52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F8EB-6FC9-4737-ADAC-E490ADD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B6950-A6BD-4CA8-8E3C-5F74DEC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DC6C-4709-4A79-8749-77F0F0F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A538-3CA5-4301-9F11-40EF6443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4C1E-0177-4BB1-A8F7-A122885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2CAC-94FB-4075-ADC3-735B4CB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6FAF-894C-4AC6-95A6-58A2BE0F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6F05-632D-483F-8CBD-FB00EDDB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22E-4DE5-4ECA-B661-80EE276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AA87-E2A7-4588-A313-AE84E955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8D568-9363-42F0-BE70-85E12467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74AC-9CAB-4E88-905D-360F822B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389F-D5FA-4BC1-8CB2-505627E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60A6-4BC9-48E1-8EF2-7F116E6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AC53-8E60-4001-B756-0F667FC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FD70A-0A11-4768-97CD-E56E96D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699C-A85E-4439-8A6B-35BE178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460BA-5F28-4C16-B805-CDC05A5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7C31-ED2F-4962-A7C6-647DEAD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A48-5970-479A-BA4E-1DD6527D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0E64-F7EC-4E2D-AA82-8E17371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17EB-5B55-4335-BA37-7B429CEB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0E5D-093D-4E27-B5A8-2FFE1902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247C-C721-42AE-B25E-F7CB1CA2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4DD2-D2EE-431E-A71D-0E2B75D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723C3-E4C0-4F70-BB8E-546A0CF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C8A9B-0291-4879-8924-780D338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3D99-A67D-4646-8895-C54C34E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FD2F-4732-4053-BE54-2E1CFF16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15A0A-F74D-4A77-A89D-C2AFAB9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471-1BA1-485C-877F-D80AEA0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DE02-7935-43D7-A940-817C68B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56B5-E2B1-49B3-8D0C-BA3C8B4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FBAC-FB9A-4E35-956C-320FDC8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BB4B-4A94-4C08-AB92-1A6CF561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6F30E-0FF5-4748-96BE-D20B0521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2689-FB9B-45D6-9C4A-0581B5F6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FF918-4FD3-4BDB-831D-4D87DB0E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D5678-B113-4552-96D4-D505704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4D2B-AEFA-4401-B26B-84FD15A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DC4EC-AC75-45B7-B0E1-244478E3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9A0-680E-4ABB-B687-F00590AF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E992-D77D-40B0-BD8D-AC00E382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A2455-7FB9-4A01-920D-1C69FA7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2516-CF4B-4668-BAE9-F6BB08E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48F7-4C32-4B1F-8E1E-C7A9B73F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9EEC-9EED-4D64-9468-647AEF2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6DF7-CDF9-46C3-B565-2E8BA388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127B-1DA9-431B-9502-0A41A21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F8495-8FC5-43AF-8BBA-1FB15E88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C51A-51AF-4A05-B165-A3CC91A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EC5E7-74AA-437A-9D50-2C2E207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3D29F-124C-4D01-AECE-4950D852526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FB85E-AEF4-4D65-9653-9B10E47041E5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362E2-4EF1-4B22-8400-8676A4AA5AA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0B83A-3E35-4D35-B4C4-AB48022BA968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B6F3-9416-4632-9BDE-66BF803D233A}" type="slidenum">
              <a:rPr b="0" lang="en-US" sz="11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460080" y="7222680"/>
            <a:ext cx="620640" cy="336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B810C-2D75-4199-A79A-F12E5C9634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460080" y="7222680"/>
            <a:ext cx="620640" cy="336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56D83-D533-4766-A0B8-60608E3BE9E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727760" y="71722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2E40B-8A41-4132-8531-8D3CDF2A1A29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727760" y="71722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370BE-B9E8-450C-8494-07EE8FA75AB4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AF872-5E2C-4A5F-957F-7FEDF3FDB830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BEB2B-70D1-4870-8209-773193B893E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9D400-A9E6-44E1-AFBD-EEF5E7BDCBC2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0238C-9454-4D35-8A2E-A3BBD1787B5A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information security.jpg"/>
          <p:cNvPicPr/>
          <p:nvPr/>
        </p:nvPicPr>
        <p:blipFill>
          <a:blip r:embed="rId1"/>
          <a:stretch/>
        </p:blipFill>
        <p:spPr>
          <a:xfrm>
            <a:off x="9360" y="657360"/>
            <a:ext cx="10080720" cy="6323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644400"/>
            <a:ext cx="10080720" cy="2557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 </a:t>
            </a:r>
            <a:br>
              <a:rPr sz="6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Potential</a:t>
            </a: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Optimizations for </a:t>
            </a:r>
            <a:br>
              <a:rPr sz="4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AS-PATH Prepending</a:t>
            </a:r>
            <a:br>
              <a:rPr sz="4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and Transparent Route Servers.</a:t>
            </a:r>
            <a:endParaRPr b="1" lang="en-US" sz="4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42" name="Date Placeholder 2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50440" y="3884760"/>
            <a:ext cx="907092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d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wg / Québec C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t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11.07.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ug Montgomery &lt;dou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st.gov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dy Bush &lt;ran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g.com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Slide Number Placeholder 6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B0293-CEE3-41DF-B4E9-3C47A6EEA136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4"/>
          <p:cNvSpPr/>
          <p:nvPr/>
        </p:nvSpPr>
        <p:spPr>
          <a:xfrm>
            <a:off x="417600" y="1407960"/>
            <a:ext cx="917568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Provide cryptographic assurance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Origin AS was authorized by IP holder to announc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very AS in the AS_Path explicitly authorized the advertisement of the route to the subsequent AS in the AS_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ach AS’s Signature computed over Target AS for the update (forward chaining of path) and previous AS Sig (backward chaining of authoriz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Expire Time &amp; beaconing subject of another presenta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3158D-27E4-4BDA-BE06-9CD3619219F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-00 Level 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5400720" y="3522600"/>
            <a:ext cx="3112920" cy="20257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1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AS1.rtr-y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1430280" y="3522600"/>
            <a:ext cx="3962520" cy="20257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0 (origin)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Key AS0.rtr-x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6099120" y="4211640"/>
            <a:ext cx="70488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7869240" y="4211640"/>
            <a:ext cx="66816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6813720" y="4211640"/>
            <a:ext cx="105552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578400" y="4205160"/>
            <a:ext cx="11286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141640" y="4205160"/>
            <a:ext cx="7110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2855880" y="4205160"/>
            <a:ext cx="7272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4699080" y="4205160"/>
            <a:ext cx="69372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5400720" y="4205160"/>
            <a:ext cx="69228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8513640" y="4208400"/>
            <a:ext cx="70164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430280" y="4205160"/>
            <a:ext cx="71136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35"/>
          <p:cNvCxnSpPr/>
          <p:nvPr/>
        </p:nvCxnSpPr>
        <p:spPr>
          <a:xfrm flipV="1">
            <a:off x="5157720" y="4731480"/>
            <a:ext cx="504000" cy="467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562" name="Straight Arrow Connector 37"/>
          <p:cNvCxnSpPr/>
          <p:nvPr/>
        </p:nvCxnSpPr>
        <p:spPr>
          <a:xfrm flipV="1">
            <a:off x="8286840" y="4788720"/>
            <a:ext cx="504000" cy="467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4"/>
          <p:cNvSpPr/>
          <p:nvPr/>
        </p:nvSpPr>
        <p:spPr>
          <a:xfrm>
            <a:off x="417600" y="1312920"/>
            <a:ext cx="9426600" cy="63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GPSEC Path_Signatures attribute elements correspond 1-1 with AS_Path attribut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S_Path attribute umodified, nor is Path data (ASNs) replicated in Path_S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bgpsec-00 – focus on requirements and semantics – purposefully ignore syntax optimizations until we get the first two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ee: draft-sriram-bgpsec-design-choices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BC2D4-E4EF-4FBA-BC49-CFCA56CF2FE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-00 Path_Si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57720" y="3711600"/>
            <a:ext cx="152532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^A0.RtrC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883040" y="3713040"/>
            <a:ext cx="119088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517760" y="3711600"/>
            <a:ext cx="71100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2228760" y="3711600"/>
            <a:ext cx="112896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073920" y="3711600"/>
            <a:ext cx="1527120" cy="52056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^A1.RtrC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7601040" y="3713040"/>
            <a:ext cx="1190520" cy="5209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8837280" y="3627360"/>
            <a:ext cx="960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3741480" y="3313080"/>
            <a:ext cx="4085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GPSEC Path_Signature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3398760" y="4778280"/>
            <a:ext cx="271620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6114960" y="4778280"/>
            <a:ext cx="2676600" cy="5209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8877960" y="4694400"/>
            <a:ext cx="960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4714200" y="5348160"/>
            <a:ext cx="281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GP AS_PATH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2268360" y="4778280"/>
            <a:ext cx="112896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_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Up-Down Arrow 18"/>
          <p:cNvSpPr/>
          <p:nvPr/>
        </p:nvSpPr>
        <p:spPr>
          <a:xfrm>
            <a:off x="4707000" y="4284720"/>
            <a:ext cx="330120" cy="493560"/>
          </a:xfrm>
          <a:prstGeom prst="upDownArrow">
            <a:avLst>
              <a:gd name="adj1" fmla="val 50000"/>
              <a:gd name="adj2" fmla="val 49898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Up-Down Arrow 19"/>
          <p:cNvSpPr/>
          <p:nvPr/>
        </p:nvSpPr>
        <p:spPr>
          <a:xfrm>
            <a:off x="7440480" y="4284720"/>
            <a:ext cx="330480" cy="493560"/>
          </a:xfrm>
          <a:prstGeom prst="upDownArrow">
            <a:avLst>
              <a:gd name="adj1" fmla="val 50000"/>
              <a:gd name="adj2" fmla="val 49844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4"/>
          <p:cNvSpPr/>
          <p:nvPr/>
        </p:nvSpPr>
        <p:spPr>
          <a:xfrm>
            <a:off x="417600" y="1268280"/>
            <a:ext cx="91756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m recent WG discuss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S_Path Prependi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– current 1-1 correspondence of elements would require repeating signatures when using Path prep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Transparent Route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: - AS_Path does not reflect the actual sequence of AS’s that the update trave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ing Forwa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mportant to separate the requirement, semantics and syntax discussions of how we address these and future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equirement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– ensure BGPSEC doesn’t interfere with some current/proposed use case, or enhance BGPSEC to protect use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epending upon which BGP services / capabilities / uses we are trying to preserve / protect there are numerous ways to spec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awman Approaches in response to recent discussion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51A27-5251-45EA-A8A1-3862B553C33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5400" spc="-1" strike="noStrike">
                <a:solidFill>
                  <a:srgbClr val="2960fa"/>
                </a:solidFill>
                <a:latin typeface="Comic Sans MS"/>
              </a:rPr>
              <a:t>Optimizations / Enhanc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4"/>
          <p:cNvSpPr/>
          <p:nvPr/>
        </p:nvSpPr>
        <p:spPr>
          <a:xfrm>
            <a:off x="417600" y="1407960"/>
            <a:ext cx="91756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upport current uses of prepending without incurring expense of repeating Path_Signatur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BGPSEC to protect prepended AS’s from mod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epend Count (pCNT) included as input to ASx signature noting how many times ASx appears in the actual AS_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ormally pCNT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421FC-96F2-45BF-A5F0-0EBF8C6D1B5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Prepending Straw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"/>
          <p:cNvSpPr/>
          <p:nvPr/>
        </p:nvSpPr>
        <p:spPr>
          <a:xfrm>
            <a:off x="5308560" y="4753080"/>
            <a:ext cx="3922920" cy="20257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1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AS1.rtr-y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544680" y="4753080"/>
            <a:ext cx="4755960" cy="20257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0 (origin)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Key AS0.rtr-x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6006960" y="5442120"/>
            <a:ext cx="70488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8562960" y="5429160"/>
            <a:ext cx="66852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6721560" y="5442120"/>
            <a:ext cx="105552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92440" y="5435640"/>
            <a:ext cx="11286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255680" y="5435640"/>
            <a:ext cx="71136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969920" y="5435640"/>
            <a:ext cx="7272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4606920" y="5435640"/>
            <a:ext cx="69372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5308560" y="5435640"/>
            <a:ext cx="69228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9231480" y="5429160"/>
            <a:ext cx="70164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44680" y="5435640"/>
            <a:ext cx="7110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Straight Arrow Connector 46"/>
          <p:cNvCxnSpPr/>
          <p:nvPr/>
        </p:nvCxnSpPr>
        <p:spPr>
          <a:xfrm flipV="1">
            <a:off x="4606920" y="5962320"/>
            <a:ext cx="962640" cy="5241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03" name="Straight Arrow Connector 47"/>
          <p:cNvCxnSpPr>
            <a:endCxn id="600" idx="2"/>
          </p:cNvCxnSpPr>
          <p:nvPr/>
        </p:nvCxnSpPr>
        <p:spPr>
          <a:xfrm flipV="1">
            <a:off x="8524440" y="5950080"/>
            <a:ext cx="1058040" cy="5367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604" name="Rectangle 8"/>
          <p:cNvSpPr/>
          <p:nvPr/>
        </p:nvSpPr>
        <p:spPr>
          <a:xfrm>
            <a:off x="3726000" y="5435640"/>
            <a:ext cx="88092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53320" y="5438880"/>
            <a:ext cx="80964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5400" spc="-1" strike="noStrike">
                <a:solidFill>
                  <a:srgbClr val="2960fa"/>
                </a:solidFill>
                <a:latin typeface="Comic Sans MS"/>
              </a:rPr>
              <a:t>Transparent Route Servers</a:t>
            </a:r>
            <a:endParaRPr b="1" lang="en-US" sz="54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04360" y="1459080"/>
            <a:ext cx="9069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58480" indent="-258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Ca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-Lateral Peering where sender does                                             not know all the receiv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Server’s AS not included in AS_PATH                                     so as to not contribute to the Path Length                                         for purposes of downstream best path                              compu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8480" indent="-258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GPSEC Iss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GPSEC speaker can’t forward sign to other RS customers – not peering with them directly, may not even explicitly know them, defeats the transmission efficiency of RS architectu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transparency – violates the fundamental service of BGPSEC to provide a cryptographically verified sequence of route authoriz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9460080" y="7223040"/>
            <a:ext cx="62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F3F86-BDA3-4E4B-B598-2E097774C3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7000920" y="1719360"/>
            <a:ext cx="285732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4"/>
          <p:cNvSpPr/>
          <p:nvPr/>
        </p:nvSpPr>
        <p:spPr>
          <a:xfrm>
            <a:off x="417600" y="1407960"/>
            <a:ext cx="917568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upport current business/use model of transparent RS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BGPSEC to protect / verify the complete AS_PATH (including RS AS) without impacting AS_Path_Length comp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 completely transparent when sending updates to non-BGPSEC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S AS fully participates in BGPSEC to/from its customer AS’s, including explicitly carrying the RS AS# i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previously proposed Prepend Count (pCNT=0) to indicate that an AS is operating as a transparent 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GPSEC validates complete AS_PATH, but pCNT=0 hops do not contribute to Path_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hen sending to non-BGPSEC peer, RS AS# is stri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B0CA5-79A9-4A16-B104-C856B3CD3EF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Translucent” RS Straw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4"/>
          <p:cNvSpPr/>
          <p:nvPr/>
        </p:nvSpPr>
        <p:spPr>
          <a:xfrm>
            <a:off x="417600" y="1407960"/>
            <a:ext cx="91756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 important now … unless we agree on the requirements/seman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we do agree on the basic approach, then we can consider furthe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adeoffs between optimization and minimizing BGPSEC changes to current BGP attributes /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awman 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xtend BGPSEC Path_Signatures Field to carry pCNT for each S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odify Sig generation / verification procedures to address pC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odify Path_Length computation on BGPSEC implementations to ignore pCNT=0 h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dd rules to strip RS AS when sending to non-BGPSEC pe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ABFFE-0C85-4D8B-9256-B0B420AB9F7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Further Detail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0:26:34Z</dcterms:created>
  <dc:creator>Randy Bush</dc:creator>
  <dc:description/>
  <dc:language>en-US</dc:language>
  <cp:lastModifiedBy>Doug Montgomery</cp:lastModifiedBy>
  <dcterms:modified xsi:type="dcterms:W3CDTF">2011-07-27T13:57:58Z</dcterms:modified>
  <cp:revision>624</cp:revision>
  <dc:subject/>
  <dc:title>An Idealized BGP for Formally Verifiable Routing</dc:title>
</cp:coreProperties>
</file>