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8C050-4C17-48CE-8272-0F5606635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94096-D3F4-43F5-8E25-F7A9379F0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63FDC-DD98-4FDF-8367-1F5387512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122A1-BA65-4A2E-A076-BA1B6041C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AEE46-ACC3-441D-B1B1-0A6528F7C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F80A5-1964-488C-B4AD-F6F1FE61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8397B-B56C-40E9-83BD-6BBDE5F25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10161-D4CE-4A6F-9B23-A14E47B38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A0585-1E77-4524-9B04-5F7104DE1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521F8-1C6E-489F-BE71-A63A4DF02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23CB-E9CA-44BD-BC42-9A0EC8D8F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5A7B9-3F7A-4ED6-B1A0-15BE83E7F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4382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971800" y="6244920"/>
            <a:ext cx="31240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81E8-7CE8-47CB-B2C5-082C6900BA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tf.org/html.charters/sidr-charter.html" TargetMode="External"/><Relationship Id="rId2" Type="http://schemas.openxmlformats.org/officeDocument/2006/relationships/hyperlink" Target="http://tools.ietf.org/wg/sidr/"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R Working Grou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bec, QC, Cana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rsday, 28 July, 201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F410EAE0-7C44-4D32-95C5-84E95CAE02D2}" type="slidenum">
              <a:t>1</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60" name=""/>
          <p:cNvGraphicFramePr/>
          <p:nvPr/>
        </p:nvGraphicFramePr>
        <p:xfrm>
          <a:off x="609480" y="2558880"/>
          <a:ext cx="7848720" cy="2556000"/>
        </p:xfrm>
        <a:graphic>
          <a:graphicData uri="http://schemas.openxmlformats.org/drawingml/2006/table">
            <a:tbl>
              <a:tblPr/>
              <a:tblGrid>
                <a:gridCol w="3886200"/>
                <a:gridCol w="2210040"/>
                <a:gridCol w="17524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alg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4-1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manifest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6-1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rt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sl-si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signed-objec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ta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4-1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usecas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F70B881A-583B-48CA-B6F0-8A054396F591}" type="slidenum">
              <a:t>10</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62" name=""/>
          <p:cNvGraphicFramePr/>
          <p:nvPr/>
        </p:nvGraphicFramePr>
        <p:xfrm>
          <a:off x="609480" y="2558880"/>
          <a:ext cx="7848720" cy="2190960"/>
        </p:xfrm>
        <a:graphic>
          <a:graphicData uri="http://schemas.openxmlformats.org/drawingml/2006/table">
            <a:tbl>
              <a:tblPr/>
              <a:tblGrid>
                <a:gridCol w="3886200"/>
                <a:gridCol w="2210040"/>
                <a:gridCol w="17524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op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overview</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protoco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req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threat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67BFD427-74D3-47AA-942C-41F0EE0EF9D3}" type="slidenum">
              <a:t>11</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ummar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RFC Ed Queue: 1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IESG Evaluation::AD Followup: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IESG Evaluation: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through wglc: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wglc: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still in progress from IETF 80: 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expired: 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newly accepted: 5</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ED5FFDCD-EB14-46AD-A177-7229E984CBD8}" type="slidenum">
              <a:t>12</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304920"/>
            <a:ext cx="7759800" cy="6872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
          <p:cNvSpPr/>
          <p:nvPr/>
        </p:nvSpPr>
        <p:spPr>
          <a:xfrm>
            <a:off x="228600" y="1066680"/>
            <a:ext cx="8839080" cy="4953240"/>
          </a:xfrm>
          <a:prstGeom prst="rect">
            <a:avLst/>
          </a:prstGeom>
          <a:noFill/>
          <a:ln w="0">
            <a:noFill/>
          </a:ln>
        </p:spPr>
        <p:style>
          <a:lnRef idx="0"/>
          <a:fillRef idx="0"/>
          <a:effectRef idx="0"/>
          <a:fontRef idx="minor"/>
        </p:style>
        <p:txBody>
          <a:bodyPr lIns="90360" rIns="90360" tIns="44280" bIns="44280" anchor="t">
            <a:normAutofit fontScale="95000"/>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TF plenary sess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SG, or any member thereof on behalf of the IESG</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y IETF working group or portion thereof</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AB or any member thereof on behalf of the IAB</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RFC Editor or the Internet-Drafts funct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IETF Contributions are subject to the rules of RFC 5378 and RFC 3979 (updated by RFC 4879).</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ease consult RFC 5378 and RFC 3979 for detail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acknowledges that written, audio and video records of meetings may be made and may be available to the public. </a:t>
            </a:r>
            <a:br>
              <a:rPr sz="1400"/>
            </a:b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SIDR IETF 81 Quebec, Canada</a:t>
            </a:r>
          </a:p>
        </p:txBody>
      </p:sp>
      <p:sp>
        <p:nvSpPr>
          <p:cNvPr id="3" name="PlaceHolder 2"/>
          <p:cNvSpPr>
            <a:spLocks noGrp="1"/>
          </p:cNvSpPr>
          <p:nvPr>
            <p:ph type="sldNum" idx="3"/>
          </p:nvPr>
        </p:nvSpPr>
        <p:spPr/>
        <p:txBody>
          <a:bodyPr/>
          <a:p>
            <a:fld id="{E5283BFA-199F-47E6-B952-8216648BE15B}" type="slidenum">
              <a:t>2</a:t>
            </a:fld>
          </a:p>
        </p:txBody>
      </p:sp>
      <p:sp>
        <p:nvSpPr>
          <p:cNvPr id="4" name="PlaceHolder 3"/>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a:t>
            </a:r>
            <a:endParaRPr b="0" lang="en-US" sz="4000" spc="-1" strike="noStrike">
              <a:solidFill>
                <a:srgbClr val="000000"/>
              </a:solidFill>
              <a:latin typeface="Arial"/>
            </a:endParaRPr>
          </a:p>
        </p:txBody>
      </p:sp>
      <p:sp>
        <p:nvSpPr>
          <p:cNvPr id="4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Agenda and Slides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tf.org/proceedings/81/agenda/sidr.html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datatracker.ietf.org/meeting/81/materials.htm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 </a:t>
            </a:r>
            <a:br>
              <a:rPr sz="2400"/>
            </a:br>
            <a:r>
              <a:rPr b="0" lang="en-US" sz="2400" spc="-1" strike="noStrike">
                <a:solidFill>
                  <a:srgbClr val="000000"/>
                </a:solidFill>
                <a:latin typeface="Arial"/>
              </a:rPr>
              <a:t>http://www.ietf.org/mail-archive/web/sidr/index.htm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bber room:  sidr@jabber.ietf.or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feed: http://tools.ietf.org/agenda/81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archive: http://www.ietf.org/audio/ietf81/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er page: </a:t>
            </a:r>
            <a:r>
              <a:rPr b="0" lang="en-US" sz="2400" spc="-1" strike="noStrike" u="sng">
                <a:solidFill>
                  <a:srgbClr val="009999"/>
                </a:solidFill>
                <a:uFillTx/>
                <a:latin typeface="Arial"/>
                <a:hlinkClick r:id="rId1"/>
              </a:rPr>
              <a:t>http://www.ietf.org/html.charters/sidr-charter.h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s: </a:t>
            </a:r>
            <a:r>
              <a:rPr b="0" lang="en-US" sz="2400" spc="-1" strike="noStrike" u="sng">
                <a:solidFill>
                  <a:srgbClr val="009999"/>
                </a:solidFill>
                <a:uFillTx/>
                <a:latin typeface="Arial"/>
                <a:hlinkClick r:id="rId2"/>
              </a:rPr>
              <a:t>http://tools.ietf.org/wg/sidr/</a:t>
            </a:r>
            <a:r>
              <a:rPr b="0" lang="en-US" sz="2400" spc="-1" strike="noStrike" u="sng">
                <a:solidFill>
                  <a:srgbClr val="000000"/>
                </a:solidFill>
                <a:uFillTx/>
                <a:latin typeface="Arial"/>
              </a:rPr>
              <a:t> </a:t>
            </a:r>
            <a:br>
              <a:rPr sz="2400"/>
            </a:br>
            <a:r>
              <a:rPr b="0" lang="en-US" sz="2400" spc="-1" strike="noStrike" u="sng">
                <a:solidFill>
                  <a:srgbClr val="000000"/>
                </a:solidFill>
                <a:uFillTx/>
                <a:latin typeface="Arial"/>
              </a:rPr>
              <a:t>(tools page also has links to html agenda, jabber room, audio,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B5B46B19-FC63-499D-914F-EC153D414E2D}" type="slidenum">
              <a:t>3</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ivi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She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utes t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bber scri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bas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A66953FB-720E-4C42-858C-2E3948F2355F}" type="slidenum">
              <a:t>4</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dministrivia                                                10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raft status                                                  1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Sandy Murph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Updated Drafts                                            2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lgorithm Agility                                 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Roque Gaglia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PKI Publication Protocol                10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Rob Auste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Use Cases and Interpr of RPKI Obj   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Terry Manders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BGPSEC Protocol                               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Matt Lepinski</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5905284D-7BAD-4DB6-860C-598099F46666}" type="slidenum">
              <a:t>5</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Cont’d)</a:t>
            </a:r>
            <a:endParaRPr b="0" lang="en-US" sz="4400" spc="-1" strike="noStrike">
              <a:solidFill>
                <a:srgbClr val="0000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9000"/>
          </a:bodyPr>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New Topic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5 minutes </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eaconing                                                </a:t>
            </a:r>
            <a:r>
              <a:rPr b="0" lang="en-US" sz="2000" spc="-1" strike="noStrike">
                <a:solidFill>
                  <a:srgbClr val="000000"/>
                </a:solidFill>
                <a:latin typeface="Arial"/>
              </a:rPr>
              <a:t>	</a:t>
            </a:r>
            <a:r>
              <a:rPr b="0" lang="en-US" sz="2000" spc="-1" strike="noStrike">
                <a:solidFill>
                  <a:srgbClr val="000000"/>
                </a:solidFill>
                <a:latin typeface="Arial"/>
              </a:rPr>
              <a:t>10 minute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Randy Bush</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RPKI MIB modul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inutes   </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a:t>
            </a:r>
            <a:r>
              <a:rPr b="0" lang="en" sz="2000" spc="-1" strike="noStrike">
                <a:solidFill>
                  <a:srgbClr val="000000"/>
                </a:solidFill>
                <a:latin typeface="Arial"/>
              </a:rPr>
              <a:t>Randy Bush</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Route Servers and BGPS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inute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Chris Hall</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Prepend and Transparenc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inutes    </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Doug Montgomery</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RPKI RTR Client C Lib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inutes     </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Matthias Waehlisch</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RIB Size Estimation for BGPS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 minute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Sriram Kotikalapudi </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History of Design Consideration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inute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Sriram Kotikalapudi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6439D55A-C35E-4E3D-9A69-D099DBC68725}" type="slidenum">
              <a:t>6</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Cont’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ransfer of resources and the RPK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inut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Randy Bus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Non-WG Topic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 minut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ure Extension of BGP by Decoupling      </a:t>
            </a:r>
            <a:r>
              <a:rPr b="0" lang="en-US" sz="2000" spc="-1" strike="noStrike">
                <a:solidFill>
                  <a:srgbClr val="000000"/>
                </a:solidFill>
                <a:latin typeface="Arial"/>
              </a:rPr>
              <a:t>	</a:t>
            </a:r>
            <a:r>
              <a:rPr b="0" lang="en-US" sz="2000" spc="-1" strike="noStrike">
                <a:solidFill>
                  <a:srgbClr val="000000"/>
                </a:solidFill>
                <a:latin typeface="Arial"/>
              </a:rPr>
              <a:t>         5 minutes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Mingui Zha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Efficient Secure BG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 minutes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Yang Xia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3A5934C8-609C-458C-814B-688C89BFF42B}" type="slidenum">
              <a:t>7</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56" name=""/>
          <p:cNvGraphicFramePr/>
          <p:nvPr/>
        </p:nvGraphicFramePr>
        <p:xfrm>
          <a:off x="609480" y="1905120"/>
          <a:ext cx="7925040" cy="4016160"/>
        </p:xfrm>
        <a:graphic>
          <a:graphicData uri="http://schemas.openxmlformats.org/drawingml/2006/table">
            <a:tbl>
              <a:tblPr/>
              <a:tblGrid>
                <a:gridCol w="3538800"/>
                <a:gridCol w="2193840"/>
                <a:gridCol w="21924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algorithm-agility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ogon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arch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0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i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isp</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ghostbuster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7-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iana-object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keyrol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ltamgm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origin-op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31738EE3-D67E-4ABF-9B16-6DCE66E1679F}" type="slidenum">
              <a:t>8</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58" name=""/>
          <p:cNvGraphicFramePr/>
          <p:nvPr/>
        </p:nvGraphicFramePr>
        <p:xfrm>
          <a:off x="609480" y="1967040"/>
          <a:ext cx="7473960" cy="4019400"/>
        </p:xfrm>
        <a:graphic>
          <a:graphicData uri="http://schemas.openxmlformats.org/drawingml/2006/table">
            <a:tbl>
              <a:tblPr/>
              <a:tblGrid>
                <a:gridCol w="3505320"/>
                <a:gridCol w="2209680"/>
                <a:gridCol w="1758960"/>
              </a:tblGrid>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origin-validation-signal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pfx-valid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7-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public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epos-struc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ESG Evaluation::AD Followup</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es-cert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escerts-provision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ESG Evalu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oa-form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oa-validation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CF864C3C-5CFF-44A3-A9B9-6764042D3D26}" type="slidenum">
              <a:t>9</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6:36:17Z</dcterms:created>
  <dc:creator>sandy</dc:creator>
  <dc:description/>
  <dc:language>en-US</dc:language>
  <cp:lastModifiedBy>Sandra Murphy</cp:lastModifiedBy>
  <dcterms:modified xsi:type="dcterms:W3CDTF">2011-07-28T12:31:36Z</dcterms:modified>
  <cp:revision>39</cp:revision>
  <dc:subject/>
  <dc:title>SIDR Working Group</dc:title>
</cp:coreProperties>
</file>