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92459-E15D-4CFF-A20B-8A937F549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DF5FF-95A5-498F-A4C9-C3DE0C33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47F24-0910-4340-B8D3-DA3184090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10B66-9B35-4A2A-829D-B780D0E90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E0BDB-9F1B-49FA-95D1-D02D738E0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3A344-4DE3-4442-8D24-7795A3B00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9D0F2-2D66-4025-9F78-4919C60F6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28FFE-8214-4D22-A8E0-AF7BE4D5A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F7517-0288-4F00-8FF8-78C2B7205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03DEC-56D0-4736-A43C-A3AA72B13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7C631-D0DB-4B77-9D7A-4A194B034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01BAD-23B4-4D68-946D-380CF4DB3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2161E-4AC8-4A36-91A5-7F4D4066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A2091-2A9E-4E96-89B7-85E06A841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FEF96-D705-4CD5-A8DD-4CB578B71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6B1BA-71F2-4886-91C0-3206EAF4E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C751E-FACC-404B-9A27-3EB4BAE41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53D47D-6E05-4D51-AB04-D3E37F1AAF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E63F8-E54F-4B73-8CCF-60FED856C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1ECE0-E6B4-4A59-B069-AD705C998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A9185-85E7-4B0C-B6E2-8AB263C92E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A84E2-0C91-4366-A504-BCAA208C2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0F64-3CCA-4124-9D72-875A5F7A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0841AB-139E-4206-AE48-AE62C433A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DC984-6AF1-4A51-999A-78A096216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310D1-F657-49A4-B125-AA106C938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50D94-BD7F-4975-A7D9-C1496E5D4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84FCF-B39B-4192-9E7B-E08FBD5D0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D1CEED-158B-459A-B10B-899AFBC56E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48E52-56DA-4816-A875-4C8DCF8A6E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58379-E540-440F-BF40-8372C136CD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AB2985-795B-4F76-9838-365EEF739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17F8E-9A07-44B5-95AC-C0DC5141C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DAAA3-AF32-4AAF-B5D8-D1A8226F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FC273-2780-4835-9280-8AC48F309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A1FB4-66DA-4CE8-A752-0D14171160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F6F45-F45A-4D2C-AE62-77976DE9A1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0FF05-4B77-4F06-A18D-0B5DFE631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57590-F921-4DBB-A1D6-F39A6920A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4CCF1-4215-42C3-8DE6-D2FA1C171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70196-9B8F-479B-9A85-91418182C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2FC141-63E1-46D8-BBD8-47CBCACB9F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E3FAF1-7525-448A-B001-52526577C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FC1F47-B260-4205-B98E-C3108D6441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6611-0D80-4168-A84D-F851FB1F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97142D-18A6-4521-9816-5AAF7EAF4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51A515-A9EA-434F-A245-AB7D47C902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7CE91-DD98-4E09-93E7-750C47CF8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2A67B-41A2-461C-9CFE-702CFB4B6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0B6E5A-DA02-4952-8022-A9121B49D5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A8A3F-9079-4AF9-B117-EDF4CF5F1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BE1CC-F188-4AA1-BC4A-370015B67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6BF0E-0B1E-4E1E-B9C2-9C0A01C65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EB014-4AB5-4A65-8C5A-1F027BB81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DE6036-4719-4051-955C-A4BDE2B701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1E3E4-91E6-4FA0-8453-44461D81A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5213CC-42C8-4FEC-AE2D-3FE79AC635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91F5BC-57ED-4C01-8345-CEFCE7D797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00BA75-8E86-4FC8-8584-249F657B4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31507B-28DF-463C-BFD9-EA4205E7B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628460-1AB9-439A-82BC-A1279D02AF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8FF62-3328-4DE2-B754-4F7C8B255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36BA04-591F-4991-ABDA-CB20E2941B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EF535-E810-4048-BA42-631A70588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69CC6-8226-42EA-B7B8-73ADC683A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DE796-38A6-4021-A687-BFF81233D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4202-EE94-473E-A383-547334688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9561A-2351-41EC-92F0-8CE1C973F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206C05-3EFE-4703-8933-93895657E8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48C56C-6114-426F-B0D4-D76D9551A4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7FB8D7-CF96-459A-9160-1DD559410C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39F4C-1630-4599-BC79-C600412EC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106848-098A-4696-9E39-5FD30EC6A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FD0B3B-A13C-427F-804A-7D0AC6124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8ACCD-7737-4B4D-99C9-BF1C88B5C0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77795-AD0D-44CD-A12C-D98D41B4C1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EFBFE-2E3E-44B8-9D51-057F4DCC03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EFA4-7512-4C72-848B-634314E1D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7F9D9-A741-4AF1-AFEC-4324A30C6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99CC2-B73C-4C49-9620-C7744E3F2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D5D13-71A6-47FD-B59D-4525BC1EE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A100D-5813-4C73-9FCE-4784064D9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3DE2DF-C22E-453D-A435-4EE526AFFE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31E4D7-05E3-4D4A-82CD-26B3003FFF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83E2CA-A437-4A23-BB1C-34B033CC6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852194-53E8-4AC6-8853-22721FB904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D6002F-BD8C-4759-A243-CBBE8412FC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53C19-C5E1-4EB0-8F02-6DA8D61909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A0ABF-9E8D-421B-9804-3669D5A3A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87DEB-C091-46BD-9A84-54266906B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1981E-2737-489F-85DF-5FFE68BD5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7AF44-5F17-4280-9ED6-81DF8EDB8F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6547C-A013-4B41-8B84-DABD4E0B1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7234D-E5EE-48B9-85DB-22934099FE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8AE1B7-F57A-4292-AC11-97FCE356B1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64308B-5C7E-4D12-809D-63C7B37B2C0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A8BD-881A-45B0-8681-07F40B4D85A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464A-2E45-4E0C-94C4-9EB019013C0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1399-363C-4F52-93E6-AC63113F353B}"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22B6-C6C7-4852-935D-CC5270B7FCC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EC2C-2AC0-4FDA-8802-D522427F10D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80A3-17B9-4010-9EBA-6C4A94496EF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BFE0-5B65-4D6E-94C4-BF286FD1443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AE1B-2E74-413B-9B15-D8639142C3E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Real-time Transport Protocol (RTP) Recommendations for SIPREC</a:t>
            </a:r>
            <a:br>
              <a:rPr sz="2800"/>
            </a:br>
            <a:r>
              <a:rPr b="0" lang="en-US" sz="2800" spc="-1" strike="noStrike">
                <a:solidFill>
                  <a:srgbClr val="000000"/>
                </a:solidFill>
                <a:latin typeface="Bookman Old Style"/>
              </a:rPr>
              <a:t>                     </a:t>
            </a:r>
            <a:br>
              <a:rPr sz="2800"/>
            </a:br>
            <a:r>
              <a:rPr b="0" lang="en-US" sz="2800" spc="-1" strike="noStrike">
                <a:solidFill>
                  <a:srgbClr val="000000"/>
                </a:solidFill>
                <a:latin typeface="Bookman Old Style"/>
              </a:rPr>
              <a:t>(draft-eckel-siprec-rtp-rec-01)</a:t>
            </a:r>
            <a:endParaRPr b="0" lang="en-US" sz="2800" spc="-1" strike="noStrike">
              <a:solidFill>
                <a:srgbClr val="464653"/>
              </a:solidFill>
              <a:latin typeface="Bookman Old Style"/>
            </a:endParaRPr>
          </a:p>
        </p:txBody>
      </p:sp>
      <p:sp>
        <p:nvSpPr>
          <p:cNvPr id="353"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eckelcu@cisco.com)</a:t>
            </a:r>
            <a:endParaRPr b="0" lang="en-US" sz="2000" spc="-1" strike="noStrike">
              <a:solidFill>
                <a:srgbClr val="000000"/>
              </a:solidFill>
              <a:latin typeface="Gill Sans MT"/>
            </a:endParaRPr>
          </a:p>
        </p:txBody>
      </p:sp>
      <p:sp>
        <p:nvSpPr>
          <p:cNvPr id="354"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ETF-81, Quebec City, July  25-29,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6: Symmetric RTP/RTCP</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 </a:t>
            </a:r>
            <a:r>
              <a:rPr b="0" lang="en-US" sz="2600" spc="-1" strike="noStrike">
                <a:solidFill>
                  <a:srgbClr val="00b050"/>
                </a:solidFill>
                <a:latin typeface="Gill Sans MT"/>
              </a:rPr>
              <a:t>Proposed solution: Reword as follows:</a:t>
            </a:r>
            <a:endParaRPr b="0" lang="en-US" sz="2600" spc="-1" strike="noStrike">
              <a:solidFill>
                <a:srgbClr val="000000"/>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Within an SDP offer/answer exchange, RTP entities choose the RTP and RTCP transport addresses (i.e., IP addresses and port numbers) on which to receive packets.  When sending packets, the RTP entities may use the same source port or a different source port as those signaled for receiving packets. </a:t>
            </a:r>
            <a:endParaRPr b="0" lang="en-US" sz="2600" spc="-1" strike="noStrike">
              <a:solidFill>
                <a:srgbClr val="464653"/>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When the transport address used to send and receive RTP is the same, it is termed "symmetric RTP" [RFC4961]. </a:t>
            </a:r>
            <a:endParaRPr b="0" lang="en-US" sz="2600" spc="-1" strike="noStrike">
              <a:solidFill>
                <a:srgbClr val="464653"/>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Likewise, when the transport address used to send and receive RTCP is the same, it is termed "symmetric RTCP" [RFC4961].</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6: Symmetric RTP/RTCP (cont)</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 </a:t>
            </a:r>
            <a:r>
              <a:rPr b="0" lang="en-US" sz="2600" spc="-1" strike="noStrike">
                <a:solidFill>
                  <a:srgbClr val="00b050"/>
                </a:solidFill>
                <a:latin typeface="Gill Sans MT"/>
              </a:rPr>
              <a:t>Proposed solution: (cont)</a:t>
            </a:r>
            <a:endParaRPr b="0" lang="en-US" sz="26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When sending RTP, it is REQUIRED to use symmetric RTP.  When sending RTCP, it is REQUIRED to use symmetric RTCP.  Although an SRS will not normally send RTP to an SRC, it will send RTCP as well as receive RTP and RTCP.  Likewise, although an SRC will not normally receive RTP from an SRS, it will receive RTCP as well as send RTP and RTCP.</a:t>
            </a:r>
            <a:endParaRPr b="0" lang="en-US" sz="2600" spc="-1" strike="noStrike">
              <a:solidFill>
                <a:srgbClr val="464653"/>
              </a:solidFill>
              <a:latin typeface="Gill Sans MT"/>
            </a:endParaRPr>
          </a:p>
          <a:p>
            <a:pPr lvl="2" marL="7891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7891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Note: Symmetric RTP and symmetric RTCP are different from RTP/RTCP multiplexing [RFC5761].</a:t>
            </a:r>
            <a:endParaRPr b="0" lang="en-US" sz="26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ank You</a:t>
            </a:r>
            <a:endParaRPr b="0" lang="en-US" sz="2800" spc="-1" strike="noStrike">
              <a:solidFill>
                <a:srgbClr val="464653"/>
              </a:solidFill>
              <a:latin typeface="Bookman Old Style"/>
            </a:endParaRPr>
          </a:p>
        </p:txBody>
      </p:sp>
      <p:sp>
        <p:nvSpPr>
          <p:cNvPr id="376"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eckelcu@cisco.com)</a:t>
            </a:r>
            <a:endParaRPr b="0" lang="en-US" sz="2000" spc="-1" strike="noStrike">
              <a:solidFill>
                <a:srgbClr val="000000"/>
              </a:solidFill>
              <a:latin typeface="Gill Sans MT"/>
            </a:endParaRPr>
          </a:p>
        </p:txBody>
      </p:sp>
      <p:sp>
        <p:nvSpPr>
          <p:cNvPr id="377"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ETF-81, Quebec City, July  25-29,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Purpose</a:t>
            </a:r>
            <a:endParaRPr b="0" lang="en-US" sz="3200" spc="-1" strike="noStrike">
              <a:solidFill>
                <a:srgbClr val="464653"/>
              </a:solidFill>
              <a:latin typeface="Bookman Old Style"/>
            </a:endParaRPr>
          </a:p>
        </p:txBody>
      </p:sp>
      <p:sp>
        <p:nvSpPr>
          <p:cNvPr id="35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vides recommendations and guidelines for RTP and RTCP in the context of SIPREC. </a:t>
            </a:r>
            <a:endParaRPr b="0" lang="en-US" sz="2600" spc="-1" strike="noStrike">
              <a:solidFill>
                <a:srgbClr val="000000"/>
              </a:solidFill>
              <a:latin typeface="Gill Sans MT"/>
            </a:endParaRPr>
          </a:p>
          <a:p>
            <a:pPr lvl="1" marL="5310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Gill Sans MT"/>
              </a:rPr>
              <a:t>In order to communicate most effectively, the Session Recording Client (SRC) and the Session Recording (SRS) SHOULD utilize the mechanisms provided by RTP in a well defined and predicable manner. It is the goal of this document to make the reader aware of these mechanisms and provide recommendations and guidelines.</a:t>
            </a:r>
            <a:endParaRPr b="0" lang="en-US" sz="23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ists as a standalone document to facilitate discussion of the recommendations</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ticipated that portions of this document will be incorporated into draft-portman-siprec-protocol</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ontents</a:t>
            </a:r>
            <a:endParaRPr b="0" lang="en-US" sz="32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les - SRC acting as an RTP Translator/Mixer/Endpoi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TCP - feedback and Identific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TP Profile – AVP/AVFP, SAVP/SAVP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SRC, CSR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DES and CNAM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epalive – for inactive and recvonly/sendonly strea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TCP Feedback Messages – FIR, PLI, TMMB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ymmetric RTP/RTCP</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1: RFC 2119 Language</a:t>
            </a:r>
            <a:endParaRPr b="0" lang="en-US" sz="3200" spc="-1" strike="noStrike">
              <a:solidFill>
                <a:srgbClr val="464653"/>
              </a:solidFill>
              <a:latin typeface="Bookman Old Style"/>
            </a:endParaRPr>
          </a:p>
        </p:txBody>
      </p:sp>
      <p:sp>
        <p:nvSpPr>
          <p:cNvPr id="36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raft current states:</a:t>
            </a:r>
            <a:endParaRPr b="0" lang="en-US" sz="26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Gill Sans MT"/>
              </a:rPr>
              <a:t>This document is completely informational. It includes no requirements and no normative language.</a:t>
            </a:r>
            <a:endParaRPr b="0" lang="en-US" sz="26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thin the protocol draft, we state requiremen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posed solution:</a:t>
            </a:r>
            <a:endParaRPr b="0" lang="en-US" sz="26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Update entire draft to use RFC 2119 language as deemed appropriate for inclusion within the protocol draft</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2: SRC Positioning</a:t>
            </a:r>
            <a:endParaRPr b="0" lang="en-US" sz="3200" spc="-1" strike="noStrike">
              <a:solidFill>
                <a:srgbClr val="464653"/>
              </a:solidFill>
              <a:latin typeface="Bookman Old Style"/>
            </a:endParaRPr>
          </a:p>
        </p:txBody>
      </p:sp>
      <p:sp>
        <p:nvSpPr>
          <p:cNvPr id="362" name=""/>
          <p:cNvSpPr txBox="1"/>
          <p:nvPr/>
        </p:nvSpPr>
        <p:spPr>
          <a:xfrm>
            <a:off x="457200" y="1219320"/>
            <a:ext cx="8229600" cy="5333760"/>
          </a:xfrm>
          <a:prstGeom prst="rect">
            <a:avLst/>
          </a:prstGeom>
          <a:noFill/>
          <a:ln w="0">
            <a:noFill/>
          </a:ln>
        </p:spPr>
        <p:txBody>
          <a:bodyPr anchor="t">
            <a:normAutofit fontScale="98000"/>
          </a:bodyPr>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UA &lt;-- CS --&gt; SRC &lt;-- RS --&gt; SRS </a:t>
            </a:r>
            <a:endParaRPr b="0" lang="en-US" sz="2000" spc="-1" strike="noStrike">
              <a:solidFill>
                <a:srgbClr val="000000"/>
              </a:solidFill>
              <a:latin typeface="Gill Sans MT"/>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Figure 1: UA as SRC</a:t>
            </a:r>
            <a:endParaRPr b="0" lang="en-US" sz="20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gure was subject to multiple comments/clarifications. Propose adding:</a:t>
            </a:r>
            <a:endParaRPr b="0" lang="en-US" sz="26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SRS</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RS</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v</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UA &lt;-- CS1 --&gt; SRC &lt;-- CS2 --&gt; UA2 </a:t>
            </a:r>
            <a:endParaRPr b="0" lang="en-US" sz="2000" spc="-1" strike="noStrike">
              <a:solidFill>
                <a:srgbClr val="000000"/>
              </a:solidFill>
              <a:latin typeface="Gill Sans MT"/>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Figure 2: B2BUA as SRC</a:t>
            </a:r>
            <a:endParaRPr b="0" lang="en-US" sz="20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y reuse artwork from draft-ietf-siprec-architecture-02</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3:</a:t>
            </a:r>
            <a:br>
              <a:rPr sz="3200"/>
            </a:br>
            <a:r>
              <a:rPr b="0" lang="en-US" sz="3200" spc="-1" strike="noStrike">
                <a:solidFill>
                  <a:srgbClr val="000000"/>
                </a:solidFill>
                <a:latin typeface="Bookman Old Style"/>
              </a:rPr>
              <a:t>Roles – Translator/Mixer/Endpoi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ny comments/questions on this section</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ot just one two of translator</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ranslator/Mixer start to blur</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ny options for handling of RTCP</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Options:</a:t>
            </a:r>
            <a:endParaRPr b="0" lang="en-US" sz="2600" spc="-1" strike="noStrike">
              <a:solidFill>
                <a:srgbClr val="000000"/>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remove entirely and provide general RTP/RTCP handling requirements and recommendations</a:t>
            </a:r>
            <a:endParaRPr b="0" lang="en-US" sz="26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subdivide translator into two (forwarder and translator)</a:t>
            </a:r>
            <a:endParaRPr b="0" lang="en-US" sz="26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recommend a particular model and describe that only</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4:</a:t>
            </a:r>
            <a:br>
              <a:rPr sz="3200"/>
            </a:br>
            <a:r>
              <a:rPr b="0" lang="en-US" sz="3200" spc="-1" strike="noStrike">
                <a:solidFill>
                  <a:srgbClr val="000000"/>
                </a:solidFill>
                <a:latin typeface="Bookman Old Style"/>
              </a:rPr>
              <a:t>Single vs. Multiple SDES Packet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ill Sans MT"/>
              </a:rPr>
              <a:t> </a:t>
            </a:r>
            <a:r>
              <a:rPr b="0" i="1" lang="en-US" sz="2600" spc="-1" strike="noStrike">
                <a:solidFill>
                  <a:srgbClr val="000000"/>
                </a:solidFill>
                <a:latin typeface="Gill Sans MT"/>
              </a:rPr>
              <a:t>The Source Description (SDES), as defined in [RFC3550], contains an SSRC/CSRC identifier followed by a list of zero or more items, which carry information about the SSRC/CSRC.  End systems send one SDES packet containing their own source identifier (the same as the SSRC in the fixed RTP header).  </a:t>
            </a:r>
            <a:r>
              <a:rPr b="0" i="1" lang="en-US" sz="2600" spc="-1" strike="noStrike">
                <a:solidFill>
                  <a:srgbClr val="ff0000"/>
                </a:solidFill>
                <a:latin typeface="Gill Sans MT"/>
              </a:rPr>
              <a:t>A mixer sends one SDES packet containing a chunk for each contributing source from which it is receiving SDES information, or multiple complete SDES packets</a:t>
            </a:r>
            <a:r>
              <a:rPr b="0" i="1" lang="en-US" sz="2600" spc="-1" strike="noStrike">
                <a:solidFill>
                  <a:srgbClr val="000000"/>
                </a:solidFill>
                <a:latin typeface="Gill Sans MT"/>
              </a:rPr>
              <a:t>.</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Proposed Solution: </a:t>
            </a:r>
            <a:endParaRPr b="0" lang="en-US" sz="26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Add - </a:t>
            </a:r>
            <a:r>
              <a:rPr b="0" i="1" lang="en-US" sz="2600" spc="-1" strike="noStrike">
                <a:solidFill>
                  <a:srgbClr val="00b050"/>
                </a:solidFill>
                <a:latin typeface="Gill Sans MT"/>
              </a:rPr>
              <a:t>... if there are more than 31 such sources.</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5: FIR vs. PLI</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R:  Full Intra Request</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quires the media sender sends a Decoder Refresh Point at the earliest opportunity</a:t>
            </a:r>
            <a:endParaRPr b="0" lang="en-US" sz="2300" spc="-1" strike="noStrike">
              <a:solidFill>
                <a:srgbClr val="464653"/>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LI:  Picture Loss Indication</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nforms the encoder of the loss of an undefined amount of coded video data belonging to one or more pictures</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Y transmit an intra-picture to achieve resynchronization</a:t>
            </a:r>
            <a:endParaRPr b="0" lang="en-US" sz="2300" spc="-1" strike="noStrike">
              <a:solidFill>
                <a:srgbClr val="464653"/>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urrently draft states:</a:t>
            </a:r>
            <a:endParaRPr b="0" lang="en-US" sz="2600" spc="-1" strike="noStrike">
              <a:solidFill>
                <a:srgbClr val="000000"/>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0000"/>
                </a:solidFill>
                <a:latin typeface="Gill Sans MT"/>
              </a:rPr>
              <a:t>Using the FIR command to recover from errors is explicitly disallowed, and instead the PLI message defined in AVPF [RFC4585] should be used.  The PLI message reports lost pictures and has been included in AVPF for precisely that purpose.</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5: FIR vs. PLI (cont)</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FC 5104 state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R SHALL NOT be sent as a reaction to picture losses -- it is RECOMMENDED to use PLI instead.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R SHOULD be used only in situations where not sending a decoder refresh point would render the video unusable for the user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 where sending FIR is appropriate:</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ultipoint conference, a new user joins the session and no regular decoder refresh point interval is established</a:t>
            </a: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video switching MCU that changes streams</a:t>
            </a:r>
            <a:endParaRPr b="0" lang="en-US" sz="23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Proposed Solution:  Add this clarification to draf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1-07-28T17:28:50Z</dcterms:modified>
  <cp:revision>110</cp:revision>
  <dc:subject/>
  <dc:title>Slide 1</dc:title>
</cp:coreProperties>
</file>